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A509-7FD7-425A-AFA6-F9A2EF1D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548-C468-4130-A71B-DDCCC79A8A69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643A-E13C-4C15-A8CB-EE00399A3B9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studfiles.net/preview/2898818/" TargetMode="External"/><Relationship Id="rId3" Type="http://schemas.openxmlformats.org/officeDocument/2006/relationships/hyperlink" Target="https://studfiles.net/preview/2898818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infourok.ru/metodika-razvitiya-skorostnih-sposobnostey-u-detey-doshkolnogo-vozrosta-3293207.html" TargetMode="External"/><Relationship Id="rId2" Type="http://schemas.openxmlformats.org/officeDocument/2006/relationships/hyperlink" Target="https://infourok.ru/metodika-razvitiya-skorostnih-sposobnostey-u-detey-doshkolnogo-vozrosta-3293207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maam.ru/detskijsad/vystuplenie-na-pedsovete-igry-yestafety-ih-znachenie-v-fk-znachenie-igr-yestafet-v-fizicheskom-vospitani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eiryo U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eiryo UI"/>
              </a:rPr>
              <a:t>Муниципальное  бюджетное дошкольное образовательное учреждение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eiryo UI"/>
              </a:rPr>
              <a:t>                                             детский сад №7 г. Североморска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46" name="Rectangle 5" descr=""/>
          <p:cNvPicPr/>
          <p:nvPr/>
        </p:nvPicPr>
        <p:blipFill>
          <a:blip r:embed="rId1"/>
          <a:stretch/>
        </p:blipFill>
        <p:spPr>
          <a:xfrm>
            <a:off x="79200" y="1474920"/>
            <a:ext cx="8839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81080" y="304560"/>
            <a:ext cx="69343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овые ка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– это способность человека преодолевать внешнее сопротивление или противодействовать ему посредством мышечных усилий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ные ка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– это способность человека совершать двигательные действия в минимальный промежуток времени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но-силовые ка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– это способность человека к проявлению предельно возможных усилий в кратчайший промежуток времени при сохранении оптимальной амплитуды движений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bf07"/>
                </a:solidFill>
                <a:uFillTx/>
                <a:latin typeface="Microsoft Sans Serif"/>
                <a:ea typeface="Calibri"/>
                <a:hlinkClick r:id="rId2"/>
              </a:rPr>
              <a:t>(</a:t>
            </a:r>
            <a:r>
              <a:rPr b="0" lang="en-US" sz="1200" spc="-1" strike="noStrike" u="sng">
                <a:solidFill>
                  <a:srgbClr val="ffbf07"/>
                </a:solidFill>
                <a:uFillTx/>
                <a:latin typeface="Microsoft Sans Serif"/>
                <a:ea typeface="Calibri"/>
                <a:hlinkClick r:id="rId3"/>
              </a:rPr>
              <a:t>https://studfiles.net/preview/2898818/</a:t>
            </a:r>
            <a:r>
              <a:rPr b="0" lang="ru-RU" sz="1200" spc="-1" strike="noStrike">
                <a:solidFill>
                  <a:srgbClr val="1e1e20"/>
                </a:solidFill>
                <a:latin typeface="Microsoft Sans Serif"/>
                <a:ea typeface="Calibri"/>
              </a:rPr>
              <a:t> </a:t>
            </a:r>
            <a:r>
              <a:rPr b="0" lang="ru-RU" sz="1200" spc="-1" strike="noStrike">
                <a:solidFill>
                  <a:srgbClr val="1e1e20"/>
                </a:solidFill>
                <a:latin typeface="Arial"/>
                <a:ea typeface="Calibri"/>
              </a:rPr>
              <a:t>Преподаватель: к.п.н. Медведев Владимир Геннадьевич)</a:t>
            </a:r>
            <a:endParaRPr b="0" lang="en-US" sz="1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a0016"/>
                </a:solidFill>
                <a:latin typeface="Times New Roman"/>
                <a:ea typeface="Times New Roman"/>
              </a:rPr>
              <a:t>Методы скоростной выносливости: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1430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-повторный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-интервальный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-соревновательный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(</a:t>
            </a:r>
            <a:r>
              <a:rPr b="1" i="1" lang="en-US" sz="1400" spc="-1" strike="noStrike" u="sng">
                <a:solidFill>
                  <a:srgbClr val="ffbf07"/>
                </a:solidFill>
                <a:uFillTx/>
                <a:latin typeface="Times New Roman"/>
                <a:ea typeface="Times New Roman"/>
                <a:hlinkClick r:id="rId1"/>
              </a:rPr>
              <a:t>https://</a:t>
            </a:r>
            <a:r>
              <a:rPr b="1" i="1" lang="en-US" sz="1400" spc="-1" strike="noStrike" u="sng">
                <a:solidFill>
                  <a:srgbClr val="ffbf07"/>
                </a:solidFill>
                <a:uFillTx/>
                <a:latin typeface="Times New Roman"/>
                <a:ea typeface="Times New Roman"/>
                <a:hlinkClick r:id="rId2"/>
              </a:rPr>
              <a:t>infourok.ru/metodika-razvitiya-skorostnih-sposobnostey-u-detey-doshkolnogo-vozrosta-3293207.html</a:t>
            </a:r>
            <a:r>
              <a:rPr b="0" lang="ru-RU" sz="1400" spc="-1" strike="noStrike">
                <a:solidFill>
                  <a:srgbClr val="808080"/>
                </a:solidFill>
                <a:latin typeface="Microsoft Sans Serif"/>
              </a:rPr>
              <a:t>  )</a:t>
            </a:r>
            <a:endParaRPr b="0" lang="en-US" sz="1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38052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Классификация эстафет</a:t>
            </a:r>
            <a:r>
              <a:rPr b="0" lang="ru-RU" sz="36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a000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По количеству включаемых заданий -</a:t>
            </a:r>
            <a:r>
              <a:rPr b="1" i="1" lang="ru-RU" sz="32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на </a:t>
            </a:r>
            <a:r>
              <a:rPr b="1" i="1" lang="ru-RU" sz="28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простые и сложные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a000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По требованиям к выполнению задания - </a:t>
            </a:r>
            <a:r>
              <a:rPr b="1" i="1" lang="ru-RU" sz="28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на строго регламентированные и произвольные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a000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По характеру перемещений - </a:t>
            </a:r>
            <a:r>
              <a:rPr b="1" i="1" lang="ru-RU" sz="28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линейные, круговые, встречные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a000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По способу действий участников - </a:t>
            </a:r>
            <a:r>
              <a:rPr b="1" i="1" lang="ru-RU" sz="28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на индивидуальные и </a:t>
            </a:r>
            <a:r>
              <a:rPr b="1" i="1" lang="ru-RU" sz="3200" spc="-1" strike="noStrike">
                <a:solidFill>
                  <a:srgbClr val="2a0009"/>
                </a:solidFill>
                <a:latin typeface="Times New Roman"/>
                <a:ea typeface="Times New Roman"/>
              </a:rPr>
              <a:t>коллективные (совместные).   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bf07"/>
                </a:solidFill>
                <a:uFillTx/>
                <a:latin typeface="Times New Roman"/>
                <a:ea typeface="Times New Roman"/>
                <a:hlinkClick r:id="rId1"/>
              </a:rPr>
              <a:t>(</a:t>
            </a:r>
            <a:r>
              <a:rPr b="0" lang="en-US" sz="14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https://www.maam.ru/detskijsad/vystuplenie-na-pedsovete-igry-yestafety-ih-znachenie-v-fk-znachenie-igr-yestafet-v-fizicheskom-vospitani.html</a:t>
            </a:r>
            <a:r>
              <a:rPr b="0" lang="ru-RU" sz="14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111111"/>
                </a:solidFill>
                <a:latin typeface="Arial"/>
              </a:rPr>
              <a:t>Светлана Мальцева)</a:t>
            </a:r>
            <a:endParaRPr b="0" lang="en-US" sz="1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0016"/>
                </a:solidFill>
                <a:latin typeface="Times New Roman"/>
                <a:ea typeface="Times New Roman"/>
              </a:rPr>
              <a:t>Виды движений и их сочетания  в играх эстафетах: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685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с метанием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с подлезанием под различные снаряды и с перелезанием через препятствия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с впрыгиванием на/в предметы и спрыгиванием или перепрыгиванием препятствий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с сохранением равновесия на различных снарядах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с переноской мячей, обручей и других предметов в сочетании с дополнительными движениями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с ведением мяча одной рукой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с ползанием и лазанием по гимнастическим снарядам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со змейкой между предметами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ьба с перешагиванием предметов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вижение различными способами по полу и спортивным снарядам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88000" indent="-288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808080"/>
                </a:solidFill>
                <a:latin typeface="Microsoft Sans Serif"/>
              </a:rPr>
              <a:t>https://mylektsii.ru/14-8988.html</a:t>
            </a:r>
            <a:r>
              <a:rPr b="0" lang="ru-RU" sz="1400" spc="-1" strike="noStrike">
                <a:solidFill>
                  <a:srgbClr val="808080"/>
                </a:solidFill>
                <a:latin typeface="Microsoft Sans Serif"/>
              </a:rPr>
              <a:t>)</a:t>
            </a:r>
            <a:endParaRPr b="0" lang="en-US" sz="1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9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Эстафеты. 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58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. «Перетягивание каната»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58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2. «Бег пингвинов»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58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3. «На болоте»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58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4. «Гонка мячей»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58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5. «Паучки»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58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6. «Нарисуй солнышко»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5880">
              <a:lnSpc>
                <a:spcPct val="10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4" name="Picture 6" descr="https://st2.depositphotos.com/2224394/7634/i/950/depositphotos_76344473-stock-photo-group-of-children-playing-rope.jpg"/>
          <p:cNvPicPr/>
          <p:nvPr/>
        </p:nvPicPr>
        <p:blipFill>
          <a:blip r:embed="rId1"/>
          <a:stretch/>
        </p:blipFill>
        <p:spPr>
          <a:xfrm>
            <a:off x="4419720" y="1981080"/>
            <a:ext cx="4313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4560" y="3049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Использование игр-эстафет позволяет: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-разнообразить содержание занятий физической культуры;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-обеспечить оздоровительный эффект: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улучшить физическое развитие, устойчивость к заболеваниям,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e20"/>
                </a:solidFill>
                <a:latin typeface="Times New Roman"/>
                <a:ea typeface="Times New Roman"/>
              </a:rPr>
              <a:t>-повысить  уровень двигательной и функциональной подготовленности детей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90920" y="3152880"/>
            <a:ext cx="37922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Ольга</cp:lastModifiedBy>
  <dcterms:modified xsi:type="dcterms:W3CDTF">2019-09-30T11:00:32Z</dcterms:modified>
  <cp:revision>172</cp:revision>
  <dc:subject/>
  <dc:title>Name of presentation</dc:title>
</cp:coreProperties>
</file>