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5A5-E180-44AF-B051-9B52A326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99B-4452-4CAA-8EAC-92AD5818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754-7988-4C86-B8C7-CFEBF366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A9C-EDF1-4BF8-BF2B-E8C4FA2A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78C9-3C95-4F07-8203-98A703BD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A03C-C5EB-4FAD-95DA-4CF66CB0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1656-24C8-4BD7-95E5-7B818913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A876-E7B1-44BE-98AB-CB2CA696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20ED-2E75-47F0-B370-4FF04249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A487-0CC1-46D9-88C2-3C09F500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ADB9-DF44-4427-BB77-8B4137F3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F50-AC6F-4A38-B61C-E5119ECC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8005-A2CA-4C17-852C-ACA0A6FF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A668-3280-4807-BB84-F476A3B9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2AFC-84B4-41FE-8AFE-99B2142E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EAB2-7933-40AA-A07A-6F032C96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CE3D-A301-4EBB-B146-E623F87C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0A0-6068-4128-BCAA-2C7CE99F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FCA-89B8-4203-B7F8-1087C60A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9CE-8F71-4EC6-8D6F-A13CCA87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B70-304C-4BBA-888C-8BE8A564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5EC-E8C2-488B-B586-0772376E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D4B-0313-4B82-BC2C-1779C92B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8B0-23BB-41F2-B7B3-A58BE419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0926-0A3E-4092-BB59-4A6328FD4E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26EC-77D9-4948-8928-184D9FF270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iles.mail.ru/38B9F455864B4CFE9BC3ED39797EAAC1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0" descr="1-4-1 Критская"/>
          <p:cNvPicPr/>
          <p:nvPr/>
        </p:nvPicPr>
        <p:blipFill>
          <a:blip r:embed="rId1"/>
          <a:stretch/>
        </p:blipFill>
        <p:spPr>
          <a:xfrm>
            <a:off x="0" y="0"/>
            <a:ext cx="922644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слон"/>
          <p:cNvPicPr/>
          <p:nvPr/>
        </p:nvPicPr>
        <p:blipFill>
          <a:blip r:embed="rId1"/>
          <a:stretch/>
        </p:blipFill>
        <p:spPr>
          <a:xfrm>
            <a:off x="0" y="228600"/>
            <a:ext cx="3281400" cy="5105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слон"/>
          <p:cNvPicPr/>
          <p:nvPr/>
        </p:nvPicPr>
        <p:blipFill>
          <a:blip r:embed="rId2"/>
          <a:stretch/>
        </p:blipFill>
        <p:spPr>
          <a:xfrm>
            <a:off x="3124080" y="0"/>
            <a:ext cx="2694240" cy="4191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слон"/>
          <p:cNvPicPr/>
          <p:nvPr/>
        </p:nvPicPr>
        <p:blipFill>
          <a:blip r:embed="rId3"/>
          <a:stretch/>
        </p:blipFill>
        <p:spPr>
          <a:xfrm>
            <a:off x="6095880" y="0"/>
            <a:ext cx="2400480" cy="37339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1143000" y="4724280"/>
            <a:ext cx="83818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зыка взлетела, топ-топ-топ-топ вле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зыка взлетела, топ-топ-топ-топ впра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зыка взлетела вправо, влево, вправ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 кричу им : «Браво!!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05920" cy="597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каком характере звучит музыка?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Что она напоминает – песню, танец или марш?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Чьё выступление на цирковой арене может сопровождать эта музыка?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23 - Д. Кабалевский. Клоуны..mp3" descr=""/>
          <p:cNvPicPr/>
          <p:nvPr/>
        </p:nvPicPr>
        <p:blipFill>
          <a:blip r:embed="rId1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3949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цирк 2"/>
          <p:cNvPicPr/>
          <p:nvPr/>
        </p:nvPicPr>
        <p:blipFill>
          <a:blip r:embed="rId1"/>
          <a:stretch/>
        </p:blipFill>
        <p:spPr>
          <a:xfrm>
            <a:off x="2133720" y="152280"/>
            <a:ext cx="52228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цирк 2"/>
          <p:cNvPicPr/>
          <p:nvPr/>
        </p:nvPicPr>
        <p:blipFill>
          <a:blip r:embed="rId1"/>
          <a:stretch/>
        </p:blipFill>
        <p:spPr>
          <a:xfrm>
            <a:off x="2133720" y="152280"/>
            <a:ext cx="52228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Видео- и аудиофайлы к данной презентации можно скачать здесь: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files.mail.ru/38B9F455864B4CFE9BC3ED39797EAAC1</a:t>
            </a: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цирк 1"/>
          <p:cNvPicPr/>
          <p:nvPr/>
        </p:nvPicPr>
        <p:blipFill>
          <a:blip r:embed="rId1"/>
          <a:stretch/>
        </p:blipFill>
        <p:spPr>
          <a:xfrm>
            <a:off x="2286000" y="0"/>
            <a:ext cx="48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цирк 7"/>
          <p:cNvPicPr/>
          <p:nvPr/>
        </p:nvPicPr>
        <p:blipFill>
          <a:blip r:embed="rId1"/>
          <a:stretch/>
        </p:blipFill>
        <p:spPr>
          <a:xfrm>
            <a:off x="762120" y="219240"/>
            <a:ext cx="77724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algn="ctr">
              <a:buClr>
                <a:srgbClr val="cce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ожно ли представить спектакль в цирке без музыки?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-В какие моменты в цирке звучит музыка?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-Какая музыка украшает цирковое представление?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22 - И. Дунаевский. Выходной марш..mp3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7"/>
          <p:cNvSpPr/>
          <p:nvPr/>
        </p:nvSpPr>
        <p:spPr>
          <a:xfrm>
            <a:off x="3733920" y="3048120"/>
            <a:ext cx="510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e1ff"/>
                </a:solidFill>
                <a:latin typeface="Arial"/>
              </a:rPr>
              <a:t>Музыку композитора Исаака Осиповича Дунаевского знают не только в нашей стране, но и за рубежом. Под звуки этого марша на сцену выходят все цирковые артисты, участвующие в представл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3287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129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05920" cy="597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- А как звучит эта музыка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- Что она рисует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- Какое настроение возникает у слушателей-зрителей, наблюдающих этот цирковой номер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18. 102 ЦИРКОВЫЕ ЛОШАДКИ, М.Карасев.mp3" descr=""/>
          <p:cNvPicPr/>
          <p:nvPr/>
        </p:nvPicPr>
        <p:blipFill>
          <a:blip r:embed="rId1"/>
          <a:stretch/>
        </p:blipFill>
        <p:spPr>
          <a:xfrm>
            <a:off x="7621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5522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танец лошадей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380880" y="22860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25. 25 ЧТО ХОЧЕТСЯ ЛОШАДКЕ Г.Пятигорский.mp3" descr=""/>
          <p:cNvPicPr/>
          <p:nvPr/>
        </p:nvPicPr>
        <p:blipFill>
          <a:blip r:embed="rId1"/>
          <a:stretch/>
        </p:blipFill>
        <p:spPr>
          <a:xfrm>
            <a:off x="60948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4114800" y="2362320"/>
            <a:ext cx="50292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чень хочется лошад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рт слоеный на обед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а ужин сладкий-слад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пирожных винегр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457200"/>
            <a:ext cx="5562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чень хочется лошадк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место сена и тра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ъесть на завтрак шоколад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и чуточку хал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990720" y="4416480"/>
            <a:ext cx="51051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райнем случае печень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ть кусочек откуси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не знает, к сожалень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об этом попроси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9302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слон"/>
          <p:cNvPicPr/>
          <p:nvPr/>
        </p:nvPicPr>
        <p:blipFill>
          <a:blip r:embed="rId1"/>
          <a:stretch/>
        </p:blipFill>
        <p:spPr>
          <a:xfrm>
            <a:off x="228600" y="380880"/>
            <a:ext cx="4016520" cy="62485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3581280" y="152280"/>
            <a:ext cx="52578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то сказал, что неуклюжи добрые слон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едь они людей не хуж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анцевать должны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смотритесь, присмотритесь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ак танцует слон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аучитесь, научитесь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вигаться как он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узыка взлетела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оп-топ-топ-топ влев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узыка взлетел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оп-топ-топ-топ вправ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узыка  взлетел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право, влево, вправо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Я кричу им : «Браво!!!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Добрые слоны - Детский ансамбль Задумка.mp3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слон"/>
          <p:cNvPicPr/>
          <p:nvPr/>
        </p:nvPicPr>
        <p:blipFill>
          <a:blip r:embed="rId1"/>
          <a:stretch/>
        </p:blipFill>
        <p:spPr>
          <a:xfrm>
            <a:off x="228600" y="380880"/>
            <a:ext cx="4016520" cy="62485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914400" y="304920"/>
            <a:ext cx="8001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аждый слон имеет чуткий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узыкальный слух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н поймет все ваши шутки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 юмору не глух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н поймет добро и ласку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едь слоны умны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 нам пришли они из сказки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обрые слоны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узыка взлетела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оп-топ-топ-топ влев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узыка взлетел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оп-топ-топ-топ вправ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узыка взлетел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право, влево, вправо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Я кричу им : «Браво!!!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5:45:22Z</dcterms:created>
  <dc:creator>Ольга</dc:creator>
  <dc:description/>
  <dc:language>en-US</dc:language>
  <cp:lastModifiedBy>User</cp:lastModifiedBy>
  <dcterms:modified xsi:type="dcterms:W3CDTF">2020-04-11T11:10:0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