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DBC-12DA-4357-8B47-957D01BC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58E-448D-4CDE-AB5B-8C51294A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FEE-872C-4FBD-A10C-57AB5345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279-4483-47A1-B874-6FF6240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7E9-F798-4C95-9FCC-EBAD6059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5AEC-C1A7-43B8-9B4A-594B0CC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D893-69AC-469E-A508-A5F34D3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3B0-E313-4B23-99D0-38F18B3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809A-8FC0-47FB-8719-D9A07C0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6C7-D0A6-490F-8118-7755E32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7C8-3104-4DC7-8A00-268E825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801-1EBE-41AD-9D80-4C89897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C9D-9640-4F2B-940C-BBE9BF9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EABD-F10D-4508-95F8-3C7439F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F79-C45D-4C3E-8B79-14559774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1E0-4A0A-4BCE-BD90-8F0E1192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90E-B0AB-4266-8530-54D8AFCD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11C-4DD4-4C05-A3F9-25ACD2B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2DE-2FE2-44E0-9488-824A9D7D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9DA-4B4D-4D4D-8CAF-7BFF23A0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127-9809-407D-B2A1-6AAE467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A2F-96A5-4870-B11E-242128C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1AD-C974-4C2C-9DF5-E828F34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B26-FCA1-4D8F-B053-B015300F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E15-781E-47F3-933C-5D0629376F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663-D666-41D0-86C8-0D109AB079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mail.ru/38B9F455864B4CFE9BC3ED39797EAAC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1-4-1 Критская"/>
          <p:cNvPicPr/>
          <p:nvPr/>
        </p:nvPicPr>
        <p:blipFill>
          <a:blip r:embed="rId1"/>
          <a:stretch/>
        </p:blipFill>
        <p:spPr>
          <a:xfrm>
            <a:off x="0" y="0"/>
            <a:ext cx="92264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слон"/>
          <p:cNvPicPr/>
          <p:nvPr/>
        </p:nvPicPr>
        <p:blipFill>
          <a:blip r:embed="rId1"/>
          <a:stretch/>
        </p:blipFill>
        <p:spPr>
          <a:xfrm>
            <a:off x="0" y="228600"/>
            <a:ext cx="3281400" cy="5105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слон"/>
          <p:cNvPicPr/>
          <p:nvPr/>
        </p:nvPicPr>
        <p:blipFill>
          <a:blip r:embed="rId2"/>
          <a:stretch/>
        </p:blipFill>
        <p:spPr>
          <a:xfrm>
            <a:off x="3124080" y="0"/>
            <a:ext cx="2694240" cy="419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лон"/>
          <p:cNvPicPr/>
          <p:nvPr/>
        </p:nvPicPr>
        <p:blipFill>
          <a:blip r:embed="rId3"/>
          <a:stretch/>
        </p:blipFill>
        <p:spPr>
          <a:xfrm>
            <a:off x="6095880" y="0"/>
            <a:ext cx="2400480" cy="3733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143000" y="4724280"/>
            <a:ext cx="8381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, топ-топ-топ-топ вл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, топ-топ-топ-топ впра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 вправо, влево, вправ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597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м характере звучит музыка?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Что она напоминает – песню, танец или марш?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Чьё выступление на цирковой арене может сопровождать эта музыка?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23 - Д. Кабалевский. Клоуны..mp3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94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цирк 2"/>
          <p:cNvPicPr/>
          <p:nvPr/>
        </p:nvPicPr>
        <p:blipFill>
          <a:blip r:embed="rId1"/>
          <a:stretch/>
        </p:blipFill>
        <p:spPr>
          <a:xfrm>
            <a:off x="2133720" y="152280"/>
            <a:ext cx="5222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цирк 2"/>
          <p:cNvPicPr/>
          <p:nvPr/>
        </p:nvPicPr>
        <p:blipFill>
          <a:blip r:embed="rId1"/>
          <a:stretch/>
        </p:blipFill>
        <p:spPr>
          <a:xfrm>
            <a:off x="2133720" y="152280"/>
            <a:ext cx="5222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Видео- и аудиофайлы к данной презентации можно скачать здесь: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files.mail.ru/38B9F455864B4CFE9BC3ED39797EAAC1</a:t>
            </a: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цирк 1"/>
          <p:cNvPicPr/>
          <p:nvPr/>
        </p:nvPicPr>
        <p:blipFill>
          <a:blip r:embed="rId1"/>
          <a:stretch/>
        </p:blipFill>
        <p:spPr>
          <a:xfrm>
            <a:off x="2286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цирк 7"/>
          <p:cNvPicPr/>
          <p:nvPr/>
        </p:nvPicPr>
        <p:blipFill>
          <a:blip r:embed="rId1"/>
          <a:stretch/>
        </p:blipFill>
        <p:spPr>
          <a:xfrm>
            <a:off x="762120" y="219240"/>
            <a:ext cx="77724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algn="ctr"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ожно ли представить спектакль в цирке без музыки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-В какие моменты в цирке звучит музыка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-Какая музыка украшает цирковое представление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22 - И. Дунаевский. Выходной марш..mp3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3733920" y="3048120"/>
            <a:ext cx="510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Музыку композитора Исаака Осиповича Дунаевского знают не только в нашей стране, но и за рубежом. Под звуки этого марша на сцену выходят все цирковые артисты, участвующие в представл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328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129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597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А как звучит эта музыка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Что она рисует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Какое настроение возникает у слушателей-зрителей, наблюдающих этот цирковой номер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18. 102 ЦИРКОВЫЕ ЛОШАДКИ, М.Карасев.mp3" descr=""/>
          <p:cNvPicPr/>
          <p:nvPr/>
        </p:nvPicPr>
        <p:blipFill>
          <a:blip r:embed="rId1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52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танец лошадей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80880" y="22860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5. 25 ЧТО ХОЧЕТСЯ ЛОШАДКЕ Г.Пятигорский.mp3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114800" y="2362320"/>
            <a:ext cx="5029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хочется лошад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т слоеный на обе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 ужин сладкий-слад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пирожных винегр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457200"/>
            <a:ext cx="5562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хочется лошад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о сена и тр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ъесть на завтрак шоколад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чуточку хал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990720" y="4416480"/>
            <a:ext cx="5105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райнем случае пече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ь кусочек откуси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е знает, к сожален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об этом попроси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30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слон"/>
          <p:cNvPicPr/>
          <p:nvPr/>
        </p:nvPicPr>
        <p:blipFill>
          <a:blip r:embed="rId1"/>
          <a:stretch/>
        </p:blipFill>
        <p:spPr>
          <a:xfrm>
            <a:off x="228600" y="380880"/>
            <a:ext cx="4016520" cy="6248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581280" y="152280"/>
            <a:ext cx="52578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то сказал, что неуклюжи добрые слон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едь они людей не хуж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анцевать долж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смотритесь, присмотритесь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к танцует слон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учитесь, научитесь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вигаться как он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ле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пра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право, влево, вправо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Добрые слоны - Детский ансамбль Задумка.mp3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слон"/>
          <p:cNvPicPr/>
          <p:nvPr/>
        </p:nvPicPr>
        <p:blipFill>
          <a:blip r:embed="rId1"/>
          <a:stretch/>
        </p:blipFill>
        <p:spPr>
          <a:xfrm>
            <a:off x="228600" y="380880"/>
            <a:ext cx="4016520" cy="6248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914400" y="304920"/>
            <a:ext cx="8001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ждый слон имеет чуткий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льный слух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н поймет все ваши шутк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юмору не глух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н поймет добро и ласк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едь слоны ум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нам пришли они из сказк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брые сло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ле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пра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право, влево, вправо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45:22Z</dcterms:created>
  <dc:creator>Ольга</dc:creator>
  <dc:description/>
  <dc:language>en-US</dc:language>
  <cp:lastModifiedBy>User</cp:lastModifiedBy>
  <dcterms:modified xsi:type="dcterms:W3CDTF">2020-04-11T11:10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