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gif" ContentType="image/gif"/>
  <Override PartName="/ppt/media/image24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234-4E5B-4462-8E78-30986DE1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4BC-6C97-414F-9488-F648DA35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6D5-7E70-4207-AD70-71A2329F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A59-DC86-45EB-9FD1-2DA62209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1C48-5513-4274-B93D-75CBB017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14CC-3D10-4ECF-BB6E-34FA26CE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9794-4773-4D9D-995E-032FB2DF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70AA-6CF3-4D4B-B236-D8BE5343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B1D5-57EE-4068-A4FF-793E15B5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9FB3-53D7-4EDF-9A4A-8657085E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91AF-16D3-4E6C-A555-3AD8F114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AF7-169C-47A4-8AD5-927F386A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0FB4-C398-49EC-BF46-B09B1876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A9B2-BF5F-4582-AC7F-74B63B7B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2535-C2E3-4720-982D-F3DF22B0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CF33-0FEE-48A9-8ADA-DF263F3C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77D3-3FC2-4E71-AEDD-90D6FD5F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4BE-F963-4097-BE0E-E6E69AD8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A0E-6769-4ADB-B4A2-7170DD83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229-7B52-467E-91C4-BB53824D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F99-25AF-4804-9809-9A285BF3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602-5CAE-493C-89DC-2E198ED0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8A2-8772-4DE5-959F-04402D05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6D7-3958-49FF-843A-7AF5073F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B2C3-30D8-4CD6-952B-387E4770B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d4a4b54241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7CBC-3DA0-443C-9C8F-12F9A1EC3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s.123rf.com/400wm/400/400/lenm/lenm1008/lenm100800171/7615543-children-playing-with-musical-instruments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shutterstock.com/display_pic_with_logo/437/437,1234276936,17/stock-vector-musical-kids-vector-24855205.jpg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static4.depositphotos.com/1007989/275/v/950/depositphotos_2755112-Musical.jpg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apt-italia.org/images_subpages/conductor.jpg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2060"/>
                </a:solidFill>
                <a:latin typeface="Georgia"/>
              </a:rPr>
              <a:t>Музыкально-дидактические игр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«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Разукрасим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узыку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Цель: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здание условий для определенного эмоционального откл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тей на настроение музыкального произведения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лекать внимание детей к богатству и красоте звуков окружающей прир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эмоциональную отзывчивость на инструментальную классическую музы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звать радость у ребят от выполнения творческого самовыражения   в рисунк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обходимый  материал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ые диски с произведениями П.И.Чайковского «Времена го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енняя песня» и А.Вивальди «Времена года»Концерт «Осень» 2 ча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аготовки листьев разной формы, акварельные крас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im4-tub-ru.yandex.net/i?id=309043633-38-72"/>
          <p:cNvPicPr/>
          <p:nvPr/>
        </p:nvPicPr>
        <p:blipFill>
          <a:blip r:embed="rId1"/>
          <a:stretch/>
        </p:blipFill>
        <p:spPr>
          <a:xfrm rot="19514400">
            <a:off x="7740720" y="274680"/>
            <a:ext cx="117144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im4-tub-ru.yandex.net/i?id=48871284-48-72"/>
          <p:cNvPicPr/>
          <p:nvPr/>
        </p:nvPicPr>
        <p:blipFill>
          <a:blip r:embed="rId2"/>
          <a:stretch/>
        </p:blipFill>
        <p:spPr>
          <a:xfrm rot="1774800">
            <a:off x="539280" y="243000"/>
            <a:ext cx="1047960" cy="105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im2-tub-ru.yandex.net/i?id=52948311-03-72"/>
          <p:cNvPicPr/>
          <p:nvPr/>
        </p:nvPicPr>
        <p:blipFill>
          <a:blip r:embed="rId3"/>
          <a:stretch/>
        </p:blipFill>
        <p:spPr>
          <a:xfrm rot="2008800">
            <a:off x="7548120" y="2176560"/>
            <a:ext cx="1047960" cy="121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од иг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дагог: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ята, сегодня мы с вами поговорим о музыке. Музыка всегда с нами. Она внутри нас, она вокруг на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 музыки не проживу и дн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во мне. Она вокруг ме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 пенье птиц, и в шуме город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олчанье  трав и в радуге цвет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 зареве рассвета над землей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везде и вечный спутник мой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 Гаджикасим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егодня у нас путешествие в волшебный ле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полон тайн и удивительных чудес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едложить детям прослушать музыкальные произведения: П.И.Чайковский «Времена года». «Осенняя песня»  и  А. Вивальди «Времена года» Концерт «Осень» 2-я ча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дагог: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стьев целые охап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орожках, на трав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ерем букет красив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забаву детворе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http://www.nanya.ru/beta/i/articles/94e75ab0f22d1911c45fd0e21991b598leaves2.jpg"/>
          <p:cNvPicPr/>
          <p:nvPr/>
        </p:nvPicPr>
        <p:blipFill>
          <a:blip r:embed="rId1"/>
          <a:stretch/>
        </p:blipFill>
        <p:spPr>
          <a:xfrm>
            <a:off x="6156360" y="1628640"/>
            <a:ext cx="2428920" cy="2130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01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од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 предлагает детям выбрать  и раскрасить листья, свободно импровизируя цветовой гаммой и оттен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дагог: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те-ка, как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стья разные, рез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инной тонкой кисть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раскрасим лист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расный, желтый, золотой -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хорош ты, лист цветн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це занятия педагог проводит арт-терапевтическую технику направленной  визуализации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дагог: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ята, вы возьмите каждый свой листик, закроете глаз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расскажите, какое желание исполнил бы ваш листоч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 листочками нам стать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, два, три, четыре, пять,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жно всем в ладоши хлопну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потом, потом, по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рнуться всем круго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ый ребенок рассказывает про свой волшебный  листоч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Картинка 47 из 14321"/>
          <p:cNvPicPr/>
          <p:nvPr/>
        </p:nvPicPr>
        <p:blipFill>
          <a:blip r:embed="rId1"/>
          <a:stretch/>
        </p:blipFill>
        <p:spPr>
          <a:xfrm rot="5019000">
            <a:off x="6087600" y="1285920"/>
            <a:ext cx="2086200" cy="245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0" descr="http://im0-tub-ru.yandex.net/i?id=225520748-29-72"/>
          <p:cNvPicPr/>
          <p:nvPr/>
        </p:nvPicPr>
        <p:blipFill>
          <a:blip r:embed="rId1"/>
          <a:stretch/>
        </p:blipFill>
        <p:spPr>
          <a:xfrm>
            <a:off x="5148360" y="1817640"/>
            <a:ext cx="1368360" cy="67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http://im0-tub-ru.yandex.net/i?id=225520748-29-72"/>
          <p:cNvPicPr/>
          <p:nvPr/>
        </p:nvPicPr>
        <p:blipFill>
          <a:blip r:embed="rId2"/>
          <a:stretch/>
        </p:blipFill>
        <p:spPr>
          <a:xfrm>
            <a:off x="6732720" y="1413000"/>
            <a:ext cx="1428480" cy="809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«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Музыкальные  подарки для ёлоч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Цель: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здать игровую мотивацию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ивать фантазию, творчество в процессе создания игрового образа, поощрять неповторим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жнять в изображении музыкально-игровых образов с помощью мимики, жестов, интон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еобходимый  материал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ск с музыкальными произведениями «Медведь» муз. В.Ребикова, «Лиса крадется» муз. Е.Тиличеевой, «Зайчиха» муз. Е.Тиличеевой, чудесный мешочек с игрушками мишка, зайчик, лисич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0" descr="Картинка 123 из 60829"/>
          <p:cNvPicPr/>
          <p:nvPr/>
        </p:nvPicPr>
        <p:blipFill>
          <a:blip r:embed="rId3"/>
          <a:stretch/>
        </p:blipFill>
        <p:spPr>
          <a:xfrm>
            <a:off x="6372360" y="0"/>
            <a:ext cx="2163600" cy="300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01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од иг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836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Педагог: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ыли бы у елочки ножки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обежала бы она по дорожк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плясала бы она вместе с нами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стучала бы она каблучкам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кружились бы на елочке игрушки –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зноцветные фонарики, хлопушки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Дети рассматривают елочк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ейчас мы будем с вами елочку наряжать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едлагаю вам одну интересную игр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до будет отгадать и движеньем показат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Того, чья  будет музыка звучать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ети слушают пьесы «Медведь» муз. В.Ребикова, « Лиса крадется» муз. Е.Тиличеевой, «Зайчиха» муз. Е.Тиличеевой.  В соответствии с образным звучанием пьес, выполняют игровые движения, передающие образ мишки, зайчика, лисич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осле верного ответа, ребенок  из чудесного мешочка достают игрушку и вешает на елочк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Педагог: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ак хороша музыкальная елка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ак нарядилась она, погляди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латье у елки зеленого шелка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Ярко на ветках горят огоньки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ружно встанем в хорово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 станцуем вмест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усть сегодня здесь звуча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етский смех и песни.                  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Хоровод вокруг елоч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Группа 3"/>
          <p:cNvGrpSpPr/>
          <p:nvPr/>
        </p:nvGrpSpPr>
        <p:grpSpPr>
          <a:xfrm>
            <a:off x="5364000" y="549360"/>
            <a:ext cx="3133800" cy="2158920"/>
            <a:chOff x="5364000" y="549360"/>
            <a:chExt cx="3133800" cy="2158920"/>
          </a:xfrm>
        </p:grpSpPr>
        <p:pic>
          <p:nvPicPr>
            <p:cNvPr id="132" name="Picture 2" descr="http://im8-tub-ru.yandex.net/i?id=164967636-04-72"/>
            <p:cNvPicPr/>
            <p:nvPr/>
          </p:nvPicPr>
          <p:blipFill>
            <a:blip r:embed="rId1"/>
            <a:stretch/>
          </p:blipFill>
          <p:spPr>
            <a:xfrm>
              <a:off x="6159960" y="549360"/>
              <a:ext cx="1629720" cy="215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Группа 5"/>
            <p:cNvGrpSpPr/>
            <p:nvPr/>
          </p:nvGrpSpPr>
          <p:grpSpPr>
            <a:xfrm>
              <a:off x="5364000" y="1533960"/>
              <a:ext cx="3133800" cy="1174320"/>
              <a:chOff x="5364000" y="1533960"/>
              <a:chExt cx="3133800" cy="1174320"/>
            </a:xfrm>
          </p:grpSpPr>
          <p:pic>
            <p:nvPicPr>
              <p:cNvPr id="134" name="Picture 6" descr="http://im7-tub-ru.yandex.net/i?id=405401092-51-72"/>
              <p:cNvPicPr/>
              <p:nvPr/>
            </p:nvPicPr>
            <p:blipFill>
              <a:blip r:embed="rId2"/>
              <a:stretch/>
            </p:blipFill>
            <p:spPr>
              <a:xfrm flipH="1">
                <a:off x="7512840" y="1533960"/>
                <a:ext cx="984960" cy="117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4" descr="http://im5-tub-ru.yandex.net/i?id=467973713-55-72"/>
              <p:cNvPicPr/>
              <p:nvPr/>
            </p:nvPicPr>
            <p:blipFill>
              <a:blip r:embed="rId3"/>
              <a:stretch/>
            </p:blipFill>
            <p:spPr>
              <a:xfrm>
                <a:off x="5364000" y="1569960"/>
                <a:ext cx="1101600" cy="113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6" name="Picture 2" descr="http://im7-tub-ru.yandex.net/i?id=524650798-37-72"/>
          <p:cNvPicPr/>
          <p:nvPr/>
        </p:nvPicPr>
        <p:blipFill>
          <a:blip r:embed="rId4"/>
          <a:stretch/>
        </p:blipFill>
        <p:spPr>
          <a:xfrm>
            <a:off x="6377040" y="2139840"/>
            <a:ext cx="1197000" cy="1197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im4-tub-ru.yandex.net/i?id=289940726-27-72"/>
          <p:cNvPicPr/>
          <p:nvPr/>
        </p:nvPicPr>
        <p:blipFill>
          <a:blip r:embed="rId5"/>
          <a:stretch/>
        </p:blipFill>
        <p:spPr>
          <a:xfrm>
            <a:off x="7262640" y="333360"/>
            <a:ext cx="1546560" cy="94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819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«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Любим мы играть в оркестр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Цель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Учить детей самостоятельно объединя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ансамб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ивизировать интерес детей к различным видам музыкальны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ру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ритмического слух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фантазии и музыкальной памят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коммуникативные навыки в игре, доброжелательное отношение друг к дру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авить детям радость от совместной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обходимый  материал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ый центр, музыкальные диски, подбор ударных инструментов (треугольники, бубны, палочки, колокольчи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Картинка 13 из 271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571680"/>
            <a:ext cx="2539800" cy="209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mage.shutterstock.com/display_pic_with_logo/437/437,1234276936,17/stock-vector-musical-kids-vector-24855205.jpg">
            <a:hlinkClick r:id="rId1"/>
          </p:cNvPr>
          <p:cNvPicPr/>
          <p:nvPr/>
        </p:nvPicPr>
        <p:blipFill>
          <a:blip r:embed="rId2"/>
          <a:srcRect l="0" t="0" r="0" b="7555"/>
          <a:stretch/>
        </p:blipFill>
        <p:spPr>
          <a:xfrm>
            <a:off x="5867280" y="692280"/>
            <a:ext cx="3035520" cy="2232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984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од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дагог: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сительный би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рю я вам на свой конце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рт немного необычны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вас он тоже непривыч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ходите, не стесняйтес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здоровье удивляйтесь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стоят по кругу, перед ними лежат инструменты ( треугольники,  бубны, палочки, колокольчики).  Звучит музыка, дети идут по кругу.  С окончанием музыки дети берут инструменты, кому не досталось инструмента, выходит дирижиро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дагог: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рижера назначаем – и в оркестре поигра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рукой его следите, вместе музыкальный ритм веди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ети отстукивают ритм по показу дирижер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Картинка 1 из 270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4140360"/>
            <a:ext cx="2050920" cy="268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Картинка 76 из 736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2200" y="1562040"/>
            <a:ext cx="1023840" cy="164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9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«Веселый дожд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креплять у детей чувство рит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ритмический слу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фантазии и музыкальной памяти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коммуникативные навыки в игре, доброжелательное отношение друг к дру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умение передавать свои впечатления в рисун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обходимый  материал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нограмма звучания дождя, музыкальное сопровождение – «Дождь и радуга» С.Прокофьева,  фланелеграф,  металлофон, карточки  «капельки дождя» и тучки,  альбом для рисования, акварельные краски.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Картинка 108 из 160582"/>
          <p:cNvPicPr/>
          <p:nvPr/>
        </p:nvPicPr>
        <p:blipFill>
          <a:blip r:embed="rId1"/>
          <a:stretch/>
        </p:blipFill>
        <p:spPr>
          <a:xfrm>
            <a:off x="6227640" y="981000"/>
            <a:ext cx="2401920" cy="2048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im3-tub-ru.yandex.net/i?id=21616759-45-72"/>
          <p:cNvPicPr/>
          <p:nvPr/>
        </p:nvPicPr>
        <p:blipFill>
          <a:blip r:embed="rId2"/>
          <a:srcRect l="19520" t="0" r="0" b="0"/>
          <a:stretch/>
        </p:blipFill>
        <p:spPr>
          <a:xfrm>
            <a:off x="571680" y="428760"/>
            <a:ext cx="1150920" cy="11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од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360" y="1557360"/>
            <a:ext cx="801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Звучит фонограмма звучания дожд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Педагог: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Кап-кап-кап, кап-кап-кап –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ждь веселый льетс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Мы хотим его поймать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 он не даетс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ап-кап-кап, кап-кап-кап-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о зонтам, по крышам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ждик весело стучи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о сильней, то тиш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Картинка 95 из 967"/>
          <p:cNvPicPr/>
          <p:nvPr/>
        </p:nvPicPr>
        <p:blipFill>
          <a:blip r:embed="rId1"/>
          <a:stretch/>
        </p:blipFill>
        <p:spPr>
          <a:xfrm>
            <a:off x="5867280" y="1484280"/>
            <a:ext cx="272736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456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апы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63240" y="980640"/>
            <a:ext cx="860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слушают -  педагог ударяет – тихо или громко – по пластинке металлофона («падают капли дождя», «идет сильный дождь»), показывают руки при громкой музыке, прячут их при тихой, хлопают в ладоши тихо или громко, в соответствии со звучан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тмический рисунок выложен на фланелеграфе - дети отстукивают ритмический рисунок по показу (короткие звуки в ладошки, долгий звук – по коленочка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m2-tub-ru.yandex.net/i?id=238490140-01-72"/>
          <p:cNvPicPr/>
          <p:nvPr/>
        </p:nvPicPr>
        <p:blipFill>
          <a:blip r:embed="rId1"/>
          <a:stretch/>
        </p:blipFill>
        <p:spPr>
          <a:xfrm>
            <a:off x="5580000" y="4451400"/>
            <a:ext cx="1979640" cy="206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апы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ап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поочередно импровизируют ритмический рисунок дожд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дагог предлагает посчитать сколько капелек упало  из ту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дагог предлагает поиграть в пальчиковую иг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альчиковая иг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олько знаю я дождей?      -  прикасаться пальчиками по очереди 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читайте поскорей:               большому, начиная с указательн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дик с ветром,                   -   поочередно загибать пальцы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дь грибн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дик с радугой-дуг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дик с солнце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дик с град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дик с рыжим листопадом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ложить детям самостоятельно решить , какой дождь будут рисо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льное сопровождение – «Дождь и радуга» С.Прокофье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im2-tub-ru.yandex.net/i?id=238490140-01-72"/>
          <p:cNvPicPr/>
          <p:nvPr/>
        </p:nvPicPr>
        <p:blipFill>
          <a:blip r:embed="rId1"/>
          <a:stretch/>
        </p:blipFill>
        <p:spPr>
          <a:xfrm>
            <a:off x="5724360" y="3789360"/>
            <a:ext cx="1979640" cy="206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Учить детей определять характер музыки, выполнять движения в соответствии с музык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ивать ритмический слу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итие фантазии и музыкальной памяти де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ивать коммуникативные навыки, моторику рук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еобходимый  материал: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узыкальные диски с плясовой музыкой и колыбельной, кукла Оля,  фланелеграф, карточки-ладошки разного размера для выкладывания ритмического рисунка,  для определения характера музыки карточки-ладошки желтого и зеленого цвета.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pictureshack.ru/gthumbs/3818ladosh.jpg"/>
          <p:cNvPicPr/>
          <p:nvPr/>
        </p:nvPicPr>
        <p:blipFill>
          <a:blip r:embed="rId1"/>
          <a:srcRect l="13366" t="17856" r="0" b="15289"/>
          <a:stretch/>
        </p:blipFill>
        <p:spPr>
          <a:xfrm>
            <a:off x="7035840" y="2276640"/>
            <a:ext cx="2108160" cy="1742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«В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селые ладошки у нашей </a:t>
            </a:r>
            <a:br>
              <a:rPr sz="3200"/>
            </a:b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уклы-крошки»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од  иг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83664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Педагог на занятие приносит кукл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едагог:     Кукла Оля к нам пришла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еселиться начала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Хлопают, играют Олины ладошки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ле помогают маленькие крошки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этап: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едагог выкладывает ритмический рисунок из ладошек – дети отстукивают  в ладош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едагог:     Ну-ка, все в ладошки хлоп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месте хлоп, дружно хлоп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у-ка, все в ладошки хлоп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след за мною хлоп, хлоп, хлоп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: Звучит веселая музыка  - дети поднимают ладошки желтого цве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вучит колыбельная – дети поднимают ладошки зеленого цве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Calibri"/>
              </a:rPr>
              <a:t>Педагог: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Ручки наши тоже пляшут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 желают отставать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месте с нами, малышами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тали весело играть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:   Звучит веселая музыка – дети хлопают весело в ладош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вучит колыбельная -  ладошки устали и легли отдыхать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едагог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:  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з-два! Раз-два!  Вот и кончилась игра!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http://im4-tub-ru.yandex.net/i?id=108615837-18-72"/>
          <p:cNvPicPr/>
          <p:nvPr/>
        </p:nvPicPr>
        <p:blipFill>
          <a:blip r:embed="rId1"/>
          <a:stretch/>
        </p:blipFill>
        <p:spPr>
          <a:xfrm>
            <a:off x="6516720" y="5105520"/>
            <a:ext cx="1782720" cy="1251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im0-tub-ru.yandex.net/i?id=113132833-21-72"/>
          <p:cNvPicPr/>
          <p:nvPr/>
        </p:nvPicPr>
        <p:blipFill>
          <a:blip r:embed="rId2"/>
          <a:stretch/>
        </p:blipFill>
        <p:spPr>
          <a:xfrm>
            <a:off x="6870600" y="2846520"/>
            <a:ext cx="1809720" cy="181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2:54:59Z</dcterms:created>
  <dc:creator>Helen</dc:creator>
  <dc:description/>
  <dc:language>en-US</dc:language>
  <cp:lastModifiedBy>User</cp:lastModifiedBy>
  <dcterms:modified xsi:type="dcterms:W3CDTF">2012-09-24T11:37:58Z</dcterms:modified>
  <cp:revision>18</cp:revision>
  <dc:subject/>
  <dc:title>Слайд 1</dc:title>
</cp:coreProperties>
</file>