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B9C-47A7-45B2-A452-3FD6C9C5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112-5B72-4DF8-A001-EF263F5B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ED4-5A84-44EF-91E7-CC1AC4FD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DE6-DDC9-45E2-9087-79E36B23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3FF-24A3-4ED2-87AE-7ABE06FE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5B2-DB47-47C0-BF92-309D480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B1E-76E3-4E1A-9C36-4658AE7A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F38-A77B-448A-9A6C-48181890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F4A-DF3F-4B31-904D-0562197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E2E-EF88-46B5-92F3-E47E693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C40-FB3D-44AE-84EE-4EDE1AF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E03-B91D-42A5-BEB9-A81B345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350-70F4-410C-8451-587DAC01B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ampl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571680" y="571680"/>
            <a:ext cx="8215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 Основные понятия экологии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и биосфер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img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img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3" descr="hello_html_m288744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MOOTH"/>
          <p:cNvPicPr/>
          <p:nvPr/>
        </p:nvPicPr>
        <p:blipFill>
          <a:blip r:embed="rId1"/>
          <a:srcRect l="0" t="0" r="0" b="46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4360" y="3716280"/>
            <a:ext cx="8064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Эколог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– это наука о взаимосвязях и взаимоотношениях живых организмов между собой и с окружающ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… это познание экономики природы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14 сентября 1866 год, немецкий биолог Эрнст Гекк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>
            <a:hlinkClick r:id="rId3" action="ppaction://hlinksldjump"/>
          </p:cNvPr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7302"/>
                </a:moveTo>
                <a:lnTo>
                  <a:pt x="17806" y="14309"/>
                </a:lnTo>
                <a:lnTo>
                  <a:pt x="3794" y="2131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1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ky_38"/>
          <p:cNvPicPr/>
          <p:nvPr/>
        </p:nvPicPr>
        <p:blipFill>
          <a:blip r:embed="rId1"/>
          <a:srcRect l="0" t="0" r="0" b="3125"/>
          <a:stretch/>
        </p:blipFill>
        <p:spPr>
          <a:xfrm>
            <a:off x="-304920" y="-243000"/>
            <a:ext cx="977292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Oval 5"/>
          <p:cNvSpPr/>
          <p:nvPr/>
        </p:nvSpPr>
        <p:spPr>
          <a:xfrm>
            <a:off x="3780000" y="3357720"/>
            <a:ext cx="1800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ас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908000" y="4797360"/>
            <a:ext cx="1872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Живо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0" y="3429000"/>
            <a:ext cx="183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актер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1763640" y="2205000"/>
            <a:ext cx="1944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3780000" y="4221000"/>
            <a:ext cx="1296720" cy="936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 flipV="1">
            <a:off x="611280" y="4365360"/>
            <a:ext cx="1296720" cy="86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324000" y="2637000"/>
            <a:ext cx="1439640" cy="863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3708360" y="2565360"/>
            <a:ext cx="1368360" cy="86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4427640" y="4508640"/>
            <a:ext cx="288720" cy="649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684000" y="4941720"/>
            <a:ext cx="718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755640" y="2349000"/>
            <a:ext cx="431640" cy="86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 rot="2074200">
            <a:off x="4787640" y="2637000"/>
            <a:ext cx="11174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H="1">
            <a:off x="1763280" y="3789360"/>
            <a:ext cx="201636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 flipV="1">
            <a:off x="2268360" y="3499920"/>
            <a:ext cx="1224000" cy="289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2"/>
          <p:cNvSpPr/>
          <p:nvPr/>
        </p:nvSpPr>
        <p:spPr>
          <a:xfrm>
            <a:off x="1547640" y="189000"/>
            <a:ext cx="604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и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door"/>
          <p:cNvPicPr/>
          <p:nvPr/>
        </p:nvPicPr>
        <p:blipFill>
          <a:blip r:embed="rId1"/>
          <a:stretch/>
        </p:blipFill>
        <p:spPr>
          <a:xfrm>
            <a:off x="234000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136440"/>
            <a:ext cx="234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олог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зучает, наблюдает, исследует, прогнозирует, моделирует состояние живой и неживой приро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еловеческого общества и помогает  сохранить богатств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77080" y="208080"/>
            <a:ext cx="22669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коны Б.Коммон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се связано со в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се должно куда-то д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ичто не дается да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рирода знает лучше, что делать, а люди должны решать, как сделать это возможно луч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>
            <a:hlinkClick r:id="rId2" action="ppaction://hlinksldjump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10994"/>
                </a:moveTo>
                <a:lnTo>
                  <a:pt x="17806" y="3988"/>
                </a:lnTo>
                <a:lnTo>
                  <a:pt x="17806" y="1800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556000" y="3141720"/>
            <a:ext cx="56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Каждый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человек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, бережно и разумно использующий богатства природы, помогает сохранить окружающую среду для себя и буду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поко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f2fa"/>
            </a:gs>
            <a:gs pos="100000">
              <a:srgbClr val="4c707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еловек – часть природы и может существовать только сохраняя 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8000" y="2060280"/>
            <a:ext cx="5832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ы все снимаем угол с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У матушки прир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 крыша нам над гол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уть купол небос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А весь большой и стары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Битком набит жильц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 уживаться надо в 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Хоть мы с «усами»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. Левит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819038"/>
          <p:cNvPicPr/>
          <p:nvPr/>
        </p:nvPicPr>
        <p:blipFill>
          <a:blip r:embed="rId1"/>
          <a:stretch/>
        </p:blipFill>
        <p:spPr>
          <a:xfrm>
            <a:off x="6804000" y="2492280"/>
            <a:ext cx="2001960" cy="133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819008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27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821082"/>
          <p:cNvPicPr/>
          <p:nvPr/>
        </p:nvPicPr>
        <p:blipFill>
          <a:blip r:embed="rId3"/>
          <a:stretch/>
        </p:blipFill>
        <p:spPr>
          <a:xfrm>
            <a:off x="6659640" y="4365720"/>
            <a:ext cx="2319120" cy="154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ackg56"/>
          <p:cNvPicPr/>
          <p:nvPr/>
        </p:nvPicPr>
        <p:blipFill>
          <a:blip r:embed="rId4"/>
          <a:stretch/>
        </p:blipFill>
        <p:spPr>
          <a:xfrm>
            <a:off x="179280" y="2924280"/>
            <a:ext cx="1516320" cy="227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Водяные лилии"/>
          <p:cNvPicPr/>
          <p:nvPr/>
        </p:nvPicPr>
        <p:blipFill>
          <a:blip r:embed="rId5"/>
          <a:stretch/>
        </p:blipFill>
        <p:spPr>
          <a:xfrm>
            <a:off x="179280" y="1341360"/>
            <a:ext cx="1722600" cy="129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2:56:24Z</dcterms:created>
  <dc:creator>Максим</dc:creator>
  <dc:description/>
  <dc:language>en-US</dc:language>
  <cp:lastModifiedBy>Юлия</cp:lastModifiedBy>
  <dcterms:modified xsi:type="dcterms:W3CDTF">2020-04-11T09:42:56Z</dcterms:modified>
  <cp:revision>8</cp:revision>
  <dc:subject/>
  <dc:title>Слайд 1</dc:title>
</cp:coreProperties>
</file>