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DA88D-20BE-4148-83F4-4392BFA3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8CDB7-CE9C-4F81-A751-9FC41792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F641C-0D66-4610-9388-988BD301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FE339-6AB5-4037-B44C-B4F1D594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7AAE-61CA-446A-A1E0-8BBE3FB1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BEF8-B038-4290-AEA1-87657D43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559F-61DD-4B7F-9F8C-851C92FE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8C14-16A1-4BC0-8CBB-1D097F21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CDDC-92D9-40D3-B1C3-5709FDCA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55A7-0EC7-4C41-89FB-7E98CDE2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829A-3A5E-41C5-8887-5CC89C0F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C5210-862A-4615-A3B3-268667B2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52C5-D900-414D-B77C-BFE0C309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5A0D-0B8D-48BD-B6FC-E25C3C04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C7EC-16A8-4A57-BFE9-F642E289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5E01-A360-4845-87F9-B6C15332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B370-BA46-4AA0-B084-B2CCD59F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52C3A-3488-4432-B286-5D4FA5FB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E57E0-D9D9-4C6B-9FE7-80661E7C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04A29-A2C3-4BE7-A761-08BD8A7D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8C6B-ABF8-4D26-A345-982A1357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50A92-A6B0-4270-9F1B-F6024C6A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822FB-ACEB-4E89-9707-43DFB740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63DA-5C90-418A-92CC-3EF8B201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111B-73A8-4AA2-96F3-FE2E26089A5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A2D3-F582-403B-AC0B-3CC84C3F79D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2130480"/>
            <a:ext cx="845964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дготовка к ОГЭ.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астер-класс для учащихся «Написание сочинения-рассуждения.  Часть 3.  9.3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492360" y="5734080"/>
            <a:ext cx="54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учитель русского языка и литературы МБОУ «СОШ № 12» г.Ноябрьск Фиалковская Вероник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труктура сочинения (поэтап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79480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абза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можно использование следующих фра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Arial"/>
              </a:rPr>
              <a:t>Обратимся к предложенному тексту. В нём повествуется о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детях, которым нравилось долгими зимними вечерами играть в Робинзона. В такие моменты они были счастливы. </a:t>
            </a:r>
            <a:r>
              <a:rPr b="1" lang="ru-RU" sz="2800" spc="-1" strike="noStrike" u="sng">
                <a:solidFill>
                  <a:srgbClr val="00b050"/>
                </a:solidFill>
                <a:uFillTx/>
                <a:latin typeface="Arial"/>
              </a:rPr>
              <a:t>Об этом говорится в предложениях …-… . Автор продемонстрировал нам яркий образец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счаст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 слов: 30-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труктура сочинения (поэтап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абза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водим ВТОРОЙ АРГУМЕНТ из собственного жизненного оп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b050"/>
                </a:solidFill>
                <a:uFillTx/>
                <a:latin typeface="Arial"/>
              </a:rPr>
              <a:t>Приведу пример из собственной жизни У меня  есть друг. Его зовут Владимир. Он добрый и отзывчивый.  </a:t>
            </a:r>
            <a:r>
              <a:rPr b="1" lang="ru-RU" sz="2600" spc="-1" strike="noStrike">
                <a:solidFill>
                  <a:srgbClr val="00b050"/>
                </a:solidFill>
                <a:latin typeface="Arial"/>
              </a:rPr>
              <a:t>Долгими зимними вечерами мы играем с ним в шахматы. Это увлекательное занятие. Когда я выигрываю, то чувствую себя счастливым. Всё вокруг кажется мне прекрасным. В летнее время я вспоминаю о зимних вечерах, проведённых с другом. Это радует меня. </a:t>
            </a:r>
            <a:r>
              <a:rPr b="1" lang="ru-RU" sz="2600" spc="-1" strike="noStrike" u="sng">
                <a:solidFill>
                  <a:srgbClr val="00b050"/>
                </a:solidFill>
                <a:uFillTx/>
                <a:latin typeface="Arial"/>
              </a:rPr>
              <a:t>Вот истинный пример счастья</a:t>
            </a:r>
            <a:r>
              <a:rPr b="1" lang="ru-RU" sz="2600" spc="-1" strike="noStrike">
                <a:solidFill>
                  <a:srgbClr val="00b050"/>
                </a:solidFill>
                <a:latin typeface="Arial"/>
              </a:rPr>
              <a:t>. Он вдохновляет на достойные поступ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 слов:    примерно 55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труктура сочинения (поэтап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6868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абза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улируем 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Arial"/>
              </a:rPr>
              <a:t>Таким образом, я доказал, что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счастье – состояние наивысшего блаженства, приятные воспоми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Таким образом, 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Подводя итог всему сказанному, хочется добавить, что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Следовательно,  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 слов – примерно  15  слов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Имейте в виду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ъясняя смысл слова, избегайте такой формулировки: Счастье – это когда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гументируя свой тезис, приведите 2 (два) примера-аргумента, подтверждающих Ваши рассуждения: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дин приме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аргумент приведите из прочитанного текста, а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тор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из Вашего жизненного опыта или из художественной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ъём сочинения не должен составлять менее 70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чинение пишите аккуратно, разборчивым почер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Знайте, что основные критерии оценивания Вашего сочинения таковы (по максимуму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3К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кование значения слова (дать определение и прокомментировать его) – 2 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3К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чие примеров-аргументов (один – из текста, другой – из жизненного опыта) – 3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3К3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ысловая цельность, речевая связность, последовательность (отсутствие логических ошибок, нарушений абзацного членения)  - 2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3К4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зиционная стройность (нет ошибок в построении текста) – 2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имальное количество баллов 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ктическая грамотность письменной речи (изложение + сочинение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К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людение орфографических норм  (не более 1 ошибки) – 2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К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людение пунктуационных норм  (не более 2 ошибок) – 2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К3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людение грамматических норм  (не более 1 ошибки) – 2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К4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людение речевых норм  (не более 2 ошибок) – 2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К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тическая точность письменной речи (нет ошибок в изложении материала, в понимании и употреблении терминов)- 2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имальное количество баллов -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бщее количество баллов: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сть 1. Изложение (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держание;  сжатие исходного текста несколькими способами (три способа: исключение, упрощение, обобщение);  смысловая цельность, речевая связность и последовательность изложени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)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сть 2. Задания 2-8 (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опросы с вариантами ответов и др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):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 баллов  (по 1 баллу за каждое правильно выполненное задание – в каждом задании может быть несколько вариантов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сть 3. Сочинение-рассуждение: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ктическая грамотность письменной речи экзаменуемого и фактическая точность его письменной речи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имер сочинения по тексту Е. Габовой «Светку Сергееву мы не любили…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3  Как вы понимаете значение слова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жесток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 Сформулируйте и прокомментируйте данное Вами определение. Напишите сочинение-рассуждение на тему: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Что такое жестокость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взяв в качестве тезиса данное Вами определение. Аргументируя свой тезис, приведите 2 (два) примера-аргумента, подтверждающих Ваши рассуждения: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дин приме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аргумент приведите из прочитанного текста, а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тор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из Вашего жизненного опы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ём сочинения не должен составлять менее 7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сочинение представляет собой пересказанный или полностью переписанный исходный текст без каких бы то ни было комментариев, то такая работа оценивается нулём бал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чинение пишите аккуратно, разборчивым почер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ует указать учащимся на то, что нужно, по возможности,  приводить позитивные примеры из жизни, настраивающие на положительные эмоции и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имер сочинения по тексту Е. Габовой «Светку Сергееву мы не любили….» (в качестве второго аргумента (3 абзац) взят пример из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мой взгляд, жестокость – это бессердечное, грубое отношение к окружающим. Таким качеством обладают злые люди, не способные сочувствовать и сопереживать. Докажу справедливость своих слов конкретными пример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имся к предложенному тексту. В нём повествуется о жестокости одноклассников Светки (предложения 30-39). Ребята относились к Рыжухе бессердечно, потому что она резко отличалась от них. Светка бедно одевалась и громко пела на озере. Автор продемонстрировал нам яркий образец жесто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еду пример из собственной жизни. У меня есть друг. Его зовут Артём. Он добрый и отзывчивый. Как-то поздним вечером Артём возвращался с тренировки и увидел, как подростки издевались над беззащитным щенком. Юноша забрал несчастное животное и отнёс его в приют. Своими действиями мой друг предотвратил дальнейшую жестокость. Поступком Артёма можно горд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м образом, я доказал, что жестокость – это бессердечное отношение к окружающим.  (125 с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имер сочинения по тексту Е. Габовой «Светку Сергееву мы не любили….» (в качестве второго аргумента (3 абзац) взят пример из художественной литератур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мой взгляд, жестокость – это бессердечное, грубое отношение к окружающим. Таким качеством обладают злые люди, не способные сочувствовать и сопереживать. Докажу справедливость своих слов конкретными пример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имся к предложенному тексту. В нём повествуется о жестокости одноклассников Светки (предложения 30-39). Ребята относились к Рыжухе бессердечно, потому что она резко отличалась от них. Светка бедно одевалась и громко пела на озере. Автор продемонстрировал нам яркий образец жесто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еду пример из художественной литературы. В произведении Владимира Железникова «Чучело» рассказывается о жестокости подростков. Одноклассники издевались над Леной Бессольцевой. Они оскорбляли её, унижали и даже били. К сожалению, такие ситуации возникают в среде подростков, где правит бездушное больши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м образом, я доказал, что жестокость – это бессердечное отношение к окружающим. (112 с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имер задания. 9.3 (По тексту Л.Н. Толстого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«Когда нас оделили мороженым  и фруктами…»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50752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3  Как вы понимаете значение слов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ЧАСТЬ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 Сформулируйте и прокомментируйте данное Вами определение. Напишите сочинение-рассуждение на тем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Что такое счастье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зяв в качестве тезиса данное Вами определение. Аргументируя свой тезис, приведите 2 (два) примера-аргумента, подтверждающих Ваши рассуждения: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дин приме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аргумент приведите из прочитанного текста, 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тор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из Вашего жизненного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ём сочинения не должен составлять менее 70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сочинение представляет собой пересказанный или полностью переписанный исходный текст без каких бы то ни было комментариев, то такая работа оценивается нулём б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чинение пишите аккуратно, разборч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писать сочинение по тексту В25 (РТ И.П. Цыбулько ОГЭ2019) «Край пруда порос сплошь кувшинками…» Б. Пастерн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e"/>
                </a:solidFill>
                <a:latin typeface="Arial"/>
              </a:rPr>
              <a:t>Как вы понимаете значение слова ВЗРОСЛЕНИЕ? Сформулируйте и прокомментируйте данное Вами определение. Напишите сочинение-рассуждение на тему «Почему мир меняется вокруг взрослеющего ребёнка?», взяв в качестве тезиса данное Вами опреде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имер задания. 9.3 (По тексту В.П. Крапивина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«В конце весны, когда просохли дороги…»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50752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3  Как вы понимаете значение слов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МЕЛ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 Сформулируйте и прокомментируйте данное Вами определение. Напишите сочинение-рассуждение на тем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Какого человека можно считать смелым?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зяв в качестве тезиса данное Вами определение. Аргументируя свой тезис, приведите 2 (два) примера-аргумента, подтверждающих Ваши рассуждения: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дин приме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аргумент приведите из прочитанного текста, 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тор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из Вашего жизненного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ём сочинения не должен составлять менее 70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сочинение представляет собой пересказанный или полностью переписанный исходный текст без каких бы то ни было комментариев, то такая работа оценивается нулём б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чинение пишите аккуратно, разборч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ример задания. 9.3 (По тексту Р.П. Погодина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«Витька врал редко, но сейчас…»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50752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3  Как вы понимаете значение слов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ЕЛИКОДУШ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 Сформулируйте и прокомментируйте данное Вами определение. Напишите сочинение-рассуждение на тем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Почему важно уметь прощать?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зяв в качестве тезиса данное Вами определение. Аргументируя свой тезис, приведите 2 (два) примера-аргумента, подтверждающих Ваши рассуждения: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дин приме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аргумент приведите из прочитанного текста, 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тор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из Вашего жизненного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ём сочинения не должен составлять менее 70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сочинение представляет собой пересказанный или полностью переписанный исходный текст без каких бы то ни было комментариев, то такая работа оценивается нулём б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чинение пишите аккуратно, разборч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труктура сочи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зис. Даём определение слову. Приводим коммент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гумент 1: из прочитанного текста, подтверждающий рассу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гумент 2: из собственного жизненного опыта или из художественной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ните, в сочинении должно быть  4 (ЧЕТЫРЕ) абзаца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 слов – не менее 70 слов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труктура сочинения (поэтап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1 абза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ормулируем тезис. Даём определение слову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Arial"/>
              </a:rPr>
              <a:t>………………</a:t>
            </a:r>
            <a:r>
              <a:rPr b="1" lang="ru-RU" sz="2800" spc="-1" strike="noStrike" u="sng">
                <a:solidFill>
                  <a:srgbClr val="00b050"/>
                </a:solidFill>
                <a:uFillTx/>
                <a:latin typeface="Arial"/>
              </a:rPr>
              <a:t>. – это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…………………………… . Комментарий (1 предложение). </a:t>
            </a:r>
            <a:r>
              <a:rPr b="1" lang="ru-RU" sz="2800" spc="-1" strike="noStrike" u="sng">
                <a:solidFill>
                  <a:srgbClr val="00b050"/>
                </a:solidFill>
                <a:uFillTx/>
                <a:latin typeface="Arial"/>
              </a:rPr>
              <a:t>Докажу справедливость своих слов  конкретными примерами.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римерно 30-35 сл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!!! Объясняя смысл слова, избегайте такой формулировки: Счастье – это когда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труктура сочинения (поэтап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1 абза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ормулируем тезис. Даём определение слову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данном случае слову «СЧАСТЬ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Arial"/>
              </a:rPr>
              <a:t>Счастье – это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состояние блаженства, высшее удовлетворение жизнью, приятные воспоминания. Каждый человек хотя бы раз в жизни испытывал такое чувство. </a:t>
            </a:r>
            <a:r>
              <a:rPr b="1" lang="ru-RU" sz="2800" spc="-1" strike="noStrike" u="sng">
                <a:solidFill>
                  <a:srgbClr val="00b050"/>
                </a:solidFill>
                <a:uFillTx/>
                <a:latin typeface="Arial"/>
              </a:rPr>
              <a:t>Докажу справедливость своих слов  конкретными примерами. (25 с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римерно 30-35 сл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труктура сочинения (поэтап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ормулируем тезис. Даём определение слову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можно следующее нача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Что такое ……………? Отвечая на этот вопрос, невольно становишься перед выбором. С одной стороны – это ………. . С другой - ……………….. . Так и в этом тексте автор переносит нас в мир …………...   и …………… . Обратимся к текст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ть следующий абзац (приведение аргументов) можно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Обратимся к предложенному тексту. В нём повествуется……..(предложения 30-37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труктура сочинения (поэтап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6868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абза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водим АРГУМЕНТ  из прочитанного текста, подтверждающий наши рассу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Обратимся к предложенному тексту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казывать ФИО автора текста не рекомендую во избежание ошибок).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В нём повествуется // рассказывается о  …………………………..  (предложения ……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казывать  номера предложений не обязатель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 слов: 40-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7:25:01Z</dcterms:created>
  <dc:creator>Марийка</dc:creator>
  <dc:description/>
  <dc:language>en-US</dc:language>
  <cp:lastModifiedBy>Пользователь Windows</cp:lastModifiedBy>
  <dcterms:modified xsi:type="dcterms:W3CDTF">2020-04-11T14:42:40Z</dcterms:modified>
  <cp:revision>55</cp:revision>
  <dc:subject/>
  <dc:title>Составное глагольное сказуемое</dc:title>
</cp:coreProperties>
</file>