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189-338C-439C-9B08-958A2124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FD5-5AC6-4441-A60E-9673F01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AD1-A10E-4DFB-9ED4-B29F3AA8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A25-82A6-4934-B1BF-5B016CA1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2FF-AAF0-4D70-B46F-A1BF88D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75F-D694-40C5-8A82-AD2D232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C01-8509-41CF-8EAE-9A921A7C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9C1-C7D3-4747-9E9F-990EB629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F73-EA8F-4514-B36C-B9EE830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B70-0965-44BB-B820-CBCA824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BA2-3B47-40D4-8D21-B9CFA23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E72-F67D-49E7-BD39-94CE0D5B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686-F5CC-47F1-89EE-7211E6B72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ОТЧЁТ РАБОТ ВО ВРЕМЯ КАРАН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3EuF25G4lV0"/>
          <p:cNvPicPr/>
          <p:nvPr/>
        </p:nvPicPr>
        <p:blipFill>
          <a:blip r:embed="rId1"/>
          <a:srcRect l="0" t="26221" r="0" b="330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x4wVva8yntI"/>
          <p:cNvPicPr/>
          <p:nvPr/>
        </p:nvPicPr>
        <p:blipFill>
          <a:blip r:embed="rId1"/>
          <a:srcRect l="0" t="0" r="0" b="20669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vSsg35TDuY"/>
          <p:cNvPicPr/>
          <p:nvPr/>
        </p:nvPicPr>
        <p:blipFill>
          <a:blip r:embed="rId2"/>
          <a:srcRect l="0" t="21260" r="0" b="16536"/>
          <a:stretch/>
        </p:blipFill>
        <p:spPr>
          <a:xfrm>
            <a:off x="4284720" y="-100080"/>
            <a:ext cx="48592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mxg2_q8YkDs"/>
          <p:cNvPicPr/>
          <p:nvPr/>
        </p:nvPicPr>
        <p:blipFill>
          <a:blip r:embed="rId1"/>
          <a:srcRect l="0" t="9449" r="0" b="129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opPWYWpZbt0"/>
          <p:cNvPicPr/>
          <p:nvPr/>
        </p:nvPicPr>
        <p:blipFill>
          <a:blip r:embed="rId1"/>
          <a:srcRect l="61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xRB0LJ0o2JE"/>
          <p:cNvPicPr/>
          <p:nvPr/>
        </p:nvPicPr>
        <p:blipFill>
          <a:blip r:embed="rId1"/>
          <a:srcRect l="1476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SLGBjP6CUQg"/>
          <p:cNvPicPr/>
          <p:nvPr/>
        </p:nvPicPr>
        <p:blipFill>
          <a:blip r:embed="rId1"/>
          <a:srcRect l="0" t="9449" r="15748" b="18898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WcByPzkWmGY"/>
          <p:cNvPicPr/>
          <p:nvPr/>
        </p:nvPicPr>
        <p:blipFill>
          <a:blip r:embed="rId2"/>
          <a:srcRect l="12626" t="14182" r="21044" b="23639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Mf8om_bz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rY1nctKA5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Пользователь Windows</cp:lastModifiedBy>
  <dcterms:modified xsi:type="dcterms:W3CDTF">2020-04-11T12:20:19Z</dcterms:modified>
  <cp:revision>19</cp:revision>
  <dc:subject/>
  <dc:title>Слайд 1</dc:title>
</cp:coreProperties>
</file>