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FA0-AA9E-4297-BD84-3A48F33E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BC9-F0AD-4150-9B2B-A81315BA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C3C-9A6B-4525-8A00-A03D0865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CCA-D297-45CD-8868-4D8816CC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4B8-194F-47B1-8E22-21BA8DEA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0A4-9E31-4E79-86B5-FEE53744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0BA-0B03-4DC5-B051-3A7336F5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1D0-7790-41CF-A6DD-AE15855E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9CB-46F0-4B3B-B5C5-F54884D8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6B9-C42E-41FA-80EC-B7E4450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8E9-F8A9-4F2C-8597-9376B80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D17-C24D-41A5-B5C5-9C1B803C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C59F-3A4E-4513-BC16-7B5B12EBD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brovkov_d@mail.ru</cp:lastModifiedBy>
  <dcterms:modified xsi:type="dcterms:W3CDTF">2015-06-20T12:35:11Z</dcterms:modified>
  <cp:revision>17</cp:revision>
  <dc:subject/>
  <dc:title>Слайд 1</dc:title>
</cp:coreProperties>
</file>