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0E4-A4C0-48A2-B0C7-0E784234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DCB-4307-42FA-8767-B6969A87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35A-57EA-4747-8E19-8A6B2FD4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EFF-64CE-4FF7-87EC-C32A8D8A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4EC-8A10-49BE-9D57-05F47682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507-D203-40F4-A157-7104B4D0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9ED-C826-41B4-90D8-9BAEDC5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E16-F79B-40AB-A179-0C8716C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E5B-5105-4F07-8B7D-5EDD8F6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405-8A19-4024-B1FE-3FA5F5A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229-F73E-447B-99A6-38909268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5A9-A190-4A12-886E-46BD6B6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A51D-3F63-428B-9F13-BDAC0F746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9976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5c01"/>
                </a:solidFill>
                <a:latin typeface="Calibri"/>
              </a:rPr>
              <a:t>Растяжение связок и вывих 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571920" y="442908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рс внеурочной деятельности «Будь здор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Шилова В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лицей «МОК № 2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Джанкой Республика Кр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169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Что такое вывихи, ушибы и перелом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ихи, растяжения, ушибы и разрывы, при которых повреждаются мышцы и суставы - это травмы, характерные для людей, занимающихся спортом. Однако травму можно получить и во время отды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312130.jpg"/>
          <p:cNvPicPr/>
          <p:nvPr/>
        </p:nvPicPr>
        <p:blipFill>
          <a:blip r:embed="rId1"/>
          <a:stretch/>
        </p:blipFill>
        <p:spPr>
          <a:xfrm>
            <a:off x="214200" y="3429000"/>
            <a:ext cx="2286000" cy="3094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stiramento_muscolare.jpg"/>
          <p:cNvPicPr/>
          <p:nvPr/>
        </p:nvPicPr>
        <p:blipFill>
          <a:blip r:embed="rId2"/>
          <a:stretch/>
        </p:blipFill>
        <p:spPr>
          <a:xfrm>
            <a:off x="6715080" y="3714840"/>
            <a:ext cx="21560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80511528.jpg"/>
          <p:cNvPicPr/>
          <p:nvPr/>
        </p:nvPicPr>
        <p:blipFill>
          <a:blip r:embed="rId3"/>
          <a:stretch/>
        </p:blipFill>
        <p:spPr>
          <a:xfrm>
            <a:off x="2916360" y="3429000"/>
            <a:ext cx="3240000" cy="266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Вывих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920" y="1000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нарушение целостности сустава со взаимным смещением суставных концов костей. Обычно вывих сопровождается разрывом суставной капсулы и связок, иногда повреждением кровеносных сосудов, нервов и кожи. Наиболее часто встречается вывих плечевого суст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clip_image002.jpg"/>
          <p:cNvPicPr/>
          <p:nvPr/>
        </p:nvPicPr>
        <p:blipFill>
          <a:blip r:embed="rId1"/>
          <a:stretch/>
        </p:blipFill>
        <p:spPr>
          <a:xfrm>
            <a:off x="4429080" y="1285920"/>
            <a:ext cx="41036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i.jpg"/>
          <p:cNvPicPr/>
          <p:nvPr/>
        </p:nvPicPr>
        <p:blipFill>
          <a:blip r:embed="rId2"/>
          <a:stretch/>
        </p:blipFill>
        <p:spPr>
          <a:xfrm>
            <a:off x="4286160" y="4071960"/>
            <a:ext cx="4430880" cy="2300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720" y="5876640"/>
            <a:ext cx="1839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60280"/>
            <a:ext cx="7775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признаки травматического вывиха: резкая боль, изменения формы сустава, невозможность движений в нем или их ограни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i (1).jpg"/>
          <p:cNvPicPr/>
          <p:nvPr/>
        </p:nvPicPr>
        <p:blipFill>
          <a:blip r:embed="rId1"/>
          <a:stretch/>
        </p:blipFill>
        <p:spPr>
          <a:xfrm>
            <a:off x="500040" y="1571760"/>
            <a:ext cx="3089160" cy="2084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im_20121226203029_20846.jpg"/>
          <p:cNvPicPr/>
          <p:nvPr/>
        </p:nvPicPr>
        <p:blipFill>
          <a:blip r:embed="rId2"/>
          <a:stretch/>
        </p:blipFill>
        <p:spPr>
          <a:xfrm>
            <a:off x="4071960" y="1500120"/>
            <a:ext cx="4311720" cy="2156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Fibromyalgie-Syndrom.jpg"/>
          <p:cNvPicPr/>
          <p:nvPr/>
        </p:nvPicPr>
        <p:blipFill>
          <a:blip r:embed="rId3"/>
          <a:stretch/>
        </p:blipFill>
        <p:spPr>
          <a:xfrm>
            <a:off x="2428920" y="3786120"/>
            <a:ext cx="4236840" cy="2822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320" y="785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равление вывихов производят в основном ручными приемами, но для выполнения их нужны специальные знания и навыки, неумелые попытки могут лишь увеличить тяжесть повреж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IMG_5213.jpg"/>
          <p:cNvPicPr/>
          <p:nvPr/>
        </p:nvPicPr>
        <p:blipFill>
          <a:blip r:embed="rId1"/>
          <a:stretch/>
        </p:blipFill>
        <p:spPr>
          <a:xfrm>
            <a:off x="5805360" y="2928960"/>
            <a:ext cx="3014640" cy="3579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Enlocation.jpg"/>
          <p:cNvPicPr/>
          <p:nvPr/>
        </p:nvPicPr>
        <p:blipFill>
          <a:blip r:embed="rId2"/>
          <a:stretch/>
        </p:blipFill>
        <p:spPr>
          <a:xfrm>
            <a:off x="328680" y="2786040"/>
            <a:ext cx="4952880" cy="3000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360" y="404640"/>
            <a:ext cx="4960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казании первой помощи нужно закрепить пострадавшую конечность так, чтобы не изменить положения вывихнутого сустава. Для этого наложить фиксирующую повязку типа косынка или шину; можно прибинтовать руку к туловищу. К месту вывиха нужно приложить грелку с холодной водой или льдом, либо смоченное холодной водой полотенце. Вывих должен быть немедленно вправлен, поэтому пострадавшего нужно доставить в ближайшую боль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5_html_m711322d1.jpg"/>
          <p:cNvPicPr/>
          <p:nvPr/>
        </p:nvPicPr>
        <p:blipFill>
          <a:blip r:embed="rId1"/>
          <a:stretch/>
        </p:blipFill>
        <p:spPr>
          <a:xfrm>
            <a:off x="5857920" y="142920"/>
            <a:ext cx="287964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pg-incentives-to-lose-weight-03-full.jpg"/>
          <p:cNvPicPr/>
          <p:nvPr/>
        </p:nvPicPr>
        <p:blipFill>
          <a:blip r:embed="rId2"/>
          <a:stretch/>
        </p:blipFill>
        <p:spPr>
          <a:xfrm>
            <a:off x="6357960" y="2571840"/>
            <a:ext cx="1967040" cy="1966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2731_1332273874_0b657.jpg"/>
          <p:cNvPicPr/>
          <p:nvPr/>
        </p:nvPicPr>
        <p:blipFill>
          <a:blip r:embed="rId3"/>
          <a:stretch/>
        </p:blipFill>
        <p:spPr>
          <a:xfrm>
            <a:off x="6429240" y="4643280"/>
            <a:ext cx="1694160" cy="185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Растя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125000"/>
            <a:ext cx="4462560" cy="516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тя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повреждение связок сустава, в результате их перерастяжения. Это одна из самых распространенных травм спортсменов. Во время травмы чаще всего повреждаются суставные мышцы, сухожилия и связки. Причина растяжения - насильственное движение в суставе. Растяжению могут подвергаться связки любого сустава, но чаще всего травмируются связки верхних и нижних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1350987488_boli-v-sustavah.jpg"/>
          <p:cNvPicPr/>
          <p:nvPr/>
        </p:nvPicPr>
        <p:blipFill>
          <a:blip r:embed="rId1"/>
          <a:stretch/>
        </p:blipFill>
        <p:spPr>
          <a:xfrm>
            <a:off x="5072040" y="857160"/>
            <a:ext cx="3873600" cy="2905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bolezni-sustavov7.jpg"/>
          <p:cNvPicPr/>
          <p:nvPr/>
        </p:nvPicPr>
        <p:blipFill>
          <a:blip r:embed="rId2"/>
          <a:stretch/>
        </p:blipFill>
        <p:spPr>
          <a:xfrm>
            <a:off x="5786280" y="4000680"/>
            <a:ext cx="2737080" cy="2601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0" y="3530160"/>
            <a:ext cx="2992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симптомы растяжения связок это сильная боль в области сустава. Часто бывает так, что сразу после травмы пострадавший не чувствует боли и может совершать движения в поврежденном сустав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entorse5.jpg"/>
          <p:cNvPicPr/>
          <p:nvPr/>
        </p:nvPicPr>
        <p:blipFill>
          <a:blip r:embed="rId1"/>
          <a:stretch/>
        </p:blipFill>
        <p:spPr>
          <a:xfrm>
            <a:off x="928800" y="2500200"/>
            <a:ext cx="6696000" cy="354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400" y="836640"/>
            <a:ext cx="8358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целью обездвижения сустава наложить тугую повязку на область травмированного сустава. При подозрении на разрыв связок надо наложить шину из подручных средств. Чтобы уменьшить боль и отек, на место растяжения связок на первые два часа надо положить пузырь со льдом или полотенце, смоченное холодной водой. При появлении кровоподтеков необходимо придать конечности возвышенное по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101411_1044_1.png"/>
          <p:cNvPicPr/>
          <p:nvPr/>
        </p:nvPicPr>
        <p:blipFill>
          <a:blip r:embed="rId1"/>
          <a:stretch/>
        </p:blipFill>
        <p:spPr>
          <a:xfrm>
            <a:off x="500040" y="3857760"/>
            <a:ext cx="379260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karta_tokio_metro_8872_3.jpg"/>
          <p:cNvPicPr/>
          <p:nvPr/>
        </p:nvPicPr>
        <p:blipFill>
          <a:blip r:embed="rId2"/>
          <a:stretch/>
        </p:blipFill>
        <p:spPr>
          <a:xfrm>
            <a:off x="6072120" y="3714840"/>
            <a:ext cx="2733840" cy="279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57:48Z</dcterms:created>
  <dc:creator>1</dc:creator>
  <dc:description/>
  <dc:language>en-US</dc:language>
  <cp:lastModifiedBy>Ирина</cp:lastModifiedBy>
  <dcterms:modified xsi:type="dcterms:W3CDTF">2020-04-11T09:40:23Z</dcterms:modified>
  <cp:revision>12</cp:revision>
  <dc:subject/>
  <dc:title>Вывих, растяжение, перелом. Первая помощь.</dc:title>
</cp:coreProperties>
</file>