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1ED9-38E3-4D3A-9D43-ACFF82C25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EAB0-52CE-4698-9201-400AC4941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37E-0DE5-4744-B3AA-F824F0941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F7EC3-E71F-4D22-9382-8CE99846F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7142A-BC66-4B27-894C-EF745DC70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56A32-F8B7-42C1-8E14-5A5BC8F19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B1A2-C49F-419F-8B65-581CD01C0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7A68A-28BB-4BA2-9CA7-D5BD96E1E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0516D-DA53-46ED-93AC-5099D9D9C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BE593-4482-41F7-8AB8-285CEDF52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2B14-685E-41F3-9724-0BD7E71CD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4B183-9081-4E5A-91E6-A568B1136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E5C20-DC46-4CD3-B112-F2063CE74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C0F55-8DD8-4172-9791-0625D54A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258E5-B91D-4876-852F-80D2EE068B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0FA56-F61F-404C-8D57-D1E0558DC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FF26C-20D3-4CFF-BC2E-D222F8943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3418B9-F395-40C8-B056-A33F948E61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3FEEB9-411A-4365-AB95-A9D3FA531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2BD83A-9D4F-4AC8-9D3F-51FA42F1F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49CB58-6E8A-49D9-92A8-50F3D5A19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778C1BF-13AF-4E90-998E-D7E38372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00592-967A-414E-8FB8-E7F14356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D31E70E-087D-4CE9-B360-1FB2C422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59BBDAA-54F7-42EF-B979-D8EF7E861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FCF9F0-0DC6-45EB-8A43-0417836C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E6446A-79C2-498B-BBBC-B846F6FC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8962AE4-7D92-4E58-8E49-9BED3BEC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1839ED7-E7F9-41B2-B010-69CD8738A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2D8B0A6-535F-4BBA-B43D-DC210AB76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D48AB3-5B75-413E-89A4-2BD38D9AB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1E67F4-79BF-469C-B6BD-1C1BDAC40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FC6E36-6E76-458C-89B5-474BE5B5D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A7C3-2C15-4AA4-88BF-5A469E895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D63CE-61D7-4211-A9BB-0305C3A88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505FEA-AE59-4947-9EAA-F1C3C443B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BD2083-85F4-4187-AFC6-17C4313A0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CE54DD-BA69-478B-A5AD-067E06E3D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9368B-45F5-4E4A-85B9-33DD4B2B6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0EF61F-1BAC-4E92-A7C8-DEBD5018D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5CA992-C214-49F3-B027-7C81BA215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114D10-CA12-4A31-8D35-576CF058B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13AABF-D2E9-4362-B7E9-49A5FBC79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29948-9675-4F40-83DE-0B1996EA9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EA64F-0F23-46F4-AD83-8E3E5D2E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99C-0838-4478-8A8F-D264DAC5E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A511B-B9E8-4A93-81BC-B9FE2590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48C12-2E44-4E76-B74F-53743281B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A05AA-2533-4745-915D-D51B5A10AC65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оугольник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Скругленный прямоугольник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Скругленный прямоугольник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6A807-418D-4178-A99F-3DB77D2A95BB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01362-83AB-4531-8B00-3C2EE0FD00F0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Прямоугольник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Прямоугольник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Прямоугольник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Прямоугольник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Прямоугольник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62DC7-F940-434A-86B4-88E6EACF3FBF}" type="slidenum">
              <a:rPr b="0" lang="ru-RU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WordArt 4"/>
          <p:cNvSpPr txBox="1"/>
          <p:nvPr/>
        </p:nvSpPr>
        <p:spPr>
          <a:xfrm rot="168000">
            <a:off x="834840" y="3212640"/>
            <a:ext cx="1792080" cy="295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ff9900"/>
                    </a:gs>
                    <a:gs pos="50000">
                      <a:srgbClr val="0066ff"/>
                    </a:gs>
                    <a:gs pos="100000">
                      <a:srgbClr val="ff9900"/>
                    </a:gs>
                  </a:gsLst>
                  <a:lin ang="2532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+mn-lt"/>
              </a:rPr>
              <a:t> </a:t>
            </a:r>
            <a:endParaRPr b="0" lang="en-US" sz="1800" spc="1" strike="noStrike">
              <a:ln w="0">
                <a:noFill/>
              </a:ln>
              <a:gradFill rotWithShape="0">
                <a:gsLst>
                  <a:gs pos="0">
                    <a:srgbClr val="ff9900"/>
                  </a:gs>
                  <a:gs pos="50000">
                    <a:srgbClr val="0066ff"/>
                  </a:gs>
                  <a:gs pos="100000">
                    <a:srgbClr val="ff9900"/>
                  </a:gs>
                </a:gsLst>
                <a:lin ang="2532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+mn-lt"/>
              <a:ea typeface="+mn-lt"/>
            </a:endParaRPr>
          </a:p>
        </p:txBody>
      </p:sp>
      <p:sp>
        <p:nvSpPr>
          <p:cNvPr id="215" name="TextBox 1"/>
          <p:cNvSpPr/>
          <p:nvPr/>
        </p:nvSpPr>
        <p:spPr>
          <a:xfrm>
            <a:off x="763560" y="1442880"/>
            <a:ext cx="719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Презентация на тему : Синус, косинус,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ffffff"/>
                </a:solidFill>
                <a:latin typeface="Garamond"/>
              </a:rPr>
              <a:t>тангенс угла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"/>
          <p:cNvSpPr/>
          <p:nvPr/>
        </p:nvSpPr>
        <p:spPr>
          <a:xfrm>
            <a:off x="4325760" y="5451480"/>
            <a:ext cx="4716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ил : ученик 9 «А» класса МБОУ СШ №3 Сергеев Матв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: Кислова Светлана Игор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Прямоугольный треугольник 1"/>
          <p:cNvSpPr/>
          <p:nvPr/>
        </p:nvSpPr>
        <p:spPr>
          <a:xfrm>
            <a:off x="1332000" y="1413000"/>
            <a:ext cx="2087640" cy="2376360"/>
          </a:xfrm>
          <a:prstGeom prst="rtTriangle">
            <a:avLst/>
          </a:prstGeom>
          <a:solidFill>
            <a:srgbClr val="ffffff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Georgia"/>
              </a:rPr>
              <a:t>M (cos α; sin 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Box 2"/>
          <p:cNvSpPr/>
          <p:nvPr/>
        </p:nvSpPr>
        <p:spPr>
          <a:xfrm>
            <a:off x="996120" y="10429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Box 3"/>
          <p:cNvSpPr/>
          <p:nvPr/>
        </p:nvSpPr>
        <p:spPr>
          <a:xfrm>
            <a:off x="3436200" y="37893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"/>
          <p:cNvSpPr/>
          <p:nvPr/>
        </p:nvSpPr>
        <p:spPr>
          <a:xfrm>
            <a:off x="983160" y="378936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Прямоугольник 5"/>
          <p:cNvSpPr/>
          <p:nvPr/>
        </p:nvSpPr>
        <p:spPr>
          <a:xfrm>
            <a:off x="2918520" y="3429000"/>
            <a:ext cx="31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6"/>
          <p:cNvSpPr/>
          <p:nvPr/>
        </p:nvSpPr>
        <p:spPr>
          <a:xfrm>
            <a:off x="5225400" y="2349360"/>
            <a:ext cx="1056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g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7"/>
          <p:cNvSpPr/>
          <p:nvPr/>
        </p:nvSpPr>
        <p:spPr>
          <a:xfrm>
            <a:off x="983160" y="2563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2222280" y="3917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TextBox 9"/>
          <p:cNvSpPr/>
          <p:nvPr/>
        </p:nvSpPr>
        <p:spPr>
          <a:xfrm>
            <a:off x="2379240" y="2193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2"/>
          <p:cNvSpPr/>
          <p:nvPr/>
        </p:nvSpPr>
        <p:spPr>
          <a:xfrm>
            <a:off x="8620920" y="6396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TextBox 1"/>
          <p:cNvSpPr/>
          <p:nvPr/>
        </p:nvSpPr>
        <p:spPr>
          <a:xfrm>
            <a:off x="8632080" y="6396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"/>
          <p:cNvSpPr/>
          <p:nvPr/>
        </p:nvSpPr>
        <p:spPr>
          <a:xfrm>
            <a:off x="3568680" y="836640"/>
            <a:ext cx="2378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3"/>
          <p:cNvSpPr/>
          <p:nvPr/>
        </p:nvSpPr>
        <p:spPr>
          <a:xfrm>
            <a:off x="975600" y="1757520"/>
            <a:ext cx="1778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Учеб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Интерн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Box 1"/>
          <p:cNvSpPr/>
          <p:nvPr/>
        </p:nvSpPr>
        <p:spPr>
          <a:xfrm>
            <a:off x="1649520" y="2997360"/>
            <a:ext cx="6157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пасибо за внимание 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197640" y="765000"/>
            <a:ext cx="85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ели презентации :1) Дать знания по теме синус , косинус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тангенс. 2)Научить  пользоваться определениями 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улами по этой теме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2"/>
          <p:cNvSpPr/>
          <p:nvPr/>
        </p:nvSpPr>
        <p:spPr>
          <a:xfrm>
            <a:off x="3213720" y="2287440"/>
            <a:ext cx="256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3"/>
          <p:cNvSpPr/>
          <p:nvPr/>
        </p:nvSpPr>
        <p:spPr>
          <a:xfrm>
            <a:off x="343080" y="2906640"/>
            <a:ext cx="69717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3.Синус,косинус и танген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4.Формулы синуса , косинуса и танге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5.Значения синуса , косинуса и тангенс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6. Основное тригонометрическое тождест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7.Формулы привед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8. Формулы для вычисления координат точ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9-10.Зада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.11.Литерат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Прямоугольник 1"/>
          <p:cNvSpPr/>
          <p:nvPr/>
        </p:nvSpPr>
        <p:spPr>
          <a:xfrm>
            <a:off x="1275120" y="950760"/>
            <a:ext cx="629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нус, косинус, тангенс уг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Прямоугольник 2"/>
          <p:cNvSpPr/>
          <p:nvPr/>
        </p:nvSpPr>
        <p:spPr>
          <a:xfrm>
            <a:off x="2268360" y="1844640"/>
            <a:ext cx="45720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инус угла (sin α) - отношение противолежащего этому углу катета к гипотену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синус угла (cosα) - отношение прилежащего катета к гипотенуз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ангенс угла (tg α) - отношение противолежащего катета к прилежаще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1"/>
          <p:cNvSpPr/>
          <p:nvPr/>
        </p:nvSpPr>
        <p:spPr>
          <a:xfrm>
            <a:off x="87912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ый треугольник 1"/>
          <p:cNvSpPr/>
          <p:nvPr/>
        </p:nvSpPr>
        <p:spPr>
          <a:xfrm>
            <a:off x="539640" y="1557360"/>
            <a:ext cx="4176720" cy="1727280"/>
          </a:xfrm>
          <a:prstGeom prst="rtTriangl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"/>
          <p:cNvSpPr/>
          <p:nvPr/>
        </p:nvSpPr>
        <p:spPr>
          <a:xfrm>
            <a:off x="4718880" y="3146400"/>
            <a:ext cx="41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3"/>
          <p:cNvSpPr/>
          <p:nvPr/>
        </p:nvSpPr>
        <p:spPr>
          <a:xfrm>
            <a:off x="200520" y="10796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4"/>
          <p:cNvSpPr/>
          <p:nvPr/>
        </p:nvSpPr>
        <p:spPr>
          <a:xfrm>
            <a:off x="295920" y="32716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Рисунок 7" descr=""/>
          <p:cNvPicPr/>
          <p:nvPr/>
        </p:nvPicPr>
        <p:blipFill>
          <a:blip r:embed="rId1"/>
          <a:stretch/>
        </p:blipFill>
        <p:spPr>
          <a:xfrm>
            <a:off x="5508720" y="1636560"/>
            <a:ext cx="2923920" cy="3543480"/>
          </a:xfrm>
          <a:prstGeom prst="rect">
            <a:avLst/>
          </a:prstGeom>
          <a:ln w="0">
            <a:noFill/>
          </a:ln>
        </p:spPr>
      </p:pic>
      <p:sp>
        <p:nvSpPr>
          <p:cNvPr id="228" name="TextBox 8"/>
          <p:cNvSpPr/>
          <p:nvPr/>
        </p:nvSpPr>
        <p:spPr>
          <a:xfrm>
            <a:off x="3627720" y="882720"/>
            <a:ext cx="217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"/>
          <p:cNvSpPr/>
          <p:nvPr/>
        </p:nvSpPr>
        <p:spPr>
          <a:xfrm>
            <a:off x="8791200" y="6397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Рисунок 4" descr=""/>
          <p:cNvPicPr/>
          <p:nvPr/>
        </p:nvPicPr>
        <p:blipFill>
          <a:blip r:embed="rId1"/>
          <a:stretch/>
        </p:blipFill>
        <p:spPr>
          <a:xfrm>
            <a:off x="793800" y="952560"/>
            <a:ext cx="7556400" cy="4952880"/>
          </a:xfrm>
          <a:prstGeom prst="rect">
            <a:avLst/>
          </a:prstGeom>
          <a:ln w="0">
            <a:noFill/>
          </a:ln>
        </p:spPr>
      </p:pic>
      <p:sp>
        <p:nvSpPr>
          <p:cNvPr id="231" name="TextBox 5"/>
          <p:cNvSpPr/>
          <p:nvPr/>
        </p:nvSpPr>
        <p:spPr>
          <a:xfrm>
            <a:off x="3402720" y="628560"/>
            <a:ext cx="2338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Знач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1"/>
          <p:cNvSpPr/>
          <p:nvPr/>
        </p:nvSpPr>
        <p:spPr>
          <a:xfrm>
            <a:off x="8791200" y="641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Прямоугольник 1"/>
          <p:cNvSpPr/>
          <p:nvPr/>
        </p:nvSpPr>
        <p:spPr>
          <a:xfrm>
            <a:off x="2268360" y="69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Основное тригонометрическо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тождеств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Прямоугольник 2"/>
          <p:cNvSpPr/>
          <p:nvPr/>
        </p:nvSpPr>
        <p:spPr>
          <a:xfrm>
            <a:off x="2286000" y="2413080"/>
            <a:ext cx="457200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2 + у2 = 1 - уравнение окружн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sin α = y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sin2α + cos2α =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Прямоугольник 3"/>
          <p:cNvSpPr/>
          <p:nvPr/>
        </p:nvSpPr>
        <p:spPr>
          <a:xfrm>
            <a:off x="2268360" y="46530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любого α из промежутка 0° ≤ α ≤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Box 1"/>
          <p:cNvSpPr/>
          <p:nvPr/>
        </p:nvSpPr>
        <p:spPr>
          <a:xfrm>
            <a:off x="88236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Овал 7"/>
          <p:cNvSpPr/>
          <p:nvPr/>
        </p:nvSpPr>
        <p:spPr>
          <a:xfrm>
            <a:off x="755640" y="1628640"/>
            <a:ext cx="2736720" cy="129564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Прямоугольник 1"/>
          <p:cNvSpPr/>
          <p:nvPr/>
        </p:nvSpPr>
        <p:spPr>
          <a:xfrm>
            <a:off x="2209320" y="766800"/>
            <a:ext cx="48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ы привед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Прямоугольник 2"/>
          <p:cNvSpPr/>
          <p:nvPr/>
        </p:nvSpPr>
        <p:spPr>
          <a:xfrm>
            <a:off x="982440" y="177336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(90° - α) = cos 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Прямоугольник 3"/>
          <p:cNvSpPr/>
          <p:nvPr/>
        </p:nvSpPr>
        <p:spPr>
          <a:xfrm>
            <a:off x="982440" y="2276640"/>
            <a:ext cx="21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 (90° - α) = sin 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Прямоугольник 4"/>
          <p:cNvSpPr/>
          <p:nvPr/>
        </p:nvSpPr>
        <p:spPr>
          <a:xfrm>
            <a:off x="3861720" y="1981080"/>
            <a:ext cx="182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0°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 ≤ 9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Овал 10"/>
          <p:cNvSpPr/>
          <p:nvPr/>
        </p:nvSpPr>
        <p:spPr>
          <a:xfrm>
            <a:off x="539640" y="3716280"/>
            <a:ext cx="3168720" cy="136836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Прямоугольник 5"/>
          <p:cNvSpPr/>
          <p:nvPr/>
        </p:nvSpPr>
        <p:spPr>
          <a:xfrm>
            <a:off x="971640" y="38908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sin (180° - α)= sin 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s (180° - α) = - cos 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Прямоугольник 6"/>
          <p:cNvSpPr/>
          <p:nvPr/>
        </p:nvSpPr>
        <p:spPr>
          <a:xfrm>
            <a:off x="4078800" y="4167360"/>
            <a:ext cx="195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 0° ≤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 ≤ 180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"/>
          <p:cNvSpPr/>
          <p:nvPr/>
        </p:nvSpPr>
        <p:spPr>
          <a:xfrm>
            <a:off x="87912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1"/>
          <p:cNvSpPr/>
          <p:nvPr/>
        </p:nvSpPr>
        <p:spPr>
          <a:xfrm>
            <a:off x="2303640" y="692280"/>
            <a:ext cx="4572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Формулы для вычисл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координат точ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Прямоугольник 2"/>
          <p:cNvSpPr/>
          <p:nvPr/>
        </p:nvSpPr>
        <p:spPr>
          <a:xfrm>
            <a:off x="4284720" y="27082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(x; y) – произвольная точ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 (сos α; sin 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"/>
          <p:cNvPicPr/>
          <p:nvPr/>
        </p:nvPicPr>
        <p:blipFill>
          <a:blip r:embed="rId1"/>
          <a:stretch/>
        </p:blipFill>
        <p:spPr>
          <a:xfrm>
            <a:off x="4784760" y="4076640"/>
            <a:ext cx="1838160" cy="42876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"/>
          <p:cNvPicPr/>
          <p:nvPr/>
        </p:nvPicPr>
        <p:blipFill>
          <a:blip r:embed="rId2"/>
          <a:stretch/>
        </p:blipFill>
        <p:spPr>
          <a:xfrm>
            <a:off x="4875120" y="4505400"/>
            <a:ext cx="952560" cy="428400"/>
          </a:xfrm>
          <a:prstGeom prst="rect">
            <a:avLst/>
          </a:prstGeom>
          <a:ln w="0">
            <a:noFill/>
          </a:ln>
        </p:spPr>
      </p:pic>
      <p:sp>
        <p:nvSpPr>
          <p:cNvPr id="250" name="Овал 5"/>
          <p:cNvSpPr/>
          <p:nvPr/>
        </p:nvSpPr>
        <p:spPr>
          <a:xfrm>
            <a:off x="4425840" y="5516640"/>
            <a:ext cx="2449800" cy="647640"/>
          </a:xfrm>
          <a:prstGeom prst="ellipse">
            <a:avLst/>
          </a:prstGeom>
          <a:solidFill>
            <a:srgbClr val="53548a"/>
          </a:solidFill>
          <a:ln w="19080">
            <a:solidFill>
              <a:srgbClr val="3b3b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3"/>
          <a:stretch/>
        </p:blipFill>
        <p:spPr>
          <a:xfrm>
            <a:off x="4875120" y="4940280"/>
            <a:ext cx="1581120" cy="39060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3"/>
          <p:cNvSpPr/>
          <p:nvPr/>
        </p:nvSpPr>
        <p:spPr>
          <a:xfrm>
            <a:off x="4875120" y="551664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x = ОА ∙ cos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 = OA ∙ sin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4"/>
          <a:stretch/>
        </p:blipFill>
        <p:spPr>
          <a:xfrm>
            <a:off x="176040" y="2517840"/>
            <a:ext cx="4249800" cy="397512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4"/>
          <p:cNvSpPr/>
          <p:nvPr/>
        </p:nvSpPr>
        <p:spPr>
          <a:xfrm>
            <a:off x="2826000" y="3583080"/>
            <a:ext cx="175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M (cos α; sin α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"/>
          <p:cNvSpPr/>
          <p:nvPr/>
        </p:nvSpPr>
        <p:spPr>
          <a:xfrm>
            <a:off x="87912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Рисунок 1" descr=""/>
          <p:cNvPicPr/>
          <p:nvPr/>
        </p:nvPicPr>
        <p:blipFill>
          <a:blip r:embed="rId1"/>
          <a:stretch/>
        </p:blipFill>
        <p:spPr>
          <a:xfrm>
            <a:off x="1258920" y="1341360"/>
            <a:ext cx="6835680" cy="4327560"/>
          </a:xfrm>
          <a:prstGeom prst="rect">
            <a:avLst/>
          </a:prstGeom>
          <a:ln w="0">
            <a:noFill/>
          </a:ln>
        </p:spPr>
      </p:pic>
      <p:sp>
        <p:nvSpPr>
          <p:cNvPr id="257" name="TextBox 1"/>
          <p:cNvSpPr/>
          <p:nvPr/>
        </p:nvSpPr>
        <p:spPr>
          <a:xfrm>
            <a:off x="8791200" y="63961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5T20:19:54Z</dcterms:created>
  <dc:creator>Оля</dc:creator>
  <dc:description/>
  <dc:language>en-US</dc:language>
  <cp:lastModifiedBy>Карина</cp:lastModifiedBy>
  <dcterms:modified xsi:type="dcterms:W3CDTF">2020-04-11T11:55:25Z</dcterms:modified>
  <cp:revision>82</cp:revision>
  <dc:subject/>
  <dc:title>Слайд 1</dc:title>
</cp:coreProperties>
</file>