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6AA-E06A-4C35-A480-5E51B4AE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FEF-E988-46EC-AE0D-07BA4BE3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007-9991-4298-845C-53B0118C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A7B-1540-4453-A16E-B719BAD1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8541-9974-4B37-BB64-CB80A049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6450-5C43-4306-A668-B699917B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E38E-CE37-44E5-A7D2-CED0A6FE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8042-6BE2-469C-AF73-FB21DA9B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2763-D632-4BDF-8A13-E002912F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9D95-225A-4DA8-8391-D21A727E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8C58-5764-488B-9804-A195AE4A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93A-EAB3-49C9-BB6B-FE61F785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E612-1840-42A6-AA91-8E1D3E9D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3835-30BD-4336-AD44-9059FF23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0BE5-F4AA-4000-BC1E-96CCB087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63D2-FE86-4522-9F81-3FE15B75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4027-A921-4CFC-BDF8-F5130EAB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F33-3417-48BA-B899-B8229BE7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E37-666B-43CA-9FC8-A2D9D55E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A85-53AC-4DD8-BB0F-2B7CA62E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FCD-6DA7-42CC-9718-7875E9E0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2B9-E027-4804-A1FB-137EB4F8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81A-F99F-4971-B2ED-6F70643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6A6-D203-4081-80FD-962FA44A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3D94BF-AB55-4128-9E96-EC5A87AC1EBA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461CE2-8E66-48EE-BF54-B10B447AE72E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642960"/>
            <a:ext cx="7772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cap="all">
                <a:solidFill>
                  <a:srgbClr val="4e3b30"/>
                </a:solidFill>
                <a:latin typeface="Franklin Gothic Medium"/>
              </a:rPr>
              <a:t>Сочинение </a:t>
            </a:r>
            <a:br>
              <a:rPr sz="4400"/>
            </a:br>
            <a:r>
              <a:rPr b="1" i="1" lang="ru-RU" sz="4400" spc="-1" strike="noStrike" cap="all">
                <a:solidFill>
                  <a:srgbClr val="4e3b30"/>
                </a:solidFill>
                <a:latin typeface="Franklin Gothic Medium"/>
              </a:rPr>
              <a:t>по картине </a:t>
            </a:r>
            <a:br>
              <a:rPr sz="4400"/>
            </a:br>
            <a:r>
              <a:rPr b="1" i="1" lang="ru-RU" sz="4400" spc="-1" strike="noStrike" cap="all">
                <a:solidFill>
                  <a:srgbClr val="4e3b30"/>
                </a:solidFill>
                <a:latin typeface="Franklin Gothic Medium"/>
              </a:rPr>
              <a:t>Исаака     Левитан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2960" y="2349000"/>
            <a:ext cx="8500680" cy="27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Franklin Gothic Book"/>
              </a:rPr>
              <a:t>«Весна. Большая вод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Весенние воды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261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щё в полях белеет снег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61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воды уж весной шумят-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61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гут и будят сонный брег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61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гут и блещут и гласят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61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и гласят во все концы: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61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Весна идёт! Весна идёт!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61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ы молодой весны гонцы,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61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а нас выслала вперед!»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61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. Тютчев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Наталья\Мои документы\Мои рисунки\для рабочего стола просто любимое\левитан 2.jpg"/>
          <p:cNvPicPr/>
          <p:nvPr/>
        </p:nvPicPr>
        <p:blipFill>
          <a:blip r:embed="rId1"/>
          <a:stretch/>
        </p:blipFill>
        <p:spPr>
          <a:xfrm>
            <a:off x="1643040" y="0"/>
            <a:ext cx="5836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Исаак Ильич Левитан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12380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303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Замечательный художник Исаак Левитан был мастером пейзажа. Особенно он любил рисовать природу средней полосы России. Левитан часто ездил на Волгу и там писал свои картины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6" name="Picture 2" descr="C:\Documents and Settings\Наталья\Мои документы\Мои рисунки\для рабочего стола просто любимое\левитан 2.jpg"/>
          <p:cNvPicPr/>
          <p:nvPr/>
        </p:nvPicPr>
        <p:blipFill>
          <a:blip r:embed="rId1"/>
          <a:stretch/>
        </p:blipFill>
        <p:spPr>
          <a:xfrm>
            <a:off x="4714920" y="1500120"/>
            <a:ext cx="4232880" cy="49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План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98" name="Таблица 4"/>
          <p:cNvGraphicFramePr/>
          <p:nvPr/>
        </p:nvGraphicFramePr>
        <p:xfrm>
          <a:off x="1643040" y="1428840"/>
          <a:ext cx="7286400" cy="5965920"/>
        </p:xfrm>
        <a:graphic>
          <a:graphicData uri="http://schemas.openxmlformats.org/drawingml/2006/table">
            <a:tbl>
              <a:tblPr/>
              <a:tblGrid>
                <a:gridCol w="3643200"/>
                <a:gridCol w="3643200"/>
              </a:tblGrid>
              <a:tr h="104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 Начало полово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Художник, к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тина, изобр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ил,  п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одье,  п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йзаж, река р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лилась,  подт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ила берега, прибрежный лес, ло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2.Апрельский солнечный денё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Все осв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е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щено ярким со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л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цем, г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о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лубое  небо,  ле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г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кие об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ка, пр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о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рачный воздух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3. Деревья встречают вес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Стройные б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е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рёзы,  всегда з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е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леная ель,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о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тр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жаются, смотр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т, тянутся, тёплые кра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4.Настроение кар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Ярко, праз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д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ично, сочетание теплых и х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о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лодных красок, свежесть, ожидание первой м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о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о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дой зе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е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2" descr="C:\Documents and Settings\Наталья\Мои документы\Мои рисунки\для рабочего стола просто любимое\левитан 2.jpg"/>
          <p:cNvPicPr/>
          <p:nvPr/>
        </p:nvPicPr>
        <p:blipFill>
          <a:blip r:embed="rId1"/>
          <a:stretch/>
        </p:blipFill>
        <p:spPr>
          <a:xfrm>
            <a:off x="0" y="0"/>
            <a:ext cx="170208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Любуемся картиной и пишем сочинение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1" name="Picture 2" descr="C:\Documents and Settings\Наталья\Мои документы\Мои рисунки\для рабочего стола просто любимое\левитан 2.jpg"/>
          <p:cNvPicPr/>
          <p:nvPr/>
        </p:nvPicPr>
        <p:blipFill>
          <a:blip r:embed="rId1"/>
          <a:stretch/>
        </p:blipFill>
        <p:spPr>
          <a:xfrm>
            <a:off x="2071800" y="1143000"/>
            <a:ext cx="486360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74</TotalTime>
  <Application>LibreOffice/7.4.7.2$Linux_X86_64 LibreOffice_project/40$Build-2</Application>
  <AppVersion>15.0000</AppVersion>
  <Words>173</Words>
  <Paragraphs>24</Paragraphs>
  <Company>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8:06:48Z</dcterms:created>
  <dc:creator>Наталья</dc:creator>
  <dc:description/>
  <dc:language>en-US</dc:language>
  <cp:lastModifiedBy>Пользователь</cp:lastModifiedBy>
  <dcterms:modified xsi:type="dcterms:W3CDTF">2020-04-11T07:52:26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