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9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8.png" ContentType="image/pn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B6A-C660-462A-BD10-3AB72227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361-7241-4DE0-88BD-CA4596DA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1FA-1275-4750-941D-3C2D90C1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9DD-B3F7-47D2-93D0-0660AFC5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6F4-A098-4169-8B0D-A80786D1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CFD-A25D-4C50-86FB-750D2D25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663-840B-489F-BD9B-EB10C9B4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A6F-949B-49D6-B231-1524B0FC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E8B-D03B-47B7-9497-2685EC09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934-407A-431E-98CA-22DCB382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9DC7-2ADF-429F-A8A1-4FF2C61F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1A7-CCF9-48CD-8AAD-442C435D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3072-F515-475F-8F85-776CCBF161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 технологии  в  ДОУ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Сафарова Ю.В.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2000" y="5157720"/>
            <a:ext cx="288000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Ялуторовс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i?id=453721281-30-72&amp;n=21"/>
          <p:cNvPicPr/>
          <p:nvPr/>
        </p:nvPicPr>
        <p:blipFill>
          <a:blip r:embed="rId1"/>
          <a:stretch/>
        </p:blipFill>
        <p:spPr>
          <a:xfrm>
            <a:off x="468360" y="558720"/>
            <a:ext cx="150480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i?id=570050893-32-72&amp;n=21"/>
          <p:cNvPicPr/>
          <p:nvPr/>
        </p:nvPicPr>
        <p:blipFill>
          <a:blip r:embed="rId2"/>
          <a:stretch/>
        </p:blipFill>
        <p:spPr>
          <a:xfrm>
            <a:off x="395280" y="2635200"/>
            <a:ext cx="2149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рекционные техн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5280" y="836640"/>
          <a:ext cx="8229600" cy="5807160"/>
        </p:xfrm>
        <a:graphic>
          <a:graphicData uri="http://schemas.openxmlformats.org/drawingml/2006/table">
            <a:tbl>
              <a:tblPr/>
              <a:tblGrid>
                <a:gridCol w="3672000"/>
                <a:gridCol w="4557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Ф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едицинским показаниям в группе компенсирующей направленности, проводит специ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едицинским показаниям в группе компенсирующей направленности, проводит специ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икуляционн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группах компенсирующей направленности в режимных процессах и как часть НОД по коммун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азкотера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лакс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и музыкального воз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развивающего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ющее обучение - направление в теории и практике образования, ориентирующееся на развитие физических, познавательных и нравственных способностей воспитанников обучающихся путём использования их потенциальных возможностей. Это мотивация на конкретное действия, на познание, на нов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ним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ющая среда ДОУ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рамма ДО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и исследов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ой деятельности в детском саду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дошкольников основные ключевые компетенции, способность к исследовательскому типу мыш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исследовательской деятельности могут быть выбраны доступные и интересные детям старшего дошкольного возраста типы 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5867280" y="5084640"/>
            <a:ext cx="1584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Методы и приемы организации экспериментально – исследовательской 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вристические бесе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тановка и решение вопросов проблемного характер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делирование (создание моделей об изменениях в неживой природе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ыт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ация результатов: наблюдений, опытов, экспериментов,  трудовой деятельност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ражание голосам и звукам приро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ользование художественного слов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дактические игры, игровые обучающие и творчески развивающие ситуаци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7236000" y="2205000"/>
            <a:ext cx="143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проект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витие и обогащение социально-личностного опыта посредством включения детей в сферу межличностного взаимо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и, активно использующие проектную технологию в воспитании и обучении дошкольников, единодушно отмечают, что организованная по ней жизнедеятельность в детском саду позволяет лучше узнать воспитанников, проникнуть во внутренний мир реб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3708360" y="5157720"/>
            <a:ext cx="1584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ная деятельность включает в себ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 для детей, сформулированное в виде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енаправленную детскую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ы взаимодействия детей с воспитателем, друг с другом, род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 деятельности как найденный детьми способ решения проблемы про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ектная деятельность дошкольников может бы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вательно-исследовательск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в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продолжительно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ткосрочные проекты(1 неделя- полгод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осрочные (полгода - несколько ле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«ТРИЗ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теория решения изобретательских задач)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а ученым-изобретателем Т.С. Альтшуллером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280" y="1699920"/>
            <a:ext cx="792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ь использует нетрадиционные формы работы, которые ставят ребенка в позицию думающего человека. Адаптированная к дошкольному возрасту ТРИЗ-технология позволяет воспитывать и обучать ребенка под девизом «Творчество во всем!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ользования данной технологии в детском саду являе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, с одной стороны, таких качеств мышления, как гибкость, подвижность, системность, диалектич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ругой – поисковой активности, стремления к новизн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и и творческого вообра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нформационно-коммуникацион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р, в котором развивается современный  ребенок,  коренным образом отличается от мира,   в котором выросли его родители. Это предъявляет качественно новые требования к дошкольному воспитанию как первому звену непрерывного образования: образования с использованием современных информационных технологий (компьютер, интерактивная доска, планшет и др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3276720" y="4941720"/>
            <a:ext cx="215892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772668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ехнолог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4280" y="1881360"/>
            <a:ext cx="7848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совокупность приемов, применяемых в каком-либо деле, мастерстве, искусств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толковый словарь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едагогическая технологи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совокупность психолого-педагогических установок, определяющих специальный набор и компоновку форм, методов, способов, приёмов обучения, воспитательных средств; она есть организационно - методический инструментарий педагогического процесса 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Б.Т.Лихачё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4438800" y="39852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ебенок воспитывается разными случайностями, его окружающими. Педагогика должна дать направление этим случайностям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. Ф. Одоев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реимущества компьютер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ъявление информации на экране компьютера в игровой форме вызывает у детей огромный интере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ет в себе образный тип информации, понятный дошкольника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я, звук, мультипликация надолго привлекает внимание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ет стимулом познавательной активности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ет возможность индивидуализации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цессе своей деятельности за компьютером дошкольник приобретает уверенность в себ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ет моделировать жизненные ситуации, которые нельзя увидеть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227640" y="5373720"/>
            <a:ext cx="1474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КТ в работе современного педаг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765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одбор иллюстративного материала к занятиям и для оформления стендов, группы, кабинетов (сканирование, интернет, принтер, презентация,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Подбор дополнительного познавательного материала к занятиям, знакомство со   сценариями праздников и других мероприят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Обмен опытом, знакомство с периодикой, наработками других педагогов России и зарубежь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Оформление групповой документации, отчетов. Компьютер позволит не писать отчеты и анализы каждый раз, а достаточно набрать один раз схему и в дальнейшем только вносить необходимые измен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Создание презентаций в программе Рower Рoint для повышения эффективности образовательных занятий с детьми и педагогической компетенции у родителей в процессе проведения родительских собраний. Использование мультимедийного проектора на занятиях, на педсоветах, Р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Личностно - ориентированная технология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ставят в центр всей системы дошкольного образования личность ребенка, обеспечение комфортных условий в семье и дошкольном учреждении, бесконфликтных и безопасных условий ее развития, реализация имеющихся природных потенци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технология реализуется в развивающей среде, отвечающей требованиям содержания новых образовательных програм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348000" y="4627440"/>
            <a:ext cx="23036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аправления личностно-ориентированных технолог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уманно-личностны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личающиеся своей гуманистической сущностью психолого-терапевтической направленностью на оказание помощи ребенку с ослабленным здоровьем, в период адаптации к условиям дошкольного учрежд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я сотруднич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лизует принцип демократизации дошкольного образования, равенство в отношениях педагога с ребенком, партнерство в системе взаимоотношений «Взрослый - ребенок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1"/>
          <a:stretch/>
        </p:blipFill>
        <p:spPr>
          <a:xfrm>
            <a:off x="3924360" y="5013360"/>
            <a:ext cx="17143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дагогические технологии на основе гуманизации и демократизации педагогических отношений с процессуальной ориентацией, приоритетом личностных отношений, индивидуального подхода, демократическим управлением и яркой гуманистической направленностью содержания. Таким подходом обладают новые образовательные программы «Детство», «От рождения до школы», «Радуга», «Из детства – в отрочество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ность технологического воспитательно-образовательного процесса конструируется на основе заданных исходных установок: социальный заказ (родители, общество) образовательные ориентиры, цели и содержание образования. Эти исходные установки должны конкретизировать современные подходы к оценке достижений дошкольников, а также создавать условия для индивидуальных и дифференцированных зад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противопоставляют авторитарному, обезличенному и обездушенному подходу к ребенку в традиционной технологии – атмосферу любви, заботы, сотрудничества, создают условия для творчества личност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276720" y="3284640"/>
            <a:ext cx="26622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портфолио дошкольника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фоли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копилка личных достижений ребенка в разнообразных видах деятельности, его успехов, положительных эмоций, возможность еще раз пережить приятные моменты своей жизни, это своеобразный маршрут развития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ряд функций портфоли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ностическая (фиксирует изменения и рост за определенный период времени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тельная (раскрывает весь спектр выполняемых работ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йтинговая (показывает диапазон умений и навыков ребенка)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создания портфолио является своего рода педагогической технолог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50560" y="25992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ов портфолио очень много. Содержание разделов  заполняется постепенно, в соответствии с возможностями и достижениями дошколь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имеет свою структуру, состоит из разделов. Ряд авторов предлагают собственные структуру и содержание портфолио ребенка дошкольного возрас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(папка личных достижений ребенка) позволяет осуществить индивидуальный подход к каждому ребенку и вручается при выпуске из детского сада как подарок самому ребенку и его семь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i?id=353090863-44-72&amp;n=21"/>
          <p:cNvPicPr/>
          <p:nvPr/>
        </p:nvPicPr>
        <p:blipFill>
          <a:blip r:embed="rId1"/>
          <a:stretch/>
        </p:blipFill>
        <p:spPr>
          <a:xfrm>
            <a:off x="4140360" y="5270400"/>
            <a:ext cx="16189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«Портфолио педагог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ременное образование нуждается в новом типе педагог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и думающи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деющим современными технологиями образова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ами психолого-педагогической диагности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ами самостоятельного конструирования педагогического процесса в условиях конкретной практической деятельност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м прогнозировать свой конечный результа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каждого педагога должно быть досье успехов, в котором отражается все радостное, интересное и достойное из того, что происходит в жизни педагога. Таким досье может стать портфолио педаго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позволяет учитывать результаты, достигнутые педагогом в разнообразных видах деятельности (воспитательной, учебной, творческой, социальной, коммуникативной), и является  формой оценки профессионализма и результативности работы педаго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276720" y="5373720"/>
            <a:ext cx="16588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труктура образовательной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Содержимое 4" descr=""/>
          <p:cNvPicPr/>
          <p:nvPr/>
        </p:nvPicPr>
        <p:blipFill>
          <a:blip r:embed="rId1"/>
          <a:stretch/>
        </p:blipFill>
        <p:spPr>
          <a:xfrm>
            <a:off x="450720" y="1706400"/>
            <a:ext cx="826632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гровая технолог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ые технологии тесно связаны со всеми сторонами воспитательной и образовательной работы детского сада и решением его основных задач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организации режиссерских игр у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организации сюжетно-ролевых иг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i?id=982326287-43-72&amp;n=21"/>
          <p:cNvPicPr/>
          <p:nvPr/>
        </p:nvPicPr>
        <p:blipFill>
          <a:blip r:embed="rId1"/>
          <a:stretch/>
        </p:blipFill>
        <p:spPr>
          <a:xfrm>
            <a:off x="5219640" y="4508640"/>
            <a:ext cx="208764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оится как целостное образование, охватывающее определенную часть учебного процесса и объединенное общим содержанием, сюжетом, персонажем. В нее включаются последовательн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 на обобщение предметов по определенным признака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оспитывающих умение владеть собой, быстроту реакции на слово, фонематический слух, смекалку и д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  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ставление игровых технологий из отдельных игр и элементов - забота каждого воспитател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интегрированного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ажина С.Д. «Технология интегрированного занятия в ДОУ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грирование соединяет знания из разных образовательных областей на равноправной основе, дополняя друг друга. При этом решается несколько задач развития. В форме интегрированной НОД лучше проводить обобщение материала, итоговые мероприя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Нетрадиционные техники рисован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В. Никитина «Нетрадиционные техники рисования в детском сад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Н. Давыдова «Нетрадиционные техники рисования в детском сад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.А.Цквитария «Нетрадиционные техники рисования.Интегрированные занятия в ДО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.К. Утробина «Увлекательное рисование методом тычка с детьми 3-7 л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й подход, то есть новые педагогические технологии гарантируют достижения дошкольника и в дальнейшем гарантируют их успешное обучение в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педагог – творец технологии, даже если имеет дело с заимствованиями. Создание технологии невозможно без творчества. Для педагога, научившегося работать на технологическом уровне, всегда будет главным ориентиром познавательный процесс в его развивающемся состоя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в наших руках, поэтому их нельзя опуск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4643280" y="4653000"/>
            <a:ext cx="1368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Человек не может по настоящему усовершенствоваться, если не помогает усовершенствоваться друг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арльз Дикке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ите сами. Как нет детей без воображения, так нет и педагога без творческих порыв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ческих Вам успехов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635280" y="4429080"/>
            <a:ext cx="25210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развивающего обуч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портфолио дошкольника и воспитател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ая технолог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«ТРИЗ» и др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4" descr="j0428113[1]"/>
          <p:cNvPicPr/>
          <p:nvPr/>
        </p:nvPicPr>
        <p:blipFill>
          <a:blip r:embed="rId1"/>
          <a:stretch/>
        </p:blipFill>
        <p:spPr>
          <a:xfrm>
            <a:off x="6516720" y="4508640"/>
            <a:ext cx="1871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Здоровьесберегающие  технолог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х технологий являетс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ребенку возможности сохранения здоровья, формирование у него необходимых знаний, умений, навыков по здоровому образу жизн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 включают все аспекты воздействия педагога на здоровье ребенка на разных уровнях — информационном, психологическом, био­энергетическ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?id=365692677-66-72&amp;n=21"/>
          <p:cNvPicPr/>
          <p:nvPr/>
        </p:nvPicPr>
        <p:blipFill>
          <a:blip r:embed="rId1"/>
          <a:stretch/>
        </p:blipFill>
        <p:spPr>
          <a:xfrm>
            <a:off x="4427640" y="50846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временных условиях развитие человека невозможно без построения системы формирования его здоровья. Выбор здоровьесберегающих педагогических технологий зависи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ипа дошкольного учрежде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продолжительности пребывания в нем дете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программы, по которой работают педагог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кретных условий ДО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фессиональной компетентности педагог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ателей здоровь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i?id=982326287-43-72&amp;n=21"/>
          <p:cNvPicPr/>
          <p:nvPr/>
        </p:nvPicPr>
        <p:blipFill>
          <a:blip r:embed="rId1"/>
          <a:stretch/>
        </p:blipFill>
        <p:spPr>
          <a:xfrm>
            <a:off x="5508720" y="5272200"/>
            <a:ext cx="17971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964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сохранения и стимулирования здоровь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836640"/>
          <a:ext cx="8280360" cy="511632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ьчиков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младшего возраста, с подгруппой и всей группой ежеднев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ческие пау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 время НОД, 3-5 мин. По мере утомления детей со 2-й младшей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настика для гл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 по 3-5 мин. В зависимости от интенсивности нагрузки, может включаться в физкультминутки во время Н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ыхательн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разных формах физкультурно-оздоровительной работы, начиная с младше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24000" y="333360"/>
          <a:ext cx="8351640" cy="5089680"/>
        </p:xfrm>
        <a:graphic>
          <a:graphicData uri="http://schemas.openxmlformats.org/drawingml/2006/table">
            <a:tbl>
              <a:tblPr/>
              <a:tblGrid>
                <a:gridCol w="4176720"/>
                <a:gridCol w="4174920"/>
              </a:tblGrid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дрящ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 в группе, ежеднев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масс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помощью сухого обтир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  как часть оздоровительных мероприятий со средне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аливающие мероприятия, дорожки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, ежедневно, начиная с младшего возраста. Во время НОД по физической культу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ые и спортивные игры (элементы спортивных иг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часть НОД по физической культуре, на прогулке, в группе (средней и малой степени подвижности),ежедневно, все возрастные груп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9640" y="1052640"/>
          <a:ext cx="8209080" cy="4519440"/>
        </p:xfrm>
        <a:graphic>
          <a:graphicData uri="http://schemas.openxmlformats.org/drawingml/2006/table">
            <a:tbl>
              <a:tblPr/>
              <a:tblGrid>
                <a:gridCol w="3600720"/>
                <a:gridCol w="46083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Д по физической культур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 раза в неделю все возрастные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портивном зале, в группе, на прогулке в соответствии с программ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ення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, в музыкальном и спортивном залах, в группе. Все возрастные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ия из серии «Здоровь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Шорыгина Т.А. Беседы о здоровье. Авдеева Н.Н., Князева О.Л., Стеркина Р.Б.Безопасность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 раз в неделю в режимных процессах, как часть или целая НОД по позн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культурные досуги и празд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 раз в квартал. Начиная с младшего возраста в спортивном зале, на прогул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964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обучения здоровому образу жиз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ДС</cp:lastModifiedBy>
  <dcterms:modified xsi:type="dcterms:W3CDTF">2015-12-31T05:06:32Z</dcterms:modified>
  <cp:revision>110</cp:revision>
  <dc:subject/>
  <dc:title>Слайд 1</dc:title>
</cp:coreProperties>
</file>