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C521-6C2B-44E6-8424-992EC850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1703-AE30-4931-8E5E-8B09BA73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8760-4DDA-4011-A166-AB94F666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9A73-9157-4F4B-92F9-21BEE852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8A53-241E-47BB-9750-6B77FCEC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46A1-7A6B-4EEA-9B2D-F2877243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EECE-92BE-43E0-8D1E-45BE5BDA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6672-290E-4AE7-A4E5-2380742E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FBFB-C4AC-4470-A967-57338F4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A1E7-B632-43B0-9171-CC727926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024E-CDC6-4BF5-9B73-71E37EA1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4CC3-AC02-4E83-9B9A-60641C0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60CD-F24A-4D00-BAF6-BECEDF8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8D8E-C3E4-4A48-B9CC-05E62248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AFF3-0C9E-4445-B70F-A8DC02C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B095-3511-4CEF-99C9-A30C6306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E741-8ECE-481D-A61E-063F3AEE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9E6A-C468-41E7-90ED-78823EDA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8874-42B8-4AB8-A30E-70047962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BDA8-A64E-4364-94DE-6191B550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52FE-584C-4F99-8D04-C4841C87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C68D-0F05-47C2-8DD3-004BF555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E566-A4F6-40B1-BCD9-D68548A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5902-EF51-492A-8A5E-90ECA7D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7031-002D-4622-BF94-C079E9C1D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6A21-BA8A-4954-8EE3-B56DD2792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ТИЛИЗАЦИЯ ЖИВОТНЫХ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В ГРАФИКЕ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полнила: преподаватель МАОУДОД ТДШИ им. М,И. Глинки Селезнева Л.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ый художник желает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ак научиться искусству стилизации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78000"/>
            <a:ext cx="82296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необходимо порисовать набр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животное, прочувствовать его характерную форму, чем э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тное отличается о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основные характерные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работать над стилизацией данного животного. Можно использ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рих, линию, пятно. Нужно выбрать для себя – пятно и линия, штрих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я, работа одним пят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ать интересную форму, силуэ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стилизованное изображение выбранного животного в вариант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лоскостное изображение, близкое к реалистич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пользование только ли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спользование только пят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пользование всех графических средств: точка, линия, штрих, пятно,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м орна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шь черная, перо, кисть, маркер, гелевая ручк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ага формат А3, А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16765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лагодарю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лизация – это декоратив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и подчёркивание особенностей объектов. Можно упростить или усложнить форму, цвет, детали, подчеркнуть выразительные стороны и опустить малозначимые. Но объект должен быть узна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ы хотите выделит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, живот, лапы, крылья, чешую, клюв, хво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 деталей – вот ваш деви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фическая стилизация животных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чего нач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 всего необходимо ознакомиться с этим звер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фотографий, изображения с разных ракурсов: стилизация животных начинается именно с этого. Неплохо бы и прочитать об особенностях этого вида. Таким образом, учиться выделять главные черты в фигуре, позе, привы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лизация животных в графике основывается на том, чтобы можно бы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исовать весь образ одной ли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рисовки и ст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631960"/>
            <a:ext cx="3960720" cy="3014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637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6765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лизация живо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9360" y="16765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исовки живо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124440" cy="2989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3760" y="2514240"/>
            <a:ext cx="3276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81240" y="571680"/>
            <a:ext cx="658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6477120" cy="6477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733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52560" y="709560"/>
            <a:ext cx="5440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4191120" cy="5486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343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3-27T17:53:1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