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BB15-EB90-46EA-900E-C7FD065F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EF85-8969-4AB9-AE4C-F6537FBF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446E-9F5A-47BB-918A-0266E82F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9281-8B53-46A2-8C55-C170D8D9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8CC-B8B4-4530-9A1B-42A17A72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194B-F034-4BBF-AB8B-52EAE80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2CF7-39ED-4C19-8299-00BC3EC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AB8A-F664-4491-A0BD-E9CA742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CAF4-CD11-41A4-9D5F-FF523A7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5494-6D18-4538-9520-FC04FA7C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5867-F802-4A92-B664-DE101AA0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1F2E-A311-489C-8836-8E263103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6B32-EAEF-47C1-8F1C-649E898C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5150-E907-40E7-91BE-79E53E0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1D9E-2B2C-45A2-BD39-93967213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1C7B-5645-4459-8682-9D8D5D84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D837-9475-4E61-BB5B-D6C47863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C0CA-742B-4908-A7CF-CAEA4250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8090-BF87-4DB9-8D96-D0C2AE3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A4C0-1161-44AA-A187-C77CADA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0E8C-C687-4201-9BD9-942F2F52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0A60-7B7A-430B-9293-CFD6D58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91B7-8BDA-4E11-AAD6-66878C9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CC58-1152-4ADD-A411-BA91F15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E477-AB98-4A2E-B4BB-35F0EE0EE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42D5-ABEA-459B-B9E1-F8409D08C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ТИЛИЗАЦИЯ ЖИВОТНЫХ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В ГРАФИК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полнила: преподаватель МАОУДОД ТДШИ им. М,И. Глинки Селезнева Л.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ый художник желает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ак научиться искусству стилизаци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78000"/>
            <a:ext cx="82296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необходимо порисовать набр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животное, прочувствовать его характерную форму, чем э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тное отличается о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основные характерные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работать над стилизацией данного животного. Можно использ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рих, линию, пятно. Нужно выбрать для себя – пятно и линия, штрих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я, работа одним пят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ть интересную форму, силуэ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стилизованное изображение выбранного животного в вариант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лоскостное изображение, близкое к реалистич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пользование только ли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спользование только пят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пользование всех графических средств: точка, линия, штрих, пятно,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м орна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шь черная, перо, кисть, маркер, гелевая ручк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а формат А3, А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16765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лагодарю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лизация – это декоратив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и подчёркивание особенностей объектов. Можно упростить или усложнить форму, цвет, детали, подчеркнуть выразительные стороны и опустить малозначимые. Но объект должен быть узна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ы хотите выделит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, живот, лапы, крылья, чешую, клюв, хво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деталей – вот ваш деви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фическая стилизация животных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всего необходимо ознакомиться с этим звер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фотографий, изображения с разных ракурсов: стилизация животных начинается именно с этого. Неплохо бы и прочитать об особенностях этого вида. Таким образом, учиться выделять главные черты в фигуре, позе, привы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лизация животных в графике основывается на том, чтобы можно бы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исовать весь образ одной ли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рисовки и ст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631960"/>
            <a:ext cx="3960720" cy="3014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637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6765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изация живо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9360" y="16765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исовки живо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124440" cy="2989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3760" y="2514240"/>
            <a:ext cx="3276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81240" y="571680"/>
            <a:ext cx="658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6477120" cy="6477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733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52560" y="709560"/>
            <a:ext cx="5440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4191120" cy="5486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343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3-27T17:53:1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