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CD4-0480-48BF-8C0F-9B45DD01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AD8-FEBE-4975-B9FD-DD324CE6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CE8-F896-4CA2-8674-3C502BA0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472-7615-435B-84F2-CCD902C2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37B-91B8-4253-A43D-3378450E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61B-1D14-4E5F-A89E-FD12673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4D7-F3A8-4F48-B0F1-15C8CEED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085-6D2A-4B43-BF0B-FCC16C0C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BFB-C6CF-413B-AA8C-788C07C8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897-32AC-4B98-813E-55CF28C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82A-54DE-4D19-98E6-7C91DE0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D0C-1FFB-4E10-A2DA-0AE6741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F7C7-9368-4454-9EAD-B3D3D744D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6.xml"/><Relationship Id="rId7" Type="http://schemas.openxmlformats.org/officeDocument/2006/relationships/slide" Target="slide24.xml"/><Relationship Id="rId8" Type="http://schemas.openxmlformats.org/officeDocument/2006/relationships/slide" Target="slide33.xml"/><Relationship Id="rId9" Type="http://schemas.openxmlformats.org/officeDocument/2006/relationships/slide" Target="slide40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95280" y="1700280"/>
            <a:ext cx="76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651640" y="4221000"/>
            <a:ext cx="34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29b8b4fb76a1"/>
          <p:cNvPicPr/>
          <p:nvPr/>
        </p:nvPicPr>
        <p:blipFill>
          <a:blip r:embed="rId2"/>
          <a:stretch/>
        </p:blipFill>
        <p:spPr>
          <a:xfrm>
            <a:off x="608040" y="333360"/>
            <a:ext cx="12272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68360" y="19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11280" y="206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95076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87948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755640" y="3141720"/>
            <a:ext cx="34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5703840" y="31417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Presen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3780000" y="3933720"/>
            <a:ext cx="1584000" cy="79056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536400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5632560" y="40258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539424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finis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homework, we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shall g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the cin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592200" y="2152800"/>
            <a:ext cx="808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им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потребляются такие слова и фразы, как: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s soon a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(как только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 she reads the letter, she will become nervou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 soon as you are ready, I'll drive you ho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же в условных предложениях используется союз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(если только не/ разве только не), который можно заменить н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f + no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(отрицание). После союз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les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гол-сказуемое ставится в утвердительной форме, поскольку союз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уже заключает в себе отриц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e will forget about it unless we remind her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а забудет про это, если только мы ей не напомним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e will forget about it if we don't remind 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071520" y="1504800"/>
            <a:ext cx="358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539640" y="242100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ое предложение, которое обычно начинается со слов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может стоять как в начале условного предложения (перед главным предложением), так и в конце. Если оно стоит в начале, то после него ставится запятая. Если же оно стоит в конце, то перед ним запятая не став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leave now, you'll catch the tra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'll catch the train if you leav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419640" y="14842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91636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required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19120" y="24922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ains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won't go to the pa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will rain     b)rains   c)will not rain   d)doesn’t 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You won't pass the exam, 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un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you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if         b)when         c)unless         d)as soo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en we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     ready, I’ll call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shall be       b)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You will pay back, as soon as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  a new jo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find             b)will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I will see you when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  in Moscow nex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are      b)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What will you do, when you  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ind 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the tru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will find out     b)have find out    c)fi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042920" y="256536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3492360" y="321300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1908000" y="3789360"/>
            <a:ext cx="71928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4427640" y="4365720"/>
            <a:ext cx="64908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348000" y="5013360"/>
            <a:ext cx="576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3851280" y="5589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337248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84360" y="20811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te the sentences, putting the verbs into the correct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19120" y="278136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If you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e)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, I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come)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ee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If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(to see)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, I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e)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If you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usy, 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leav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alon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liv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Moscow, 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visi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e Tretyakov Gallery every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If sh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know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nglish, sh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tr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ter the univers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If mother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bu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cake, w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o hav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 very nice tea 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06880" y="2778120"/>
            <a:ext cx="451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If you 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, I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co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ee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19120" y="33577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If I 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, I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06520" y="4002120"/>
            <a:ext cx="44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If you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sy, I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 le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19120" y="4581360"/>
            <a:ext cx="71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If I 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l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Moscow, I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 vis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Tretyakov Gallery every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02560" y="5226120"/>
            <a:ext cx="63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If s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know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, she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will 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ter the univer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19120" y="5805360"/>
            <a:ext cx="647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If moth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buys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ake, we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hall h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very nice tea pa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34800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1959120" y="20098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into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19120" y="25131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Если ты закончишь домашнюю работу вовремя, мы пойдем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Матч отменят, если пойдет дожд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Ты опоздаешь, если не поторопиш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Я куплю машину, если мне повысят зарпл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Если ты опоздаешь, позвони мне пожалуй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Если я увижу её, я передам ей от тебя при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19120" y="2492280"/>
            <a:ext cx="826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1.If you finish your homework on time, we shall go to the cin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10840" y="337644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2.The match will be cancelled if it 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19120" y="4005360"/>
            <a:ext cx="507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3.You will be late if you don’t hurry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14440" y="4602240"/>
            <a:ext cx="42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4.I will buy a car if I get my rise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19120" y="5229360"/>
            <a:ext cx="40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5.If you are late, call me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14800" y="5826240"/>
            <a:ext cx="49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6.If I see her, I will give her your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6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11280" y="20811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ные предложения второго типа в английском язы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ывают события настоящего и будущего времени. Ситуации, описанные в таких предложениях, нереальны (невозможны, невероятны, воображаемы). Такие предложения имеют невозможный, гипотетический оттенок. Обратите внимание, что на русский язык данные предложения переводятся в сослагательном наклонении, с частицей "бы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059480" y="5249880"/>
            <a:ext cx="59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st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o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бы пош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дождь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тался до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11280" y="2133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63480" y="31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5343480" y="287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38420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55948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5364000" y="3789360"/>
            <a:ext cx="309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390384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564000" y="3933720"/>
            <a:ext cx="1800000" cy="790560"/>
          </a:xfrm>
          <a:prstGeom prst="rightArrow">
            <a:avLst>
              <a:gd name="adj1" fmla="val 50000"/>
              <a:gd name="adj2" fmla="val 56922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1239840" y="40258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... Simpl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826920" y="31417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848200" y="314172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435640" y="40258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 would 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гол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950760" y="54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2700360" y="53942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t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r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st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om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9220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11280" y="2205000"/>
          <a:ext cx="8064360" cy="4019760"/>
        </p:xfrm>
        <a:graphic>
          <a:graphicData uri="http://schemas.openxmlformats.org/drawingml/2006/table">
            <a:tbl>
              <a:tblPr/>
              <a:tblGrid>
                <a:gridCol w="1630440"/>
                <a:gridCol w="2251080"/>
                <a:gridCol w="2193840"/>
                <a:gridCol w="1989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ore serious about your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своей работе серье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it in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 смог закончи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ее воврем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начении "суметь"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езультат указывает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y were late agai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 они опоздал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uld not let them 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бы не позволила им вой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uld”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ворящий уверен в результа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e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them more politely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т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ним вежлив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и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еб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в значении "может быть", "возможн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916360" y="206064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539640" y="2492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гол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to b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прошедшем времени всегда буд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и никогда — </a:t>
            </a:r>
            <a:r>
              <a:rPr b="0" i="1" lang="ru-RU" sz="2400" spc="-1" strike="noStrike">
                <a:solidFill>
                  <a:srgbClr val="660033"/>
                </a:solidFill>
                <a:latin typeface="Times New Roman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he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he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592200" y="3716280"/>
            <a:ext cx="585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e, he would help 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ы он был здесь, он бы помог н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592200" y="4581360"/>
            <a:ext cx="7867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f I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you, I would drive more carefully in the rain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ы я был на твоем месте, я бы вел машину аккуратнее во время дождя. (но я не на твоем мест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1400040" y="5839200"/>
            <a:ext cx="65595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I/you/he/she/it/we/th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14200" y="6922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19120" y="2492280"/>
            <a:ext cx="815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НУЛЕВ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ПЕРВ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ВТО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ТРЕТЬЕ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СМЕШАН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с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I W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425040" y="15764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29b8b4fb76a1"/>
          <p:cNvPicPr/>
          <p:nvPr/>
        </p:nvPicPr>
        <p:blipFill>
          <a:blip r:embed="rId10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84360" y="23684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придать просьбе или предложению больший оттенок вежливости, используются условные предложения второго тип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11280" y="41688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t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be nice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help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me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уд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хорошо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она мн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мож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олее вежливая просьба – условное предложение второго тип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5092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2102760" y="208116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 the parts of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3512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539640" y="4547160"/>
            <a:ext cx="3240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nis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work this wee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5580000" y="275328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t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5580000" y="368820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g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va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5580000" y="4614840"/>
            <a:ext cx="3168720" cy="58068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uld pla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veget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2"/>
          <p:cNvSpPr/>
          <p:nvPr/>
        </p:nvSpPr>
        <p:spPr>
          <a:xfrm>
            <a:off x="5580000" y="547596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h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n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611280" y="2780280"/>
            <a:ext cx="31687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iv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3"/>
          <p:cNvSpPr/>
          <p:nvPr/>
        </p:nvSpPr>
        <p:spPr>
          <a:xfrm>
            <a:off x="539640" y="381168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539640" y="366876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6"/>
          <p:cNvSpPr/>
          <p:nvPr/>
        </p:nvSpPr>
        <p:spPr>
          <a:xfrm>
            <a:off x="729720" y="378612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539640" y="5367240"/>
            <a:ext cx="3240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xt week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49"/>
          <p:cNvCxnSpPr>
            <a:stCxn id="264" idx="3"/>
            <a:endCxn id="263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70" name="AutoShape 50"/>
          <p:cNvCxnSpPr>
            <a:stCxn id="264" idx="3"/>
            <a:endCxn id="263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sp>
        <p:nvSpPr>
          <p:cNvPr id="271" name="Line 51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3708360" y="2997360"/>
            <a:ext cx="1800360" cy="27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AutoShape 54"/>
          <p:cNvCxnSpPr>
            <a:stCxn id="263" idx="1"/>
            <a:endCxn id="273" idx="0"/>
          </p:cNvCxnSpPr>
          <p:nvPr/>
        </p:nvCxnSpPr>
        <p:spPr>
          <a:xfrm>
            <a:off x="5579640" y="5827320"/>
            <a:ext cx="1080" cy="50040"/>
          </a:xfrm>
          <a:prstGeom prst="straightConnector1">
            <a:avLst/>
          </a:prstGeom>
          <a:ln w="0">
            <a:noFill/>
          </a:ln>
        </p:spPr>
      </p:cxnSp>
      <p:sp>
        <p:nvSpPr>
          <p:cNvPr id="275" name="Line 55"/>
          <p:cNvSpPr/>
          <p:nvPr/>
        </p:nvSpPr>
        <p:spPr>
          <a:xfrm>
            <a:off x="3780000" y="3213000"/>
            <a:ext cx="1800000" cy="25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6"/>
          <p:cNvSpPr/>
          <p:nvPr/>
        </p:nvSpPr>
        <p:spPr>
          <a:xfrm>
            <a:off x="3780000" y="3141720"/>
            <a:ext cx="1800000" cy="26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8"/>
          <p:cNvSpPr/>
          <p:nvPr/>
        </p:nvSpPr>
        <p:spPr>
          <a:xfrm>
            <a:off x="3635280" y="2997360"/>
            <a:ext cx="1944720" cy="28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9"/>
          <p:cNvSpPr/>
          <p:nvPr/>
        </p:nvSpPr>
        <p:spPr>
          <a:xfrm>
            <a:off x="3708360" y="3068640"/>
            <a:ext cx="1871640" cy="2808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60"/>
          <p:cNvCxnSpPr>
            <a:endCxn id="260" idx="1"/>
          </p:cNvCxnSpPr>
          <p:nvPr/>
        </p:nvCxnSpPr>
        <p:spPr>
          <a:xfrm flipV="1">
            <a:off x="3780000" y="3104280"/>
            <a:ext cx="1800720" cy="9882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0" name="AutoShape 61"/>
          <p:cNvCxnSpPr>
            <a:endCxn id="261" idx="1"/>
          </p:cNvCxnSpPr>
          <p:nvPr/>
        </p:nvCxnSpPr>
        <p:spPr>
          <a:xfrm flipV="1">
            <a:off x="3780000" y="4039920"/>
            <a:ext cx="1800720" cy="101016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AutoShape 62"/>
          <p:cNvCxnSpPr>
            <a:stCxn id="268" idx="3"/>
            <a:endCxn id="262" idx="1"/>
          </p:cNvCxnSpPr>
          <p:nvPr/>
        </p:nvCxnSpPr>
        <p:spPr>
          <a:xfrm flipV="1">
            <a:off x="3780000" y="4905000"/>
            <a:ext cx="1800720" cy="87552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56000" y="2081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correc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322776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513720" y="251316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you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foreign language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better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042920" y="2924280"/>
            <a:ext cx="16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 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903840" y="2924280"/>
            <a:ext cx="13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can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156360" y="292428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have g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587160" y="3449520"/>
            <a:ext cx="77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If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h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time, 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to the beach this weekend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023840" y="3860640"/>
            <a:ext cx="16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have h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975120" y="3860640"/>
            <a:ext cx="11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 had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208560" y="3860640"/>
            <a:ext cx="9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588960" y="4457880"/>
            <a:ext cx="74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lot of money, 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trav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round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023840" y="4869000"/>
            <a:ext cx="20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3995640" y="486900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di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6227640" y="48690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can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585720" y="5394240"/>
            <a:ext cx="74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you, 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dr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more carefully in the rain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042920" y="582624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3975120" y="582624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6280920" y="582624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wer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5435640" y="2565360"/>
            <a:ext cx="122544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1476360" y="350028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9"/>
          <p:cNvSpPr/>
          <p:nvPr/>
        </p:nvSpPr>
        <p:spPr>
          <a:xfrm>
            <a:off x="4067280" y="4508640"/>
            <a:ext cx="172872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30"/>
          <p:cNvSpPr/>
          <p:nvPr/>
        </p:nvSpPr>
        <p:spPr>
          <a:xfrm>
            <a:off x="1476360" y="544500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358848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11148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582120" y="251316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he finished his project, he would take part in the con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611280" y="25131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Если бы он закончил свой проект, он бы принял участие в конфе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611280" y="3305160"/>
            <a:ext cx="52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 were you I would visit the old l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865800" y="3305160"/>
            <a:ext cx="64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На вашем месте я бы посетил пожилую да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611280" y="38098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you do if you won the priz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859680" y="3809880"/>
            <a:ext cx="63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Что бы ты сделал, если бы ты выиграл при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584640" y="4313160"/>
            <a:ext cx="73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agree if I were invited to travel round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592200" y="43131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Я бы согласилась, если бы меня пригласили путешествовать по ми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20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9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ые предложен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 выраж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еальные условия, так как речь в них и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событиях, которые уже произошли или 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ошли в прош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отребляется эта модель тогда, когда нуж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общить об упущенной возможности.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ий язык переводятся сослагательны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клонением ( формой прошедшег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частице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11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30" name="Picture 12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34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611280" y="213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826920" y="3068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5867280" y="3068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1042920" y="3716280"/>
            <a:ext cx="2737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5364000" y="3716280"/>
            <a:ext cx="30956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1166760" y="3860640"/>
            <a:ext cx="20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+  Past Per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5364000" y="3716280"/>
            <a:ext cx="8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u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6012000" y="40766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have + Participl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23"/>
          <p:cNvSpPr/>
          <p:nvPr/>
        </p:nvSpPr>
        <p:spPr>
          <a:xfrm>
            <a:off x="3564000" y="3789360"/>
            <a:ext cx="1800000" cy="719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971640" y="53942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had be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e yesterday,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ould have joi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51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66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1280" y="2205000"/>
          <a:ext cx="7993080" cy="4111560"/>
        </p:xfrm>
        <a:graphic>
          <a:graphicData uri="http://schemas.openxmlformats.org/drawingml/2006/table">
            <a:tbl>
              <a:tblPr/>
              <a:tblGrid>
                <a:gridCol w="1008000"/>
                <a:gridCol w="2305080"/>
                <a:gridCol w="2303280"/>
                <a:gridCol w="2376720"/>
              </a:tblGrid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would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бы оказал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то, что это не случилось, говорящий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р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результа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could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might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should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е бы следовало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я это не случилось, результат содержит хороше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57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2771640" y="198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47840" y="2421000"/>
            <a:ext cx="8307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ак и в других условных предложениях, условная часть может идти перед основной и наобор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y had finished work on time they would have already gone for a walk.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бы они закончили работу вовремя, то уже ушли бы на прогулк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376200" y="3789360"/>
            <a:ext cx="8516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словная часть предложения может содержать инверсию для выражения эмоциона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d I known about it beforehand I wouldn't have made such a terrible mistake!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л бы я об этом заранее, то не совершил бы такой ужасной ошибк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376200" y="5084640"/>
            <a:ext cx="8588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бщие и специальные вопросы образуются аналитическим способом, то есть путем перестановки членов предлож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uld we have arrived on time if we hadn't missed the trai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would you have lived if you had found your relativ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65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1835280" y="1557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ULD и MIGHT в условных предложен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519120" y="21337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альные глаголы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COUL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MIGH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асто употребляются в главном предложении условных предложений, а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COUL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ногда употребляется в придаточном предложении с нереальным условием. Отметьте, что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MA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бычно не употребляется в условных предложениях с нереальным услов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39640" y="402588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had left before five, we could have caught the six o'clock train. (We didn't leave before five, and we didn't catch the six o'clock train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мы выехали до пяти, мы могли бы успеть на шестичасовой поезд. (Мы не выехали до пяти, и мы не успели на шестичасовой поез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he hadn't met Maria, he might have remained a bachelor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он не встретил Марию, он мог бы остаться холостя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3"/>
          <p:cNvSpPr/>
          <p:nvPr/>
        </p:nvSpPr>
        <p:spPr>
          <a:xfrm>
            <a:off x="179280" y="2060640"/>
            <a:ext cx="878544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72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2484360" y="155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FOR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NOT 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539640" y="2421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огда придаточное нереального условия заменятся конструкцией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BUT FO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ил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IF NOT FO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+ существительное или местоимение. Такие конструкции могут употребляться в ситуациях, относящихся к прошлому или настояще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447840" y="3860640"/>
            <a:ext cx="8300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But 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children, they would have divorced years ago. – If it hadn't been for the children, they would have divorced years ago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не дети, они бы давно развелись. – Если бы не дети, они бы давно развели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f not 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er, he would never have become such a good doctor. – If it hadn't been for her, he would never have become such a good doctor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бы не она, он никогда не стал бы таким хорошим врачом. – Если бы не она, он никогда не стал бы таким хорошим врач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63480" y="2205000"/>
            <a:ext cx="7869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овные предложения – это сложноподчиненные предложения, в которых в придаточном предложении называется условие, а в главном предложении – следствие, результат этого условия. И условие, и следствие могут относится к настоящему, прошедшему и будущему. Придаточные предложения условия чаще всего вводятся союзом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В отличие от русского языка, запятая в сложноподчиненном предложении ставится только в случае, если придаточное предложение находится перед главным, и то это правило не всегда соблю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 условные предложения делят на три типа в зависимости от того, насколько вероятно событие, о котором идет речь. Эти три типа – основные, а на самом деле их больш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34360" y="157644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ные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378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3348000" y="155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0"/>
          <p:cNvSpPr/>
          <p:nvPr/>
        </p:nvSpPr>
        <p:spPr>
          <a:xfrm>
            <a:off x="250920" y="2133720"/>
            <a:ext cx="889308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1"/>
          <p:cNvSpPr/>
          <p:nvPr/>
        </p:nvSpPr>
        <p:spPr>
          <a:xfrm>
            <a:off x="2463120" y="215280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 the parts of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2"/>
          <p:cNvSpPr/>
          <p:nvPr/>
        </p:nvSpPr>
        <p:spPr>
          <a:xfrm>
            <a:off x="468360" y="2924280"/>
            <a:ext cx="42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3"/>
          <p:cNvSpPr/>
          <p:nvPr/>
        </p:nvSpPr>
        <p:spPr>
          <a:xfrm>
            <a:off x="539640" y="2924280"/>
            <a:ext cx="3456000" cy="64908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44"/>
          <p:cNvSpPr/>
          <p:nvPr/>
        </p:nvSpPr>
        <p:spPr>
          <a:xfrm>
            <a:off x="684360" y="299736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48"/>
          <p:cNvSpPr/>
          <p:nvPr/>
        </p:nvSpPr>
        <p:spPr>
          <a:xfrm>
            <a:off x="5435640" y="292428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2"/>
          <p:cNvSpPr/>
          <p:nvPr/>
        </p:nvSpPr>
        <p:spPr>
          <a:xfrm>
            <a:off x="826920" y="2997360"/>
            <a:ext cx="914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4"/>
          <p:cNvSpPr/>
          <p:nvPr/>
        </p:nvSpPr>
        <p:spPr>
          <a:xfrm>
            <a:off x="59220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6"/>
          <p:cNvSpPr/>
          <p:nvPr/>
        </p:nvSpPr>
        <p:spPr>
          <a:xfrm>
            <a:off x="593280" y="3016080"/>
            <a:ext cx="34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lear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 befo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7"/>
          <p:cNvSpPr/>
          <p:nvPr/>
        </p:nvSpPr>
        <p:spPr>
          <a:xfrm>
            <a:off x="539640" y="378936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8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539640" y="566100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0"/>
          <p:cNvSpPr/>
          <p:nvPr/>
        </p:nvSpPr>
        <p:spPr>
          <a:xfrm>
            <a:off x="5508720" y="4005360"/>
            <a:ext cx="33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1"/>
          <p:cNvSpPr/>
          <p:nvPr/>
        </p:nvSpPr>
        <p:spPr>
          <a:xfrm>
            <a:off x="5435640" y="378936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62"/>
          <p:cNvSpPr/>
          <p:nvPr/>
        </p:nvSpPr>
        <p:spPr>
          <a:xfrm>
            <a:off x="5435640" y="472428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3"/>
          <p:cNvSpPr/>
          <p:nvPr/>
        </p:nvSpPr>
        <p:spPr>
          <a:xfrm>
            <a:off x="5435640" y="558972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65"/>
          <p:cNvSpPr/>
          <p:nvPr/>
        </p:nvSpPr>
        <p:spPr>
          <a:xfrm>
            <a:off x="5487840" y="474516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ld have 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good job long ago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8"/>
          <p:cNvSpPr/>
          <p:nvPr/>
        </p:nvSpPr>
        <p:spPr>
          <a:xfrm>
            <a:off x="592200" y="380844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Ji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driv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ar yesterda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0"/>
          <p:cNvSpPr/>
          <p:nvPr/>
        </p:nvSpPr>
        <p:spPr>
          <a:xfrm>
            <a:off x="5559480" y="56088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ght have 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n acciden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72"/>
          <p:cNvSpPr/>
          <p:nvPr/>
        </p:nvSpPr>
        <p:spPr>
          <a:xfrm>
            <a:off x="664200" y="481644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stud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l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5559480" y="380844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uld have pass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exam wel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76"/>
          <p:cNvSpPr/>
          <p:nvPr/>
        </p:nvSpPr>
        <p:spPr>
          <a:xfrm>
            <a:off x="663480" y="5805360"/>
            <a:ext cx="31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d b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yesterda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78"/>
          <p:cNvSpPr/>
          <p:nvPr/>
        </p:nvSpPr>
        <p:spPr>
          <a:xfrm>
            <a:off x="5580000" y="306864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uld have joi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79"/>
          <p:cNvSpPr/>
          <p:nvPr/>
        </p:nvSpPr>
        <p:spPr>
          <a:xfrm>
            <a:off x="3995640" y="3284640"/>
            <a:ext cx="1440000" cy="180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81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82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83"/>
          <p:cNvSpPr/>
          <p:nvPr/>
        </p:nvSpPr>
        <p:spPr>
          <a:xfrm>
            <a:off x="3924360" y="3213000"/>
            <a:ext cx="165564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84"/>
          <p:cNvSpPr/>
          <p:nvPr/>
        </p:nvSpPr>
        <p:spPr>
          <a:xfrm>
            <a:off x="3995640" y="3284640"/>
            <a:ext cx="7164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AutoShape 85"/>
          <p:cNvCxnSpPr>
            <a:stCxn id="409" idx="0"/>
            <a:endCxn id="409" idx="1"/>
          </p:cNvCxnSpPr>
          <p:nvPr/>
        </p:nvCxnSpPr>
        <p:spPr>
          <a:xfrm>
            <a:off x="3924000" y="3212640"/>
            <a:ext cx="165636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12" name="AutoShape 86"/>
          <p:cNvCxnSpPr>
            <a:stCxn id="409" idx="1"/>
            <a:endCxn id="409" idx="1"/>
          </p:cNvCxnSpPr>
          <p:nvPr/>
        </p:nvCxnSpPr>
        <p:spPr>
          <a:xfrm>
            <a:off x="5579640" y="508428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413" name="Line 87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AutoShape 88"/>
          <p:cNvCxnSpPr/>
          <p:nvPr/>
        </p:nvCxnSpPr>
        <p:spPr>
          <a:xfrm>
            <a:off x="4679640" y="-360"/>
            <a:ext cx="4678920" cy="3429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15" name="AutoShape 89"/>
          <p:cNvCxnSpPr>
            <a:stCxn id="413" idx="0"/>
            <a:endCxn id="413" idx="1"/>
          </p:cNvCxnSpPr>
          <p:nvPr/>
        </p:nvCxnSpPr>
        <p:spPr>
          <a:xfrm>
            <a:off x="3924000" y="3212640"/>
            <a:ext cx="158508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16" name="AutoShape 90"/>
          <p:cNvCxnSpPr>
            <a:stCxn id="391" idx="3"/>
          </p:cNvCxnSpPr>
          <p:nvPr/>
        </p:nvCxnSpPr>
        <p:spPr>
          <a:xfrm>
            <a:off x="4026960" y="3200400"/>
            <a:ext cx="1429560" cy="1807200"/>
          </a:xfrm>
          <a:prstGeom prst="straightConnector1">
            <a:avLst/>
          </a:prstGeom>
          <a:ln w="0">
            <a:noFill/>
          </a:ln>
        </p:spPr>
      </p:cxnSp>
      <p:sp>
        <p:nvSpPr>
          <p:cNvPr id="417" name="Line 91"/>
          <p:cNvSpPr/>
          <p:nvPr/>
        </p:nvSpPr>
        <p:spPr>
          <a:xfrm>
            <a:off x="3924360" y="3141720"/>
            <a:ext cx="1655640" cy="208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2"/>
          <p:cNvSpPr/>
          <p:nvPr/>
        </p:nvSpPr>
        <p:spPr>
          <a:xfrm>
            <a:off x="3924360" y="3213000"/>
            <a:ext cx="180000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5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AutoShape 96"/>
          <p:cNvCxnSpPr>
            <a:stCxn id="400" idx="3"/>
            <a:endCxn id="419" idx="0"/>
          </p:cNvCxnSpPr>
          <p:nvPr/>
        </p:nvCxnSpPr>
        <p:spPr>
          <a:xfrm flipV="1">
            <a:off x="3924000" y="321228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1" name="AutoShape 97"/>
          <p:cNvCxnSpPr>
            <a:stCxn id="419" idx="0"/>
            <a:endCxn id="400" idx="3"/>
          </p:cNvCxnSpPr>
          <p:nvPr/>
        </p:nvCxnSpPr>
        <p:spPr>
          <a:xfrm>
            <a:off x="3924000" y="321264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2" name="AutoShape 98"/>
          <p:cNvCxnSpPr>
            <a:stCxn id="400" idx="3"/>
            <a:endCxn id="398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3" name="AutoShape 99"/>
          <p:cNvCxnSpPr>
            <a:stCxn id="400" idx="3"/>
          </p:cNvCxnSpPr>
          <p:nvPr/>
        </p:nvCxnSpPr>
        <p:spPr>
          <a:xfrm>
            <a:off x="3924360" y="4129200"/>
            <a:ext cx="216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4" name="AutoShape 100"/>
          <p:cNvCxnSpPr>
            <a:stCxn id="400" idx="3"/>
            <a:endCxn id="398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5" name="AutoShape 101"/>
          <p:cNvCxnSpPr>
            <a:stCxn id="402" idx="3"/>
            <a:endCxn id="419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6" name="AutoShape 102"/>
          <p:cNvCxnSpPr>
            <a:stCxn id="402" idx="3"/>
            <a:endCxn id="418" idx="0"/>
          </p:cNvCxnSpPr>
          <p:nvPr/>
        </p:nvCxnSpPr>
        <p:spPr>
          <a:xfrm>
            <a:off x="3768840" y="500040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7" name="AutoShape 103"/>
          <p:cNvCxnSpPr>
            <a:stCxn id="419" idx="1"/>
            <a:endCxn id="418" idx="1"/>
          </p:cNvCxnSpPr>
          <p:nvPr/>
        </p:nvCxnSpPr>
        <p:spPr>
          <a:xfrm>
            <a:off x="550836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8" name="AutoShape 104"/>
          <p:cNvCxnSpPr>
            <a:stCxn id="418" idx="1"/>
            <a:endCxn id="393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29" name="AutoShape 105"/>
          <p:cNvCxnSpPr>
            <a:stCxn id="418" idx="1"/>
            <a:endCxn id="419" idx="1"/>
          </p:cNvCxnSpPr>
          <p:nvPr/>
        </p:nvCxnSpPr>
        <p:spPr>
          <a:xfrm flipH="1">
            <a:off x="550800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0" name="AutoShape 106"/>
          <p:cNvCxnSpPr>
            <a:stCxn id="402" idx="3"/>
            <a:endCxn id="419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1" name="AutoShape 107"/>
          <p:cNvCxnSpPr>
            <a:stCxn id="418" idx="1"/>
            <a:endCxn id="393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2" name="AutoShape 108"/>
          <p:cNvCxnSpPr>
            <a:stCxn id="393" idx="3"/>
          </p:cNvCxnSpPr>
          <p:nvPr/>
        </p:nvCxnSpPr>
        <p:spPr>
          <a:xfrm flipV="1">
            <a:off x="3995640" y="4291920"/>
            <a:ext cx="1370880" cy="7578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3" name="AutoShape 109"/>
          <p:cNvCxnSpPr>
            <a:stCxn id="383" idx="1"/>
            <a:endCxn id="418" idx="1"/>
          </p:cNvCxnSpPr>
          <p:nvPr/>
        </p:nvCxnSpPr>
        <p:spPr>
          <a:xfrm>
            <a:off x="250920" y="4402080"/>
            <a:ext cx="5474160" cy="682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4" name="AutoShape 111"/>
          <p:cNvCxnSpPr>
            <a:stCxn id="418" idx="1"/>
            <a:endCxn id="402" idx="3"/>
          </p:cNvCxnSpPr>
          <p:nvPr/>
        </p:nvCxnSpPr>
        <p:spPr>
          <a:xfrm flipH="1" flipV="1">
            <a:off x="3768480" y="500004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5" name="AutoShape 112"/>
          <p:cNvCxnSpPr>
            <a:stCxn id="404" idx="3"/>
            <a:endCxn id="418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6" name="AutoShape 113"/>
          <p:cNvCxnSpPr>
            <a:stCxn id="404" idx="3"/>
            <a:endCxn id="418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7" name="AutoShape 114"/>
          <p:cNvCxnSpPr>
            <a:stCxn id="404" idx="3"/>
            <a:endCxn id="418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8" name="AutoShape 116"/>
          <p:cNvCxnSpPr>
            <a:stCxn id="383" idx="0"/>
          </p:cNvCxnSpPr>
          <p:nvPr/>
        </p:nvCxnSpPr>
        <p:spPr>
          <a:xfrm flipH="1" flipV="1">
            <a:off x="4679640" y="-720"/>
            <a:ext cx="18000" cy="2134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39" name="AutoShape 117"/>
          <p:cNvCxnSpPr>
            <a:stCxn id="404" idx="3"/>
            <a:endCxn id="405" idx="1"/>
          </p:cNvCxnSpPr>
          <p:nvPr/>
        </p:nvCxnSpPr>
        <p:spPr>
          <a:xfrm flipV="1">
            <a:off x="3819600" y="3252960"/>
            <a:ext cx="1761120" cy="2737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42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1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2626200" y="198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correc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324000" y="2441520"/>
            <a:ext cx="83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 wouldn't have come to the party yesterday if I                           invited the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663480" y="2781360"/>
            <a:ext cx="8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5703840" y="27813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3040200" y="27813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3327480" y="278136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n’t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283320" y="342576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ould they                            us if we had lost all our lugg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2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661680" y="37861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had hel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3039480" y="37861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2"/>
          <p:cNvSpPr/>
          <p:nvPr/>
        </p:nvSpPr>
        <p:spPr>
          <a:xfrm>
            <a:off x="5724360" y="385920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hel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5630760" y="24177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dn’t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35"/>
          <p:cNvSpPr/>
          <p:nvPr/>
        </p:nvSpPr>
        <p:spPr>
          <a:xfrm>
            <a:off x="5580000" y="2421000"/>
            <a:ext cx="1490760" cy="4316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36"/>
          <p:cNvSpPr/>
          <p:nvPr/>
        </p:nvSpPr>
        <p:spPr>
          <a:xfrm>
            <a:off x="1957680" y="3425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ve hel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37"/>
          <p:cNvSpPr/>
          <p:nvPr/>
        </p:nvSpPr>
        <p:spPr>
          <a:xfrm>
            <a:off x="1908000" y="3429000"/>
            <a:ext cx="15624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9"/>
          <p:cNvSpPr/>
          <p:nvPr/>
        </p:nvSpPr>
        <p:spPr>
          <a:xfrm>
            <a:off x="360360" y="443376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f she hadn’t put on a short dress she wouldn’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1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tten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2"/>
          <p:cNvSpPr/>
          <p:nvPr/>
        </p:nvSpPr>
        <p:spPr>
          <a:xfrm>
            <a:off x="5508720" y="44337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ve at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3"/>
          <p:cNvSpPr/>
          <p:nvPr/>
        </p:nvSpPr>
        <p:spPr>
          <a:xfrm>
            <a:off x="5508720" y="443700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44"/>
          <p:cNvSpPr/>
          <p:nvPr/>
        </p:nvSpPr>
        <p:spPr>
          <a:xfrm>
            <a:off x="663480" y="49388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at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5"/>
          <p:cNvSpPr/>
          <p:nvPr/>
        </p:nvSpPr>
        <p:spPr>
          <a:xfrm>
            <a:off x="3059280" y="48672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t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6"/>
          <p:cNvSpPr/>
          <p:nvPr/>
        </p:nvSpPr>
        <p:spPr>
          <a:xfrm>
            <a:off x="5724360" y="486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7"/>
          <p:cNvSpPr/>
          <p:nvPr/>
        </p:nvSpPr>
        <p:spPr>
          <a:xfrm>
            <a:off x="395280" y="5514840"/>
            <a:ext cx="11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If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2811960" y="551484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 up, I should have told you some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9"/>
          <p:cNvSpPr/>
          <p:nvPr/>
        </p:nvSpPr>
        <p:spPr>
          <a:xfrm>
            <a:off x="1598760" y="55148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d 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50"/>
          <p:cNvSpPr/>
          <p:nvPr/>
        </p:nvSpPr>
        <p:spPr>
          <a:xfrm>
            <a:off x="1547640" y="5516640"/>
            <a:ext cx="1152720" cy="4334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1"/>
          <p:cNvSpPr/>
          <p:nvPr/>
        </p:nvSpPr>
        <p:spPr>
          <a:xfrm>
            <a:off x="611280" y="587520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r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53"/>
          <p:cNvSpPr/>
          <p:nvPr/>
        </p:nvSpPr>
        <p:spPr>
          <a:xfrm>
            <a:off x="3059280" y="594504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54"/>
          <p:cNvSpPr/>
          <p:nvPr/>
        </p:nvSpPr>
        <p:spPr>
          <a:xfrm>
            <a:off x="5724360" y="60166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 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79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17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39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40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45"/>
          <p:cNvSpPr/>
          <p:nvPr/>
        </p:nvSpPr>
        <p:spPr>
          <a:xfrm>
            <a:off x="2700360" y="1989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46"/>
          <p:cNvSpPr/>
          <p:nvPr/>
        </p:nvSpPr>
        <p:spPr>
          <a:xfrm>
            <a:off x="778680" y="2560680"/>
            <a:ext cx="73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бы ты не забыл на работе ключ, ты бы открыл двер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47"/>
          <p:cNvSpPr/>
          <p:nvPr/>
        </p:nvSpPr>
        <p:spPr>
          <a:xfrm>
            <a:off x="468360" y="256536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If you hadn’t forgotten the key at work, you would have opened the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9"/>
          <p:cNvSpPr/>
          <p:nvPr/>
        </p:nvSpPr>
        <p:spPr>
          <a:xfrm>
            <a:off x="447840" y="3017880"/>
            <a:ext cx="83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Он бы не женился на ней, если бы она не готовила так замечатель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51"/>
          <p:cNvSpPr/>
          <p:nvPr/>
        </p:nvSpPr>
        <p:spPr>
          <a:xfrm>
            <a:off x="447840" y="299736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He wouldn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t have married her if she hadn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’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t cooked so wonderfully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2"/>
          <p:cNvSpPr/>
          <p:nvPr/>
        </p:nvSpPr>
        <p:spPr>
          <a:xfrm>
            <a:off x="447840" y="364500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Ты бы понял материал вчерашнего урока гораздо лучше, если бы читал медлен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3"/>
          <p:cNvSpPr/>
          <p:nvPr/>
        </p:nvSpPr>
        <p:spPr>
          <a:xfrm>
            <a:off x="447840" y="3645000"/>
            <a:ext cx="83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3. You would have understood yesterday’s lesson much better if you had read more slow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54"/>
          <p:cNvSpPr/>
          <p:nvPr/>
        </p:nvSpPr>
        <p:spPr>
          <a:xfrm>
            <a:off x="447840" y="429264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Конференция бы провалилась, если бы Петерсон не сделал такой замечательный докл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5"/>
          <p:cNvSpPr/>
          <p:nvPr/>
        </p:nvSpPr>
        <p:spPr>
          <a:xfrm>
            <a:off x="447840" y="429264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4. The conference would have failed if Peterson hadn’t made such a wonderful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56"/>
          <p:cNvSpPr/>
          <p:nvPr/>
        </p:nvSpPr>
        <p:spPr>
          <a:xfrm>
            <a:off x="447840" y="4960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Я бы, возможно, ответил Вам раньше, если бы я владел точной информацией по этому вопрос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7"/>
          <p:cNvSpPr/>
          <p:nvPr/>
        </p:nvSpPr>
        <p:spPr>
          <a:xfrm>
            <a:off x="447840" y="494172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5. I would probably have answered you before if I’d had exact information on this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Мы бы не поехали на этот курорт, если бы дети не попроси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9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6. We wouldn’t have gone to this resort if the children hadn’t asked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60">
            <a:hlinkClick r:id="rId5" action="ppaction://hlinksldjump"/>
          </p:cNvPr>
          <p:cNvSpPr/>
          <p:nvPr/>
        </p:nvSpPr>
        <p:spPr>
          <a:xfrm>
            <a:off x="8388360" y="6093000"/>
            <a:ext cx="611280" cy="57600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2" h="21600">
                <a:moveTo>
                  <a:pt x="11461" y="3837"/>
                </a:moveTo>
                <a:lnTo>
                  <a:pt x="14037" y="6448"/>
                </a:ln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lnTo>
                  <a:pt x="18424" y="10800"/>
                </a:lnTo>
                <a:lnTo>
                  <a:pt x="16770" y="10800"/>
                </a:lnTo>
                <a:lnTo>
                  <a:pt x="16770" y="17989"/>
                </a:lnTo>
                <a:lnTo>
                  <a:pt x="6152" y="17989"/>
                </a:lnTo>
                <a:lnTo>
                  <a:pt x="6152" y="10800"/>
                </a:lnTo>
                <a:lnTo>
                  <a:pt x="4498" y="10800"/>
                </a:lnTo>
                <a:close/>
              </a:path>
              <a:path fill="darkenLess" w="22922" h="21600">
                <a:moveTo>
                  <a:pt x="14037" y="6448"/>
                </a:move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close/>
              </a:path>
              <a:path fill="darkenLess" w="22922" h="21600">
                <a:moveTo>
                  <a:pt x="10538" y="14299"/>
                </a:moveTo>
                <a:lnTo>
                  <a:pt x="12384" y="14299"/>
                </a:lnTo>
                <a:lnTo>
                  <a:pt x="12384" y="17989"/>
                </a:lnTo>
                <a:lnTo>
                  <a:pt x="16770" y="17989"/>
                </a:lnTo>
                <a:lnTo>
                  <a:pt x="16770" y="10800"/>
                </a:lnTo>
                <a:lnTo>
                  <a:pt x="6152" y="10800"/>
                </a:lnTo>
                <a:lnTo>
                  <a:pt x="6152" y="17989"/>
                </a:lnTo>
                <a:lnTo>
                  <a:pt x="10538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2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07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0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9"/>
          <p:cNvSpPr/>
          <p:nvPr/>
        </p:nvSpPr>
        <p:spPr>
          <a:xfrm>
            <a:off x="611280" y="215280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т быть случаи, в которых одна часть предложения относится к настоящему или будущему, а другая часть относится к прошлому. Такие конструкции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мешанным тип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словных предложени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ожения смешанного типа  как бы "склеены" из условных предложе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тье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ипо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0"/>
          <p:cNvSpPr/>
          <p:nvPr/>
        </p:nvSpPr>
        <p:spPr>
          <a:xfrm>
            <a:off x="663480" y="4960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attentive,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have 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1"/>
          <p:cNvSpPr/>
          <p:nvPr/>
        </p:nvSpPr>
        <p:spPr>
          <a:xfrm>
            <a:off x="663480" y="5661000"/>
            <a:ext cx="8229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бы ты был более внимательным, то сдал бы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эт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зам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24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4360" y="2081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шанные условные предложения в английском язы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т быть дву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32"/>
          <p:cNvSpPr/>
          <p:nvPr/>
        </p:nvSpPr>
        <p:spPr>
          <a:xfrm>
            <a:off x="684360" y="3645000"/>
            <a:ext cx="338292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33"/>
          <p:cNvSpPr/>
          <p:nvPr/>
        </p:nvSpPr>
        <p:spPr>
          <a:xfrm>
            <a:off x="5364000" y="3645000"/>
            <a:ext cx="338328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4"/>
          <p:cNvSpPr/>
          <p:nvPr/>
        </p:nvSpPr>
        <p:spPr>
          <a:xfrm>
            <a:off x="1671480" y="314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5"/>
          <p:cNvSpPr/>
          <p:nvPr/>
        </p:nvSpPr>
        <p:spPr>
          <a:xfrm>
            <a:off x="6640560" y="3141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7"/>
          <p:cNvSpPr/>
          <p:nvPr/>
        </p:nvSpPr>
        <p:spPr>
          <a:xfrm>
            <a:off x="826920" y="3881520"/>
            <a:ext cx="29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вом случае подчеркивается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результат в настоящ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 пр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словии в прошедш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9"/>
          <p:cNvSpPr/>
          <p:nvPr/>
        </p:nvSpPr>
        <p:spPr>
          <a:xfrm>
            <a:off x="5580000" y="3860640"/>
            <a:ext cx="29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тором случае подчеркивается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езультат в прошедш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 пр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условии в настояще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ре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45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755640" y="20098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9"/>
          <p:cNvSpPr/>
          <p:nvPr/>
        </p:nvSpPr>
        <p:spPr>
          <a:xfrm>
            <a:off x="684360" y="2997360"/>
            <a:ext cx="34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0"/>
          <p:cNvSpPr/>
          <p:nvPr/>
        </p:nvSpPr>
        <p:spPr>
          <a:xfrm>
            <a:off x="5651640" y="306864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1042920" y="3716280"/>
            <a:ext cx="2737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5292720" y="3716280"/>
            <a:ext cx="30956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23"/>
          <p:cNvSpPr/>
          <p:nvPr/>
        </p:nvSpPr>
        <p:spPr>
          <a:xfrm>
            <a:off x="3780000" y="3789360"/>
            <a:ext cx="1512720" cy="431640"/>
          </a:xfrm>
          <a:prstGeom prst="rightArrow">
            <a:avLst>
              <a:gd name="adj1" fmla="val 50000"/>
              <a:gd name="adj2" fmla="val 87615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971640" y="3789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…Past Perfect (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5292720" y="371628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инити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9"/>
          <p:cNvSpPr/>
          <p:nvPr/>
        </p:nvSpPr>
        <p:spPr>
          <a:xfrm>
            <a:off x="3780000" y="4581360"/>
            <a:ext cx="1512720" cy="432000"/>
          </a:xfrm>
          <a:prstGeom prst="rightArrow">
            <a:avLst>
              <a:gd name="adj1" fmla="val 50000"/>
              <a:gd name="adj2" fmla="val 87542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826920" y="5516640"/>
            <a:ext cx="7561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1"/>
          <p:cNvSpPr/>
          <p:nvPr/>
        </p:nvSpPr>
        <p:spPr>
          <a:xfrm>
            <a:off x="879480" y="544500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2"/>
          <p:cNvSpPr/>
          <p:nvPr/>
        </p:nvSpPr>
        <p:spPr>
          <a:xfrm>
            <a:off x="879480" y="5516640"/>
            <a:ext cx="668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had 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edicine,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would fe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ch better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6"/>
          <p:cNvSpPr/>
          <p:nvPr/>
        </p:nvSpPr>
        <p:spPr>
          <a:xfrm>
            <a:off x="1042920" y="46022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  Past Simple (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7"/>
          <p:cNvSpPr/>
          <p:nvPr/>
        </p:nvSpPr>
        <p:spPr>
          <a:xfrm>
            <a:off x="5339880" y="4578480"/>
            <a:ext cx="296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uld+have+Participl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8"/>
          <p:cNvSpPr/>
          <p:nvPr/>
        </p:nvSpPr>
        <p:spPr>
          <a:xfrm>
            <a:off x="6287400" y="48657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9"/>
          <p:cNvSpPr/>
          <p:nvPr/>
        </p:nvSpPr>
        <p:spPr>
          <a:xfrm>
            <a:off x="1744560" y="157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40"/>
          <p:cNvSpPr/>
          <p:nvPr/>
        </p:nvSpPr>
        <p:spPr>
          <a:xfrm>
            <a:off x="900000" y="5875200"/>
            <a:ext cx="74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attentive,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 have pa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1"/>
          <p:cNvSpPr/>
          <p:nvPr/>
        </p:nvSpPr>
        <p:spPr>
          <a:xfrm>
            <a:off x="4067280" y="3573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2"/>
          <p:cNvSpPr/>
          <p:nvPr/>
        </p:nvSpPr>
        <p:spPr>
          <a:xfrm>
            <a:off x="4048200" y="4365720"/>
            <a:ext cx="9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80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4360" y="2205000"/>
          <a:ext cx="8135640" cy="4032360"/>
        </p:xfrm>
        <a:graphic>
          <a:graphicData uri="http://schemas.openxmlformats.org/drawingml/2006/table">
            <a:tbl>
              <a:tblPr/>
              <a:tblGrid>
                <a:gridCol w="1008000"/>
                <a:gridCol w="2232000"/>
                <a:gridCol w="2448000"/>
                <a:gridCol w="2447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bbdc"/>
                    </a:soli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cfe6"/>
                    </a:solidFill>
                  </a:tcPr>
                </a:tc>
              </a:tr>
            </a:tbl>
          </a:graphicData>
        </a:graphic>
      </p:graphicFrame>
      <p:sp>
        <p:nvSpPr>
          <p:cNvPr id="593" name="Text Box 44"/>
          <p:cNvSpPr/>
          <p:nvPr/>
        </p:nvSpPr>
        <p:spPr>
          <a:xfrm>
            <a:off x="755640" y="21337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юз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5"/>
          <p:cNvSpPr/>
          <p:nvPr/>
        </p:nvSpPr>
        <p:spPr>
          <a:xfrm>
            <a:off x="2124000" y="2276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4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0"/>
          <p:cNvSpPr/>
          <p:nvPr/>
        </p:nvSpPr>
        <p:spPr>
          <a:xfrm>
            <a:off x="4427640" y="2276640"/>
            <a:ext cx="189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1"/>
          <p:cNvSpPr/>
          <p:nvPr/>
        </p:nvSpPr>
        <p:spPr>
          <a:xfrm>
            <a:off x="6877080" y="22766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4"/>
          <p:cNvSpPr/>
          <p:nvPr/>
        </p:nvSpPr>
        <p:spPr>
          <a:xfrm>
            <a:off x="1743120" y="2873520"/>
            <a:ext cx="1965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attentive,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бы ты был более внимательны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65"/>
          <p:cNvSpPr/>
          <p:nvPr/>
        </p:nvSpPr>
        <p:spPr>
          <a:xfrm>
            <a:off x="684360" y="29448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6"/>
          <p:cNvSpPr/>
          <p:nvPr/>
        </p:nvSpPr>
        <p:spPr>
          <a:xfrm>
            <a:off x="3975120" y="2898720"/>
            <a:ext cx="2397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ould have pas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сдал бы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этот экзаме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7"/>
          <p:cNvSpPr/>
          <p:nvPr/>
        </p:nvSpPr>
        <p:spPr>
          <a:xfrm>
            <a:off x="6372360" y="2801880"/>
            <a:ext cx="2520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бы ты вообще (вчера, сегодня, завтра) был "более внимательным" - мало вероятное, но все же реальное условие (второй тип), то вчера (которое уже не вернешь), ты бы сдал этот экзамен - нереальное следствие условия, относящееся к прошл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68"/>
          <p:cNvSpPr/>
          <p:nvPr/>
        </p:nvSpPr>
        <p:spPr>
          <a:xfrm>
            <a:off x="763200" y="4626000"/>
            <a:ext cx="92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9"/>
          <p:cNvSpPr/>
          <p:nvPr/>
        </p:nvSpPr>
        <p:spPr>
          <a:xfrm>
            <a:off x="1743120" y="4602240"/>
            <a:ext cx="21081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d tak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medicine in the morning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бы ты принял лекарств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1"/>
          <p:cNvSpPr/>
          <p:nvPr/>
        </p:nvSpPr>
        <p:spPr>
          <a:xfrm>
            <a:off x="3975120" y="4554360"/>
            <a:ext cx="2325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ould 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ch better now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 чувствовал себя гораздо лучше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2"/>
          <p:cNvSpPr/>
          <p:nvPr/>
        </p:nvSpPr>
        <p:spPr>
          <a:xfrm>
            <a:off x="6372360" y="4508640"/>
            <a:ext cx="252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 уже окончилось, поэтому это уже нереальное условие, относящееся к прошлому. (третий тип). "Ты сейчас чувствовал бы себя гораздо лучше" - вполне реальное следствие поставленного условия, относящееся к текущему мом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11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42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59"/>
          <p:cNvSpPr/>
          <p:nvPr/>
        </p:nvSpPr>
        <p:spPr>
          <a:xfrm>
            <a:off x="3444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0"/>
          <p:cNvSpPr/>
          <p:nvPr/>
        </p:nvSpPr>
        <p:spPr>
          <a:xfrm>
            <a:off x="2484360" y="200988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 the parts of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67"/>
          <p:cNvSpPr/>
          <p:nvPr/>
        </p:nvSpPr>
        <p:spPr>
          <a:xfrm>
            <a:off x="539640" y="3860640"/>
            <a:ext cx="3456000" cy="64800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68"/>
          <p:cNvSpPr/>
          <p:nvPr/>
        </p:nvSpPr>
        <p:spPr>
          <a:xfrm>
            <a:off x="539640" y="2924280"/>
            <a:ext cx="3456000" cy="72072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69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70"/>
          <p:cNvSpPr/>
          <p:nvPr/>
        </p:nvSpPr>
        <p:spPr>
          <a:xfrm>
            <a:off x="539640" y="5589720"/>
            <a:ext cx="3456000" cy="6476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1"/>
          <p:cNvSpPr/>
          <p:nvPr/>
        </p:nvSpPr>
        <p:spPr>
          <a:xfrm>
            <a:off x="5292720" y="2924280"/>
            <a:ext cx="3672000" cy="72072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72"/>
          <p:cNvSpPr/>
          <p:nvPr/>
        </p:nvSpPr>
        <p:spPr>
          <a:xfrm>
            <a:off x="5292720" y="3860640"/>
            <a:ext cx="3672000" cy="64800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3"/>
          <p:cNvSpPr/>
          <p:nvPr/>
        </p:nvSpPr>
        <p:spPr>
          <a:xfrm>
            <a:off x="5292720" y="4724280"/>
            <a:ext cx="3672000" cy="6494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74"/>
          <p:cNvSpPr/>
          <p:nvPr/>
        </p:nvSpPr>
        <p:spPr>
          <a:xfrm>
            <a:off x="5292720" y="5589720"/>
            <a:ext cx="3672000" cy="6476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78"/>
          <p:cNvSpPr/>
          <p:nvPr/>
        </p:nvSpPr>
        <p:spPr>
          <a:xfrm>
            <a:off x="801720" y="301788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d accep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job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0"/>
          <p:cNvSpPr/>
          <p:nvPr/>
        </p:nvSpPr>
        <p:spPr>
          <a:xfrm>
            <a:off x="5481720" y="3017880"/>
            <a:ext cx="33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millionaire now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3"/>
          <p:cNvSpPr/>
          <p:nvPr/>
        </p:nvSpPr>
        <p:spPr>
          <a:xfrm>
            <a:off x="730080" y="38815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d mar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m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85"/>
          <p:cNvSpPr/>
          <p:nvPr/>
        </p:nvSpPr>
        <p:spPr>
          <a:xfrm>
            <a:off x="5508720" y="48672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l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ppy now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87"/>
          <p:cNvSpPr/>
          <p:nvPr/>
        </p:nvSpPr>
        <p:spPr>
          <a:xfrm>
            <a:off x="802440" y="479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good coo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9"/>
          <p:cNvSpPr/>
          <p:nvPr/>
        </p:nvSpPr>
        <p:spPr>
          <a:xfrm>
            <a:off x="5364000" y="378936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 have inv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m to lunc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91"/>
          <p:cNvSpPr/>
          <p:nvPr/>
        </p:nvSpPr>
        <p:spPr>
          <a:xfrm>
            <a:off x="730080" y="5610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dn't lo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92"/>
          <p:cNvSpPr/>
          <p:nvPr/>
        </p:nvSpPr>
        <p:spPr>
          <a:xfrm>
            <a:off x="5410080" y="5659560"/>
            <a:ext cx="34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uldn't have mar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m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93"/>
          <p:cNvCxnSpPr>
            <a:stCxn id="622" idx="0"/>
            <a:endCxn id="635" idx="1"/>
          </p:cNvCxnSpPr>
          <p:nvPr/>
        </p:nvCxnSpPr>
        <p:spPr>
          <a:xfrm>
            <a:off x="4300560" y="2997360"/>
            <a:ext cx="992880" cy="288000"/>
          </a:xfrm>
          <a:prstGeom prst="straightConnector1">
            <a:avLst/>
          </a:prstGeom>
          <a:ln w="0">
            <a:noFill/>
          </a:ln>
        </p:spPr>
      </p:cxnSp>
      <p:sp>
        <p:nvSpPr>
          <p:cNvPr id="648" name="Line 94"/>
          <p:cNvSpPr/>
          <p:nvPr/>
        </p:nvSpPr>
        <p:spPr>
          <a:xfrm>
            <a:off x="3995640" y="328464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95"/>
          <p:cNvSpPr/>
          <p:nvPr/>
        </p:nvSpPr>
        <p:spPr>
          <a:xfrm>
            <a:off x="3995640" y="4149720"/>
            <a:ext cx="1297080" cy="934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96"/>
          <p:cNvSpPr/>
          <p:nvPr/>
        </p:nvSpPr>
        <p:spPr>
          <a:xfrm flipV="1">
            <a:off x="3995640" y="4220640"/>
            <a:ext cx="1297080" cy="792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97"/>
          <p:cNvSpPr/>
          <p:nvPr/>
        </p:nvSpPr>
        <p:spPr>
          <a:xfrm>
            <a:off x="3995640" y="587700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54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351540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3"/>
          <p:cNvSpPr/>
          <p:nvPr/>
        </p:nvSpPr>
        <p:spPr>
          <a:xfrm>
            <a:off x="2771640" y="2009880"/>
            <a:ext cx="39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correct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4"/>
          <p:cNvSpPr/>
          <p:nvPr/>
        </p:nvSpPr>
        <p:spPr>
          <a:xfrm>
            <a:off x="395280" y="244152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f you were always near 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n’t have got lo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fore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25"/>
          <p:cNvSpPr/>
          <p:nvPr/>
        </p:nvSpPr>
        <p:spPr>
          <a:xfrm>
            <a:off x="755640" y="28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wouldn’t get lost             b) didn’t get lost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n’t have go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26"/>
          <p:cNvSpPr/>
          <p:nvPr/>
        </p:nvSpPr>
        <p:spPr>
          <a:xfrm>
            <a:off x="3419640" y="249228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27"/>
          <p:cNvSpPr/>
          <p:nvPr/>
        </p:nvSpPr>
        <p:spPr>
          <a:xfrm>
            <a:off x="395280" y="3305160"/>
            <a:ext cx="873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You would get a better mark today if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had look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ver the material yesterda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28"/>
          <p:cNvSpPr/>
          <p:nvPr/>
        </p:nvSpPr>
        <p:spPr>
          <a:xfrm>
            <a:off x="5003640" y="335772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9"/>
          <p:cNvSpPr/>
          <p:nvPr/>
        </p:nvSpPr>
        <p:spPr>
          <a:xfrm>
            <a:off x="721080" y="3784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had looked                       b) have looked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0"/>
          <p:cNvSpPr/>
          <p:nvPr/>
        </p:nvSpPr>
        <p:spPr>
          <a:xfrm>
            <a:off x="395280" y="4168800"/>
            <a:ext cx="87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If you hadn't wasted your time on computer games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n’t 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final ex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1"/>
          <p:cNvSpPr/>
          <p:nvPr/>
        </p:nvSpPr>
        <p:spPr>
          <a:xfrm>
            <a:off x="6372360" y="422100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2"/>
          <p:cNvSpPr/>
          <p:nvPr/>
        </p:nvSpPr>
        <p:spPr>
          <a:xfrm>
            <a:off x="755640" y="47941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wouldn’t have failed       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n’t fail                  c) have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17280" y="5176800"/>
            <a:ext cx="70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If I knew her well I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would have accep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her invit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34"/>
          <p:cNvSpPr/>
          <p:nvPr/>
        </p:nvSpPr>
        <p:spPr>
          <a:xfrm>
            <a:off x="2771640" y="5300640"/>
            <a:ext cx="22320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5"/>
          <p:cNvSpPr/>
          <p:nvPr/>
        </p:nvSpPr>
        <p:spPr>
          <a:xfrm>
            <a:off x="735120" y="5661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have accepted                  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 accepted                  c) would have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88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2556000" y="20098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857880" y="2513160"/>
            <a:ext cx="76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Если бы я не любила его, я бы не вышла за него замуж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5"/>
          <p:cNvSpPr/>
          <p:nvPr/>
        </p:nvSpPr>
        <p:spPr>
          <a:xfrm>
            <a:off x="539640" y="2492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didn't love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him,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n't have marrie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him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6"/>
          <p:cNvSpPr/>
          <p:nvPr/>
        </p:nvSpPr>
        <p:spPr>
          <a:xfrm>
            <a:off x="539640" y="3068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бы меня пригласили, я бы приш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7"/>
          <p:cNvSpPr/>
          <p:nvPr/>
        </p:nvSpPr>
        <p:spPr>
          <a:xfrm>
            <a:off x="518040" y="308916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2. If I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were invited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, I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would have come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8"/>
          <p:cNvSpPr/>
          <p:nvPr/>
        </p:nvSpPr>
        <p:spPr>
          <a:xfrm>
            <a:off x="539640" y="366552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бы я хорошо готовил, я бы пригласил их на об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9"/>
          <p:cNvSpPr/>
          <p:nvPr/>
        </p:nvSpPr>
        <p:spPr>
          <a:xfrm>
            <a:off x="515160" y="366552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a good cook,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have invite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them to lunch.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0"/>
          <p:cNvSpPr/>
          <p:nvPr/>
        </p:nvSpPr>
        <p:spPr>
          <a:xfrm>
            <a:off x="539640" y="42418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бы я знал английский, я бы нашел лучшую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31"/>
          <p:cNvSpPr/>
          <p:nvPr/>
        </p:nvSpPr>
        <p:spPr>
          <a:xfrm>
            <a:off x="516960" y="4241880"/>
            <a:ext cx="646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knew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English, I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have got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a better job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2"/>
          <p:cNvSpPr/>
          <p:nvPr/>
        </p:nvSpPr>
        <p:spPr>
          <a:xfrm>
            <a:off x="539640" y="47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Если бы ты был более внимательным, то сдал бы вчера этот экзам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3"/>
          <p:cNvSpPr/>
          <p:nvPr/>
        </p:nvSpPr>
        <p:spPr>
          <a:xfrm>
            <a:off x="539640" y="4797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If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more attentive,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ould have passe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the exam yesterday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34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2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2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84360" y="227664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 в таких предложениях идет не об одной конкретной ситуации, а о чем-то, что верно всегда – такая «универсальная правд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f we heat water it boils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Если мы нагреем воду, она закип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беих частях предложения употребляется Present Si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21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2"/>
          <p:cNvSpPr/>
          <p:nvPr/>
        </p:nvSpPr>
        <p:spPr>
          <a:xfrm>
            <a:off x="611280" y="2276640"/>
            <a:ext cx="83534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ожения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I wish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ются для выражения сожаления, разочарования, грусти, когда что-то столь желаемое не получается или не получилось ранее. Они имеют много общего с условными предложениями. Для этого в них присутствует слово wish (жалко, что не).</a:t>
            </a:r>
            <a:br>
              <a:rPr sz="2400"/>
            </a:br>
            <a:br>
              <a:rPr sz="24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I wish I knew what to do about the proble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Жаль, что я не знаю, что делать с этой проблемой (и я сожале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42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3"/>
          <p:cNvSpPr/>
          <p:nvPr/>
        </p:nvSpPr>
        <p:spPr>
          <a:xfrm>
            <a:off x="755640" y="20811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нглийском языке предложения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 wi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ут быть трех тип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AutoShape 26"/>
          <p:cNvSpPr/>
          <p:nvPr/>
        </p:nvSpPr>
        <p:spPr>
          <a:xfrm>
            <a:off x="61128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27"/>
          <p:cNvSpPr/>
          <p:nvPr/>
        </p:nvSpPr>
        <p:spPr>
          <a:xfrm>
            <a:off x="356400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utoShape 28"/>
          <p:cNvSpPr/>
          <p:nvPr/>
        </p:nvSpPr>
        <p:spPr>
          <a:xfrm>
            <a:off x="644364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755640" y="3449520"/>
            <a:ext cx="23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стояще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стоящ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3635280" y="3449520"/>
            <a:ext cx="22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шедше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ш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6"/>
          <p:cNvSpPr/>
          <p:nvPr/>
        </p:nvSpPr>
        <p:spPr>
          <a:xfrm>
            <a:off x="6516720" y="335772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ы желаем, чтобы что-то произо-шло в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удущем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ожалеем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стояще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69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23"/>
          <p:cNvSpPr/>
          <p:nvPr/>
        </p:nvSpPr>
        <p:spPr>
          <a:xfrm>
            <a:off x="684360" y="2060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  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611280" y="2637000"/>
            <a:ext cx="3600360" cy="360036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5364000" y="2637000"/>
            <a:ext cx="3529080" cy="360036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8"/>
          <p:cNvSpPr/>
          <p:nvPr/>
        </p:nvSpPr>
        <p:spPr>
          <a:xfrm>
            <a:off x="1042920" y="2924280"/>
            <a:ext cx="273708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5796000" y="2924280"/>
            <a:ext cx="273672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30"/>
          <p:cNvSpPr/>
          <p:nvPr/>
        </p:nvSpPr>
        <p:spPr>
          <a:xfrm>
            <a:off x="5919840" y="2944800"/>
            <a:ext cx="246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ast Simple / Past Continuo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31"/>
          <p:cNvSpPr/>
          <p:nvPr/>
        </p:nvSpPr>
        <p:spPr>
          <a:xfrm>
            <a:off x="1528920" y="29448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sh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32"/>
          <p:cNvSpPr/>
          <p:nvPr/>
        </p:nvSpPr>
        <p:spPr>
          <a:xfrm>
            <a:off x="1547640" y="393372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sh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33"/>
          <p:cNvSpPr/>
          <p:nvPr/>
        </p:nvSpPr>
        <p:spPr>
          <a:xfrm>
            <a:off x="1547640" y="472428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sh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4"/>
          <p:cNvSpPr/>
          <p:nvPr/>
        </p:nvSpPr>
        <p:spPr>
          <a:xfrm>
            <a:off x="5992920" y="39337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5"/>
          <p:cNvSpPr/>
          <p:nvPr/>
        </p:nvSpPr>
        <p:spPr>
          <a:xfrm>
            <a:off x="5867280" y="467352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ould + 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36"/>
          <p:cNvSpPr/>
          <p:nvPr/>
        </p:nvSpPr>
        <p:spPr>
          <a:xfrm>
            <a:off x="3780000" y="306864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37"/>
          <p:cNvSpPr/>
          <p:nvPr/>
        </p:nvSpPr>
        <p:spPr>
          <a:xfrm>
            <a:off x="3780000" y="400536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8"/>
          <p:cNvSpPr/>
          <p:nvPr/>
        </p:nvSpPr>
        <p:spPr>
          <a:xfrm>
            <a:off x="3780000" y="4797360"/>
            <a:ext cx="2016000" cy="432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826920" y="5516640"/>
            <a:ext cx="7848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40"/>
          <p:cNvSpPr/>
          <p:nvPr/>
        </p:nvSpPr>
        <p:spPr>
          <a:xfrm>
            <a:off x="3635280" y="53942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ne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e answer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41"/>
          <p:cNvSpPr/>
          <p:nvPr/>
        </p:nvSpPr>
        <p:spPr>
          <a:xfrm>
            <a:off x="1979640" y="5734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adn’t bee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so rude to my parents yesterda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42"/>
          <p:cNvSpPr/>
          <p:nvPr/>
        </p:nvSpPr>
        <p:spPr>
          <a:xfrm>
            <a:off x="1116000" y="60418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ould sto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aying computer games and spend some time with m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06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807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539640" y="2276640"/>
          <a:ext cx="8425080" cy="3960720"/>
        </p:xfrm>
        <a:graphic>
          <a:graphicData uri="http://schemas.openxmlformats.org/drawingml/2006/table">
            <a:tbl>
              <a:tblPr/>
              <a:tblGrid>
                <a:gridCol w="1944720"/>
                <a:gridCol w="2158920"/>
                <a:gridCol w="2160720"/>
                <a:gridCol w="21607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c5e0"/>
                    </a:solidFill>
                  </a:tcPr>
                </a:tc>
              </a:tr>
            </a:tbl>
          </a:graphicData>
        </a:graphic>
      </p:graphicFrame>
      <p:sp>
        <p:nvSpPr>
          <p:cNvPr id="826" name="Text Box 63"/>
          <p:cNvSpPr/>
          <p:nvPr/>
        </p:nvSpPr>
        <p:spPr>
          <a:xfrm>
            <a:off x="1099080" y="23684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64"/>
          <p:cNvSpPr/>
          <p:nvPr/>
        </p:nvSpPr>
        <p:spPr>
          <a:xfrm>
            <a:off x="2885760" y="23684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яс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5"/>
          <p:cNvSpPr/>
          <p:nvPr/>
        </p:nvSpPr>
        <p:spPr>
          <a:xfrm>
            <a:off x="4944600" y="229716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66"/>
          <p:cNvSpPr/>
          <p:nvPr/>
        </p:nvSpPr>
        <p:spPr>
          <a:xfrm>
            <a:off x="7278840" y="2368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в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67"/>
          <p:cNvSpPr/>
          <p:nvPr/>
        </p:nvSpPr>
        <p:spPr>
          <a:xfrm>
            <a:off x="539640" y="301788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sh + Past Simple / Past Continuo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68"/>
          <p:cNvSpPr/>
          <p:nvPr/>
        </p:nvSpPr>
        <p:spPr>
          <a:xfrm>
            <a:off x="611280" y="4168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ish + Past Per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69"/>
          <p:cNvSpPr/>
          <p:nvPr/>
        </p:nvSpPr>
        <p:spPr>
          <a:xfrm>
            <a:off x="595080" y="53211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wish + Woul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70"/>
          <p:cNvSpPr/>
          <p:nvPr/>
        </p:nvSpPr>
        <p:spPr>
          <a:xfrm>
            <a:off x="2484360" y="29448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алеем о чем-либо в настоящем, 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менить не мож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71"/>
          <p:cNvSpPr/>
          <p:nvPr/>
        </p:nvSpPr>
        <p:spPr>
          <a:xfrm>
            <a:off x="2484360" y="42418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алеем о прошл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72"/>
          <p:cNvSpPr/>
          <p:nvPr/>
        </p:nvSpPr>
        <p:spPr>
          <a:xfrm>
            <a:off x="2484360" y="5084640"/>
            <a:ext cx="215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ражаем свое недовольство текущ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м 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73"/>
          <p:cNvSpPr/>
          <p:nvPr/>
        </p:nvSpPr>
        <p:spPr>
          <a:xfrm>
            <a:off x="4695840" y="2970360"/>
            <a:ext cx="20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lived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in France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4"/>
          <p:cNvSpPr/>
          <p:nvPr/>
        </p:nvSpPr>
        <p:spPr>
          <a:xfrm>
            <a:off x="4767120" y="4149720"/>
            <a:ext cx="196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had listened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to my parents when I was a teenager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75"/>
          <p:cNvSpPr/>
          <p:nvPr/>
        </p:nvSpPr>
        <p:spPr>
          <a:xfrm>
            <a:off x="4767120" y="5202360"/>
            <a:ext cx="196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would call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your Granny more ofte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76"/>
          <p:cNvSpPr/>
          <p:nvPr/>
        </p:nvSpPr>
        <p:spPr>
          <a:xfrm>
            <a:off x="6856560" y="3068640"/>
            <a:ext cx="203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ак жаль, что я не живу во Франц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7"/>
          <p:cNvSpPr/>
          <p:nvPr/>
        </p:nvSpPr>
        <p:spPr>
          <a:xfrm>
            <a:off x="6856560" y="4025880"/>
            <a:ext cx="203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аль, что я не слушался родителей будучи подростк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78"/>
          <p:cNvSpPr/>
          <p:nvPr/>
        </p:nvSpPr>
        <p:spPr>
          <a:xfrm>
            <a:off x="6804000" y="517680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Было бы неплохо, если бы ты звонил бабуле чащ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43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844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22"/>
          <p:cNvSpPr/>
          <p:nvPr/>
        </p:nvSpPr>
        <p:spPr>
          <a:xfrm>
            <a:off x="329976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2"/>
          <p:cNvSpPr/>
          <p:nvPr/>
        </p:nvSpPr>
        <p:spPr>
          <a:xfrm>
            <a:off x="2843280" y="2009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664560" y="244152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ns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84360" y="2441520"/>
            <a:ext cx="45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Жаль, что я не знаю от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84360" y="28735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n’t have to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905760" y="2873520"/>
            <a:ext cx="55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Жаль, что мне завтра нужно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абота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84360" y="3305160"/>
            <a:ext cx="75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n’t b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rude to my parents yester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950760" y="330516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Жаль, что ты нагрубил моим родителям вч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684360" y="3736800"/>
            <a:ext cx="69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 t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about your plans in adv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1018440" y="3736800"/>
            <a:ext cx="71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Жаль, что ты мне не сказал о своих планах заран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684360" y="42418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w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g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853920" y="42418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5. Как жаль, что мы не поедем с тобой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684360" y="46735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sto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ing computer games and spend some time with 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663480" y="4673520"/>
            <a:ext cx="77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6. Как бы я хотела, чтобы ты прекратил играть в компьютерные игры и уделил мне время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2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2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0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2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20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20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2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20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77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878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22"/>
          <p:cNvSpPr/>
          <p:nvPr/>
        </p:nvSpPr>
        <p:spPr>
          <a:xfrm>
            <a:off x="3515400" y="157644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23"/>
          <p:cNvSpPr/>
          <p:nvPr/>
        </p:nvSpPr>
        <p:spPr>
          <a:xfrm>
            <a:off x="3059280" y="2009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24"/>
          <p:cNvSpPr/>
          <p:nvPr/>
        </p:nvSpPr>
        <p:spPr>
          <a:xfrm>
            <a:off x="592200" y="256536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Жаль, что я не знаю, что делать с этой проблемой (и я сожале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26"/>
          <p:cNvSpPr/>
          <p:nvPr/>
        </p:nvSpPr>
        <p:spPr>
          <a:xfrm>
            <a:off x="611280" y="2565360"/>
            <a:ext cx="60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I wish I knew what to do about the problem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7"/>
          <p:cNvSpPr/>
          <p:nvPr/>
        </p:nvSpPr>
        <p:spPr>
          <a:xfrm>
            <a:off x="611280" y="344952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28"/>
          <p:cNvSpPr/>
          <p:nvPr/>
        </p:nvSpPr>
        <p:spPr>
          <a:xfrm>
            <a:off x="591120" y="344952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you didn’t have to go so so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9"/>
          <p:cNvSpPr/>
          <p:nvPr/>
        </p:nvSpPr>
        <p:spPr>
          <a:xfrm>
            <a:off x="611280" y="39337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30"/>
          <p:cNvSpPr/>
          <p:nvPr/>
        </p:nvSpPr>
        <p:spPr>
          <a:xfrm>
            <a:off x="592200" y="393372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I hadn’t said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31"/>
          <p:cNvSpPr/>
          <p:nvPr/>
        </p:nvSpPr>
        <p:spPr>
          <a:xfrm>
            <a:off x="611280" y="4437000"/>
            <a:ext cx="61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л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ерд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588600" y="445788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I had studied harder at scho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611280" y="49608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Жаль, что я не говорю по-итальянс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611280" y="496080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5. I wish I spoke Italian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611280" y="544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Жа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я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аппа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36"/>
          <p:cNvSpPr/>
          <p:nvPr/>
        </p:nvSpPr>
        <p:spPr>
          <a:xfrm>
            <a:off x="589320" y="5465880"/>
            <a:ext cx="45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 wish I had brought my camer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7"/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2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0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2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0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2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12" name="WordArt 3"/>
          <p:cNvSpPr txBox="1"/>
          <p:nvPr/>
        </p:nvSpPr>
        <p:spPr>
          <a:xfrm>
            <a:off x="2124000" y="404640"/>
            <a:ext cx="64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13" name="Picture 4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3544920" y="157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6"/>
          <p:cNvSpPr/>
          <p:nvPr/>
        </p:nvSpPr>
        <p:spPr>
          <a:xfrm>
            <a:off x="2411280" y="20098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ЕМЫЕ  РЕСУР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7"/>
          <p:cNvSpPr/>
          <p:nvPr/>
        </p:nvSpPr>
        <p:spPr>
          <a:xfrm>
            <a:off x="663480" y="2781360"/>
            <a:ext cx="815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ицинский Ю.Б.  Грамматика: Сборник упражнений. - 6-е изд., - СПб.: КАРО, 2008. - 544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ctiveenglish.ru &gt; category/grammar/conditionals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tudy.ru &gt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и онлай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gblog.ru/conditional-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-World.ru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language/grammar…171-uslovno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uzzle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›Ур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755640" y="2009880"/>
            <a:ext cx="82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826920" y="306864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703840" y="30686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Presen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5435640" y="3789360"/>
            <a:ext cx="2736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6"/>
          <p:cNvSpPr/>
          <p:nvPr/>
        </p:nvSpPr>
        <p:spPr>
          <a:xfrm>
            <a:off x="3780000" y="3933720"/>
            <a:ext cx="1655640" cy="790560"/>
          </a:xfrm>
          <a:prstGeom prst="rightArrow">
            <a:avLst>
              <a:gd name="adj1" fmla="val 50000"/>
              <a:gd name="adj2" fmla="val 52357"/>
            </a:avLst>
          </a:prstGeom>
          <a:solidFill>
            <a:srgbClr val="8ade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87640" y="544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ce, it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me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40200" y="1484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 ЗАПОМ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08200" y="2349360"/>
            <a:ext cx="772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ных предложениях нулевого типа сою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ет заменяться союз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te, my fa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to school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г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аздыва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от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воз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ня в школ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own, w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nner together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г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езжа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жина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083760" y="157644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607840" y="20098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87880" y="2657520"/>
            <a:ext cx="55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 for wor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 chie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r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952200" y="2657520"/>
            <a:ext cx="76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Если я опоздаю на работу, мой начальник рассерд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11280" y="323388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eat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vegetari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941040" y="3233880"/>
            <a:ext cx="69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Человек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т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мяса,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н/он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егетариане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11280" y="38098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get u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, my father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me to scho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887040" y="3809880"/>
            <a:ext cx="71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Если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стаю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ано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,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то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тец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двозит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меня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шко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11280" y="43848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wet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rain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845280" y="438480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Все становится мокрым, если идет дож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ZERO CONDITIONA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92360" y="15573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РАЖНЕНИЕ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96712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 the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92200" y="265752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ты хочешь хорошую работу, ты должен хорошо учить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9640" y="26575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f 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ant 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a good job, 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have to study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11280" y="359424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ш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худе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90040" y="3594240"/>
            <a:ext cx="80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houldn’t eat 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o much if you 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ant to lose 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om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611280" y="42418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хранить кофе в морозильнике, то аромат сохраняется дольш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83920" y="4241880"/>
            <a:ext cx="73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f you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keep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coffee in the freezer, its aroma 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stay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11280" y="522936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обака радуется, когда видит хозяи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87880" y="5249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dog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happy when it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sees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ts master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9">
            <a:hlinkClick r:id="rId5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29b8b4fb76a1"/>
          <p:cNvPicPr/>
          <p:nvPr/>
        </p:nvPicPr>
        <p:blipFill>
          <a:blip r:embed="rId4"/>
          <a:stretch/>
        </p:blipFill>
        <p:spPr>
          <a:xfrm>
            <a:off x="395280" y="333360"/>
            <a:ext cx="1440000" cy="1943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468360" y="1989000"/>
            <a:ext cx="828036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й тип условных предложений называется реальным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к. выполнение условий в этих предложениях вполне осуществим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мотря на русский перевод, условная часть предложения выражается только при помощи Настоящего времени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ычно Present Simpl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. 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е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уще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you finish your homework, we shall go to the cin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усском переводе обе части предложения будут находиться в будущем вре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ты закончишь домашнюю работу, мы пойдем в ки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6:40:29Z</dcterms:created>
  <dc:creator>User</dc:creator>
  <dc:description/>
  <dc:language>en-US</dc:language>
  <cp:lastModifiedBy>Наталья</cp:lastModifiedBy>
  <dcterms:modified xsi:type="dcterms:W3CDTF">2020-04-11T19:42:26Z</dcterms:modified>
  <cp:revision>77</cp:revision>
  <dc:subject/>
  <dc:title>CONDITIONALS</dc:title>
</cp:coreProperties>
</file>