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jpeg" ContentType="image/jpeg"/>
  <Override PartName="/ppt/media/image10.jpeg" ContentType="image/jpeg"/>
  <Override PartName="/ppt/media/image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C1ED-CD52-42A8-9A25-795F08B98B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0C85-14F3-4C60-BA39-97932702098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E98F-FBF1-4FDB-A741-9F6E8E64D48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A02D-824C-4CBD-A0B4-47092CB40D2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4503-9D42-4AC3-AD8F-A03A2C3E766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FD25-F18B-4E83-B28C-CBD9CAA1C45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29C2-76FF-4BED-9483-A75F63180C2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DD39-2DAF-4ACA-90CD-9949706D85B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69F4-0B0D-484C-8E8F-15E7ECAEA6A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9220-3230-4EF5-BEC4-0C5F43CA432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C486-14B3-4D86-B9DB-A681D5EB0B3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54E7-8AF6-4C0C-98C4-55D04B61415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7515-FF7F-4A1A-A3C8-C4D067CEE61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A51A-1016-4519-81B8-ABBF7ED8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A1BD-4F4A-422A-A670-388FEFC4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57A3-D9C3-4636-AFC2-3A3F5F11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CC14-B432-4BFF-A940-FE843CA9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999C-5C25-45BF-8B5B-267511CE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F3AC-4D86-45C5-8F75-995B4301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2D01-846C-4D72-B3BB-ADF264E2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768D-D5C5-4F53-8002-26EAC23D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1168-43A7-447F-99D0-4E017182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EAAF-FFDF-4F3C-A006-E4EB17D2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3365-028D-4C76-BB32-1982D141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89DF-DCDB-4C2B-9022-E3982048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5BDA-628E-4682-8BCD-7B442F31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8F73-D0BC-4250-AA94-AF0BE10E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8CB2-B9D2-47D0-902E-E31DF25C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B67F-0622-45B9-91DD-25615699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AF3C-FE24-4014-AE17-7EE4A2C5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5B2-9D08-42B4-BDE8-0559F3D2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D959-C1E4-405C-ADCE-2896F4A2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073-72ED-4FD2-8127-CEF2DE5A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F86-AE94-4931-8E32-2A583424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398C-AF4B-44A6-9769-252E566C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F6A2-64C6-4B93-B1AC-95D19B36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5D3E-8A09-441B-ACE1-0DD46EDA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156D-BB5C-435A-B171-97544BF2EF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30B4-0399-456F-9D63-F5516FC619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33160" y="3782880"/>
            <a:ext cx="78548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икторина по сказк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Подзаголовок 2"/>
          <p:cNvSpPr/>
          <p:nvPr/>
        </p:nvSpPr>
        <p:spPr>
          <a:xfrm>
            <a:off x="611280" y="1628640"/>
            <a:ext cx="785484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Корней Иванович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Arial"/>
              </a:rPr>
              <a:t>Чуковский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1688760" y="635796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«ЦЫПЛЁНО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Цыпленок - Корней Чуковский"/>
          <p:cNvPicPr/>
          <p:nvPr/>
        </p:nvPicPr>
        <p:blipFill>
          <a:blip r:embed="rId2"/>
          <a:srcRect l="0" t="0" r="0" b="17846"/>
          <a:stretch/>
        </p:blipFill>
        <p:spPr>
          <a:xfrm>
            <a:off x="2627280" y="1341360"/>
            <a:ext cx="345600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571680" y="571680"/>
            <a:ext cx="621504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6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ОИ  СКАЗОК  РАСТЕРЯЛИ  СВОИ ВЕЩ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АЙТЕ  ПОМОЖЕМ  ЭТИ  ВЕЩИ  СОБР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ОКОЛАД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Телефон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УЛКИ И БАШМА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Чудо-дерево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ЁЛОЧ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рокодил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РОГИ, БЛ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утаниц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ЕФ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Телефон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В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уха-цокотуха», «Федорино гор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ЛНЦ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раденое солнц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Сказка Чудо-дерево - Корней Иванович Чуковский"/>
          <p:cNvPicPr/>
          <p:nvPr/>
        </p:nvPicPr>
        <p:blipFill>
          <a:blip r:embed="rId2"/>
          <a:stretch/>
        </p:blipFill>
        <p:spPr>
          <a:xfrm>
            <a:off x="5580000" y="1773360"/>
            <a:ext cx="3270240" cy="327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 flipV="1" rot="10800000">
            <a:off x="283680" y="5093280"/>
            <a:ext cx="357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Чте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лучшее учение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Дидактические игры для средней группы (по сказкам Корнея Ивановича Чуковского) - Планета Детства"/>
          <p:cNvPicPr/>
          <p:nvPr/>
        </p:nvPicPr>
        <p:blipFill>
          <a:blip r:embed="rId2"/>
          <a:stretch/>
        </p:blipFill>
        <p:spPr>
          <a:xfrm>
            <a:off x="6084720" y="404640"/>
            <a:ext cx="2803680" cy="3910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МойДодыр (1954) смотреть онлайн &quot; Сайт для маленьких и &quot;взрослых&quot; детей"/>
          <p:cNvPicPr/>
          <p:nvPr/>
        </p:nvPicPr>
        <p:blipFill>
          <a:blip r:embed="rId3"/>
          <a:stretch/>
        </p:blipFill>
        <p:spPr>
          <a:xfrm>
            <a:off x="900000" y="260280"/>
            <a:ext cx="3000600" cy="4390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Айболит &quot; скачать бесплатно книгу, журнал, литературу в электронной библиотеке Фонд Книг без регистрации"/>
          <p:cNvPicPr/>
          <p:nvPr/>
        </p:nvPicPr>
        <p:blipFill>
          <a:blip r:embed="rId4"/>
          <a:stretch/>
        </p:blipFill>
        <p:spPr>
          <a:xfrm>
            <a:off x="2771640" y="1125360"/>
            <a:ext cx="2946600" cy="3981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Краденое солнце, Чуковский Корней Иванович"/>
          <p:cNvPicPr/>
          <p:nvPr/>
        </p:nvPicPr>
        <p:blipFill>
          <a:blip r:embed="rId5"/>
          <a:stretch/>
        </p:blipFill>
        <p:spPr>
          <a:xfrm>
            <a:off x="4932360" y="2637000"/>
            <a:ext cx="2706840" cy="38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1517760" y="1590840"/>
            <a:ext cx="7126200" cy="41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4" descr=""/>
          <p:cNvPicPr/>
          <p:nvPr/>
        </p:nvPicPr>
        <p:blipFill>
          <a:blip r:embed="rId2"/>
          <a:stretch/>
        </p:blipFill>
        <p:spPr>
          <a:xfrm>
            <a:off x="1763640" y="333360"/>
            <a:ext cx="4038840" cy="592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500040" y="357120"/>
            <a:ext cx="4500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1. УГАДАЙ-К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Вдруг откуда-то шак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На кобыле прискака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«Вот вам телеграм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От  гиппопотама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(«Айболит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Долго, долго крокод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Море синее тушил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(«Путаница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А злодей- то не шути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Руки- ноги он Мухе верёвками крути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Зубы острые в самое сердце вонза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И кровь у неё выпивает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(«Муха-цокотуха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Каталог художественного отдела Русского Музея Императора Александра III 740289 Кеды кроссовки женские Etnies Caprice Eco Blue/Wh"/>
          <p:cNvPicPr/>
          <p:nvPr/>
        </p:nvPicPr>
        <p:blipFill>
          <a:blip r:embed="rId2"/>
          <a:srcRect l="0" t="10796" r="35535" b="10692"/>
          <a:stretch/>
        </p:blipFill>
        <p:spPr>
          <a:xfrm>
            <a:off x="4643280" y="620640"/>
            <a:ext cx="3961080" cy="518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552960" y="357120"/>
            <a:ext cx="4773960" cy="67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2 . ЧЬИ ЭТО СЛОВ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«Где убийца, Где злоде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Не боюсь его когтей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- «Кому велено чирикать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Не мурлыкайте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- «Я знаменитый капитан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Мне не страшен ураган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- «Стыдно старому реветь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Ты не заяц, а Медвед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Ты поди-ка, косолапы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Крокодила исцарапай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- «Я Федорушку прощаю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Сладким чаем угоща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Кушай, кушай, Федора Егоровна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4857840" y="857160"/>
            <a:ext cx="37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комарик  «Муха-Цокотуха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4844520" y="192888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заинька «Путаница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4071960" y="2928960"/>
            <a:ext cx="49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(Бибигон «Приключение Бибигона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4286160" y="435780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зайчиха «Краденое солнце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4929120" y="557208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(самовар «Федорино горе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285840" y="428760"/>
            <a:ext cx="8429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3.   Я утверждаю, что все эти сказ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исал К.И.Чуковск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 ли эт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ОБО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сская народная сказ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АЙБОЛИ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.И.Чуковск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ВИННИ-ПУХ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. Мил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ДЮЙМОВОЧ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.Х. Андерсе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РОКОДИЛ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.И. Чуковск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РИКЛЮЧЕНИЕ  БИБИГОН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.И. Чуковск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Муха Цокотуха. Читать сказки К. Чуковского с картинками Сказка про муху Цокотуху с иллюстрациями для детей Сказочный домик"/>
          <p:cNvPicPr/>
          <p:nvPr/>
        </p:nvPicPr>
        <p:blipFill>
          <a:blip r:embed="rId2"/>
          <a:srcRect l="7356" t="0" r="14270" b="0"/>
          <a:stretch/>
        </p:blipFill>
        <p:spPr>
          <a:xfrm>
            <a:off x="324000" y="2852640"/>
            <a:ext cx="3060720" cy="3200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Доска объявлений - Личный сайт"/>
          <p:cNvPicPr/>
          <p:nvPr/>
        </p:nvPicPr>
        <p:blipFill>
          <a:blip r:embed="rId3"/>
          <a:stretch/>
        </p:blipFill>
        <p:spPr>
          <a:xfrm>
            <a:off x="5940360" y="836640"/>
            <a:ext cx="2846520" cy="36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500040" y="571680"/>
            <a:ext cx="8072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ТЕ ИМ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КТОР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УЛА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БОЙНИК, ЗЛОДЕЙ, УЖАСНЫЙ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ЛИКИЙ УМЫВАЛЬНИК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УХА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АБУШКА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ОМНЫЙ И ГРОЗНЫЙ ИНДЮК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МЯ ДЕТИШЕК КРОКОДИЛА В СКАЗКЕ «КРОКОДИЛ»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ОЕЦ, МОЛОДЕЦ, ОН ГЕРОЙ УДАЛОЙ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ЕЗ НЯНИ ГУЛЯЕТ ПО УЛИЦАМ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785960" y="114300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(ДОКТОР  АЙБОЛИ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2143080" y="17859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(КАРАКУЛ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4857840" y="2286000"/>
            <a:ext cx="22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(БАРМАЛЕ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4071960" y="285768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(МОЙДОДЫ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2571840" y="335772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(ЦОКОТУХ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2428920" y="392904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(ФЕДОРА  ЕГОРОВН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5000760" y="45007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(БРУНДУЛЯ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2928960" y="5500800"/>
            <a:ext cx="695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(ТОТОШЕНЬКА, КОКОШЕНЬКА, ЛЕЛЁШЕНЬ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4357800" y="64882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(ВАНЯ ВАСИЛЬЧИКО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Сказки К.Чуковского. - Картинка 14 - Сказки К.И.Чуковского - Чуковский - Картинки по литературе"/>
          <p:cNvPicPr/>
          <p:nvPr/>
        </p:nvPicPr>
        <p:blipFill>
          <a:blip r:embed="rId2"/>
          <a:srcRect l="32828" t="30614" r="17050" b="0"/>
          <a:stretch/>
        </p:blipFill>
        <p:spPr>
          <a:xfrm>
            <a:off x="6732720" y="620640"/>
            <a:ext cx="223200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2"/>
          <p:cNvSpPr/>
          <p:nvPr/>
        </p:nvSpPr>
        <p:spPr>
          <a:xfrm>
            <a:off x="785880" y="428760"/>
            <a:ext cx="4357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КАКОЙ СКАЗКИ ИЛЛЮСТРАЦИ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1071720" y="621504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УХА-ЦОКОТУХ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Муха Цокотуха. Читать сказки К. Чуковского с картинками Сказка про муху Цокотуху с иллюстрациями для детей Сказочный домик"/>
          <p:cNvPicPr/>
          <p:nvPr/>
        </p:nvPicPr>
        <p:blipFill>
          <a:blip r:embed="rId2"/>
          <a:stretch/>
        </p:blipFill>
        <p:spPr>
          <a:xfrm>
            <a:off x="971640" y="1484280"/>
            <a:ext cx="6840360" cy="39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2"/>
          <p:cNvSpPr/>
          <p:nvPr/>
        </p:nvSpPr>
        <p:spPr>
          <a:xfrm>
            <a:off x="827640" y="635796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«ТЕЛЕФО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Телефон - сказки для детей Корнея Чуковского. - 31 May 2013 - Blog - Shadowside"/>
          <p:cNvPicPr/>
          <p:nvPr/>
        </p:nvPicPr>
        <p:blipFill>
          <a:blip r:embed="rId2"/>
          <a:srcRect l="0" t="18812" r="842" b="8419"/>
          <a:stretch/>
        </p:blipFill>
        <p:spPr>
          <a:xfrm>
            <a:off x="1619280" y="476280"/>
            <a:ext cx="5808600" cy="55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8:44:53Z</dcterms:created>
  <dc:creator>КМ</dc:creator>
  <dc:description/>
  <dc:language>en-US</dc:language>
  <cp:lastModifiedBy>Admin</cp:lastModifiedBy>
  <dcterms:modified xsi:type="dcterms:W3CDTF">2014-08-17T15:40:01Z</dcterms:modified>
  <cp:revision>56</cp:revision>
  <dc:subject/>
  <dc:title>Корней Иванович Чуковский (1882-1969)</dc:title>
</cp:coreProperties>
</file>