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DEC0-DAAF-4FD2-8CA6-0D42735BBC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59DE-BAB1-4C7B-A5E9-7C66302D60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B476-16A5-455D-9190-1EC5BAAA400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A842-C008-4007-B3DB-460C87220A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30CC-0C62-48AB-BA27-8F47790E491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48A9-416F-4DA2-965B-16322DB667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942-7FA3-4DFD-9518-9C6156E12A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7E3E-7FD4-4BE9-96FA-776549D14C2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8863-7D7A-4872-BB0A-00566DBDE9E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2235-0EBF-49E1-8AF3-4B6A2F64BC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1AD2-05FD-4EB0-BD87-4DBF77CA56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FCB8-BBD3-4D0C-8BB4-D832D6D317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2980-B3D7-4424-9ABE-8D6291BC7B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F3F-C605-4D9B-A9F5-97CF8047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DDA-2389-4095-B9C5-03A6610B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CF1-EA75-489B-BF15-CA1EB186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B19-D91A-4E10-A8DE-30EEEC20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C68B-DA76-465C-B9D8-8871C7CE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D168-ABF3-46AD-9003-C869107A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F91F-CC07-43D1-B378-30E24E4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D8EA-2E09-46A8-8C38-E8B5AA1C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BC04-7945-48DE-A396-C9CD7FB4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2E7D-F7A9-4CF7-B826-D29CBCCC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0FA8-7E48-475D-A21B-4D6E4340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31B-2172-4444-8EA8-CC7E3AC9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FE94-1106-487E-8507-0166C2C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C8A2-124C-47EA-B252-141232F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3A20-1734-41C8-8597-BDA862BE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A17-074F-4B06-9141-510CE1D2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591A-A829-4139-892F-55A145C5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432-DC4D-477B-9D57-8D3E5F4D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56C-9320-4FE5-B32B-1EC93558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D0B-A006-476B-919B-3B5FACB4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A64-278C-4440-99D6-4CC4664A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C32-52FA-49A2-BFBD-7F2725E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388-2BAB-4817-AE5E-36534B0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9B8-0B46-4209-AE8B-EB5F5AB3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416F-B961-403A-AD5C-A16D031C70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9604-D9D3-4480-8DDA-68FE78D4F2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33160" y="3782880"/>
            <a:ext cx="78548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кторина по сказк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611280" y="1628640"/>
            <a:ext cx="78548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Корней Иванович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Чуковский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1688760" y="635796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«ЦЫПЛЁН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Цыпленок - Корней Чуковский"/>
          <p:cNvPicPr/>
          <p:nvPr/>
        </p:nvPicPr>
        <p:blipFill>
          <a:blip r:embed="rId2"/>
          <a:srcRect l="0" t="0" r="0" b="17846"/>
          <a:stretch/>
        </p:blipFill>
        <p:spPr>
          <a:xfrm>
            <a:off x="2627280" y="1341360"/>
            <a:ext cx="345600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571680" y="571680"/>
            <a:ext cx="621504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6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И  СКАЗОК  РАСТЕРЯЛИ  СВОИ ВЕЩ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 ПОМОЖЕМ  ЭТИ  ВЕЩИ  СОБР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КОЛАД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ЛКИ И БАШМА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удо-дере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ЁЛ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рокоди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ОГИ, Б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утаниц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Ф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В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уха-цокотуха», «Федорино гор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Н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раденое солнц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Сказка Чудо-дерево - Корней Иванович Чуковский"/>
          <p:cNvPicPr/>
          <p:nvPr/>
        </p:nvPicPr>
        <p:blipFill>
          <a:blip r:embed="rId2"/>
          <a:stretch/>
        </p:blipFill>
        <p:spPr>
          <a:xfrm>
            <a:off x="5580000" y="1773360"/>
            <a:ext cx="3270240" cy="32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 flipV="1" rot="10800000">
            <a:off x="283680" y="5093280"/>
            <a:ext cx="35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Чт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лучшее учение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Дидактические игры для средней группы (по сказкам Корнея Ивановича Чуковского) - Планета Детства"/>
          <p:cNvPicPr/>
          <p:nvPr/>
        </p:nvPicPr>
        <p:blipFill>
          <a:blip r:embed="rId2"/>
          <a:stretch/>
        </p:blipFill>
        <p:spPr>
          <a:xfrm>
            <a:off x="6084720" y="404640"/>
            <a:ext cx="2803680" cy="391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МойДодыр (1954) смотреть онлайн &quot; Сайт для маленьких и &quot;взрослых&quot; детей"/>
          <p:cNvPicPr/>
          <p:nvPr/>
        </p:nvPicPr>
        <p:blipFill>
          <a:blip r:embed="rId3"/>
          <a:stretch/>
        </p:blipFill>
        <p:spPr>
          <a:xfrm>
            <a:off x="900000" y="260280"/>
            <a:ext cx="3000600" cy="439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Айболит &quot; скачать бесплатно книгу, журнал, литературу в электронной библиотеке Фонд Книг без регистрации"/>
          <p:cNvPicPr/>
          <p:nvPr/>
        </p:nvPicPr>
        <p:blipFill>
          <a:blip r:embed="rId4"/>
          <a:stretch/>
        </p:blipFill>
        <p:spPr>
          <a:xfrm>
            <a:off x="2771640" y="1125360"/>
            <a:ext cx="2946600" cy="398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раденое солнце, Чуковский Корней Иванович"/>
          <p:cNvPicPr/>
          <p:nvPr/>
        </p:nvPicPr>
        <p:blipFill>
          <a:blip r:embed="rId5"/>
          <a:stretch/>
        </p:blipFill>
        <p:spPr>
          <a:xfrm>
            <a:off x="4932360" y="2637000"/>
            <a:ext cx="270684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1517760" y="1590840"/>
            <a:ext cx="7126200" cy="41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4038840" cy="592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500040" y="357120"/>
            <a:ext cx="4500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1. УГАДАЙ-К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Вдруг откуда-то шак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На кобыле прискака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«Вот вам телеграм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От  гиппопотам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«Айболит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Долго, долго крокод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Море синее тушил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«Путаница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А злодей- то не шути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Руки- ноги он Мухе верёвками крут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Зубы острые в самое сердце вонз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И кровь у неё выпивае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«Муха-цокотуха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Каталог художественного отдела Русского Музея Императора Александра III 740289 Кеды кроссовки женские Etnies Caprice Eco Blue/Wh"/>
          <p:cNvPicPr/>
          <p:nvPr/>
        </p:nvPicPr>
        <p:blipFill>
          <a:blip r:embed="rId2"/>
          <a:srcRect l="0" t="10796" r="35535" b="10692"/>
          <a:stretch/>
        </p:blipFill>
        <p:spPr>
          <a:xfrm>
            <a:off x="4643280" y="620640"/>
            <a:ext cx="396108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52960" y="357120"/>
            <a:ext cx="477396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2 . ЧЬИ ЭТО СЛО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«Где убийца, Где злоде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Не боюсь его когтей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«Кому велено чирикат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Не мурлыкайте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«Я знаменитый капитан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не не страшен ураган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«Стыдно старому ревет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Ты не заяц, а Медвед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Ты поди-ка, косолап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Крокодила исцарапай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«Я Федорушку проща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ладким чаем угоща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Кушай, кушай, Федора Егоровн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857840" y="857160"/>
            <a:ext cx="37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комарик  «Муха-Цокотуха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844520" y="192888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заинька «Путаница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071960" y="292896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(Бибигон «Приключение Бибигона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286160" y="435780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зайчиха «Краденое солнце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929120" y="55720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(самовар «Федорино горе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85840" y="428760"/>
            <a:ext cx="8429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3.   Я утверждаю, что все эти сказ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исал К.И.Чуков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ли э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Б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сская народная сказ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АЙБОЛИ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Чуков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ИННИ-ПУ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 Мил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ЮЙМОВОЧ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Х. Андерсе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РОКОДИ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ИКЛЮЧЕНИЕ  БИБИГО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Муха Цокотуха. Читать сказки К. Чуковского с картинками Сказка про муху Цокотуху с иллюстрациями для детей Сказочный домик"/>
          <p:cNvPicPr/>
          <p:nvPr/>
        </p:nvPicPr>
        <p:blipFill>
          <a:blip r:embed="rId2"/>
          <a:srcRect l="7356" t="0" r="14270" b="0"/>
          <a:stretch/>
        </p:blipFill>
        <p:spPr>
          <a:xfrm>
            <a:off x="324000" y="2852640"/>
            <a:ext cx="306072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Доска объявлений - Личный сайт"/>
          <p:cNvPicPr/>
          <p:nvPr/>
        </p:nvPicPr>
        <p:blipFill>
          <a:blip r:embed="rId3"/>
          <a:stretch/>
        </p:blipFill>
        <p:spPr>
          <a:xfrm>
            <a:off x="5940360" y="836640"/>
            <a:ext cx="2846520" cy="36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500040" y="571680"/>
            <a:ext cx="807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ИМ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КТОР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УЛ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БОЙНИК, ЗЛОДЕЙ, УЖАСНЫЙ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ЛИКИЙ УМЫВАЛЬНИК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Х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АБУШК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ОМНЫЙ И ГРОЗНЫЙ ИНДЮК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Я ДЕТИШЕК КРОКОДИЛА В СКАЗКЕ «КРОКОДИЛ»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ЕЦ, МОЛОДЕЦ, ОН ГЕРОЙ УДАЛОЙ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З НЯНИ ГУЛЯЕТ ПО УЛИЦА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785960" y="1143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ДОКТОР  АЙБОЛИ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143080" y="17859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КАРАКУ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857840" y="2286000"/>
            <a:ext cx="22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БАРМА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071960" y="285768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МОЙДОДЫ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571840" y="3357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ЦОКОТУХ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428920" y="392904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ФЕДОРА  ЕГОРОВ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5000760" y="45007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БРУНДУЛЯ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2928960" y="5500800"/>
            <a:ext cx="69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ТОТОШЕНЬКА, КОКОШЕНЬКА, ЛЕЛЁШЕНЬ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4357800" y="6488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ВАНЯ ВАСИЛЬЧИК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Сказки К.Чуковского. - Картинка 14 - Сказки К.И.Чуковского - Чуковский - Картинки по литературе"/>
          <p:cNvPicPr/>
          <p:nvPr/>
        </p:nvPicPr>
        <p:blipFill>
          <a:blip r:embed="rId2"/>
          <a:srcRect l="32828" t="30614" r="17050" b="0"/>
          <a:stretch/>
        </p:blipFill>
        <p:spPr>
          <a:xfrm>
            <a:off x="6732720" y="620640"/>
            <a:ext cx="223200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785880" y="428760"/>
            <a:ext cx="4357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КАКОЙ СКАЗКИ ИЛЛЮСТРАЦ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071720" y="621504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УХА-ЦОКОТУХ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Муха Цокотуха. Читать сказки К. Чуковского с картинками Сказка про муху Цокотуху с иллюстрациями для детей Сказочный домик"/>
          <p:cNvPicPr/>
          <p:nvPr/>
        </p:nvPicPr>
        <p:blipFill>
          <a:blip r:embed="rId2"/>
          <a:stretch/>
        </p:blipFill>
        <p:spPr>
          <a:xfrm>
            <a:off x="971640" y="1484280"/>
            <a:ext cx="6840360" cy="39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827640" y="635796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«ТЕЛЕФ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Телефон - сказки для детей Корнея Чуковского. - 31 May 2013 - Blog - Shadowside"/>
          <p:cNvPicPr/>
          <p:nvPr/>
        </p:nvPicPr>
        <p:blipFill>
          <a:blip r:embed="rId2"/>
          <a:srcRect l="0" t="18812" r="842" b="8419"/>
          <a:stretch/>
        </p:blipFill>
        <p:spPr>
          <a:xfrm>
            <a:off x="1619280" y="476280"/>
            <a:ext cx="580860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8:44:53Z</dcterms:created>
  <dc:creator>КМ</dc:creator>
  <dc:description/>
  <dc:language>en-US</dc:language>
  <cp:lastModifiedBy>Admin</cp:lastModifiedBy>
  <dcterms:modified xsi:type="dcterms:W3CDTF">2014-08-17T15:40:01Z</dcterms:modified>
  <cp:revision>56</cp:revision>
  <dc:subject/>
  <dc:title>Корней Иванович Чуковский (1882-1969)</dc:title>
</cp:coreProperties>
</file>