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99E-9825-44D2-8863-D93D9AC4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202-E85D-41FF-BFBE-40954DFE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DBF-8649-4278-9970-9C9E432F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7C6-A95F-4F54-8701-F19FDDD2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A60A-0B9E-47DA-BAA0-E4169BB8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B967-E21E-4586-8EF1-8D76D178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73E4-AE99-4A2E-9774-9A8DF1CE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6FF9-F5E5-4AA4-991F-3BD5F514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97AD-11B0-4331-AF6B-7DB23F2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6FBC-5704-4FF5-BD17-94E8B2DE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F58B-3ADE-43DC-A139-E2F9EE4B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904-B969-4333-AC1B-4DBB3C47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638D-FE6C-4E46-8B85-1D9F28DB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5573-D0AD-4B88-8671-39DF74B4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B8F1-519E-44F9-8462-CDA841E5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4EFC-7108-4E35-BFCB-193327E3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C43F-0265-4ED3-9C2F-322D759A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D5A-F342-4AF5-8A07-03C3BB54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29B-765E-40B8-A214-B87612F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0F8-10B0-4DA4-8611-3E593E2A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C62-EA62-476F-AFCD-ACBDF8F2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C64-D769-4402-9778-9C450E14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AE3-57BD-4A4B-B22D-FDE6FAE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555-BEC8-4DC7-8E35-A77F9F02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487A-15E3-42BE-A5CB-86A52F218A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133720"/>
            <a:ext cx="556272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C262-9810-4AAE-884D-0CCA52CE32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Методика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«Выбери нужную эмоцию»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6096" t="0" r="0" b="0"/>
          <a:stretch/>
        </p:blipFill>
        <p:spPr>
          <a:xfrm>
            <a:off x="6934320" y="2590920"/>
            <a:ext cx="1981080" cy="1646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rcRect l="6096" t="0" r="0" b="0"/>
          <a:stretch/>
        </p:blipFill>
        <p:spPr>
          <a:xfrm>
            <a:off x="304920" y="4800600"/>
            <a:ext cx="1981080" cy="1671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rcRect l="3852" t="0" r="0" b="0"/>
          <a:stretch/>
        </p:blipFill>
        <p:spPr>
          <a:xfrm>
            <a:off x="304920" y="380880"/>
            <a:ext cx="1981080" cy="1743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5"/>
          <a:srcRect l="11539" t="0" r="11539" b="0"/>
          <a:stretch/>
        </p:blipFill>
        <p:spPr>
          <a:xfrm>
            <a:off x="304920" y="2590920"/>
            <a:ext cx="1617480" cy="1752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6"/>
          <a:srcRect l="11542" t="0" r="11542" b="0"/>
          <a:stretch/>
        </p:blipFill>
        <p:spPr>
          <a:xfrm>
            <a:off x="7238880" y="380880"/>
            <a:ext cx="1613160" cy="1752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7"/>
          <a:srcRect l="11540" t="0" r="11540" b="0"/>
          <a:stretch/>
        </p:blipFill>
        <p:spPr>
          <a:xfrm>
            <a:off x="7238880" y="4724280"/>
            <a:ext cx="1640160" cy="1752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10029" t="0" r="9709" b="10275"/>
          <a:stretch/>
        </p:blipFill>
        <p:spPr>
          <a:xfrm>
            <a:off x="0" y="0"/>
            <a:ext cx="7086600" cy="685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126" name=""/>
          <p:cNvGrpSpPr/>
          <p:nvPr/>
        </p:nvGrpSpPr>
        <p:grpSpPr>
          <a:xfrm>
            <a:off x="7391520" y="304920"/>
            <a:ext cx="1639800" cy="6019560"/>
            <a:chOff x="7391520" y="304920"/>
            <a:chExt cx="1639800" cy="601956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rcRect l="11539" t="0" r="11539" b="0"/>
            <a:stretch/>
          </p:blipFill>
          <p:spPr>
            <a:xfrm>
              <a:off x="7391520" y="304920"/>
              <a:ext cx="1617480" cy="1752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rcRect l="11542" t="0" r="11542" b="0"/>
            <a:stretch/>
          </p:blipFill>
          <p:spPr>
            <a:xfrm>
              <a:off x="7391520" y="2438280"/>
              <a:ext cx="1612800" cy="175284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29" name="" descr=""/>
            <p:cNvPicPr/>
            <p:nvPr/>
          </p:nvPicPr>
          <p:blipFill>
            <a:blip r:embed="rId5"/>
            <a:srcRect l="11540" t="0" r="11540" b="0"/>
            <a:stretch/>
          </p:blipFill>
          <p:spPr>
            <a:xfrm>
              <a:off x="7391520" y="4572000"/>
              <a:ext cx="1639800" cy="1752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1066680"/>
          <a:ext cx="9144000" cy="5790960"/>
        </p:xfrm>
        <a:graphic>
          <a:graphicData uri="http://schemas.openxmlformats.org/drawingml/2006/table">
            <a:tbl>
              <a:tblPr/>
              <a:tblGrid>
                <a:gridCol w="1563840"/>
                <a:gridCol w="2355840"/>
                <a:gridCol w="1304640"/>
                <a:gridCol w="1306800"/>
                <a:gridCol w="1306440"/>
                <a:gridCol w="1306440"/>
              </a:tblGrid>
              <a:tr h="472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иту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просы к ситуац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акое у него (нее) будет лицо? (Фиксируется выбор ребен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то он (она) чувствует (подумает)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 как правильно надо поступит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чув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тр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еча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ви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523880" y="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ндивидуальный проток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09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Ф.И. ребенка __________________________________________________Возраст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814320"/>
          <a:ext cx="9144000" cy="6043680"/>
        </p:xfrm>
        <a:graphic>
          <a:graphicData uri="http://schemas.openxmlformats.org/drawingml/2006/table">
            <a:tbl>
              <a:tblPr/>
              <a:tblGrid>
                <a:gridCol w="1563840"/>
                <a:gridCol w="2355840"/>
                <a:gridCol w="1304640"/>
                <a:gridCol w="1306800"/>
                <a:gridCol w="1306440"/>
                <a:gridCol w="1306440"/>
              </a:tblGrid>
              <a:tr h="73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.И. реб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просы к ситуации  сочувствие -сопереж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акое у него (нее) будет лицо? (Фиксируется выбор ребенк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то он (она) чувствует (подумает)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 как правильно надо поступит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й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ани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акси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Ю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Варианты расхождения эмоций  «адекватность-неадекватность выбора эмоци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20574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Гармаева Т.В. Диагностика особенностей активизации механизмов произвольного кодирования эмо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69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№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Мальчик (девочка) встретил (а) друга  (подругу), который (ая) сломал (а) ногу. Как, ты думаешь, мальчик (девочка) поступит?  Какое у него (нее) будет лицо? А что он (она) чувствует? А как правильно надо поступить? 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Times New Roman"/>
              </a:rPr>
              <a:t>(сопереживание-сочувств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№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Мальчик (девочка) с мамой пришли в больницу (поликлинику) на прививку. Он (а) очень боится уколов. Как, ты думаешь, мальчик (девочка) поступит?  Какое у него (нее) будет лицо?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А что он (она) чувствует? А как правильно надо поступить? 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Times New Roman"/>
              </a:rPr>
              <a:t>(страх-испу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№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3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У мальчика (девочки) уезжает папа. Как, ты думаешь, мальчик (девочка) поступит?  Какое у него (нее) будет лицо? А что он (она) чувствует? А как правильно надо поступить? 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Times New Roman"/>
              </a:rPr>
              <a:t>(печал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№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4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Мальчик (девочка)  очень хотел (а) новую красивую машинку  (куклу), но ему (ей) ее все не покупали. А в садике он (а) увидел(а) такую игрушку у другого ребенка. Как, ты думаешь, мальчик (девочка) поступит?  Какое у него (нее) будет лицо? А что он (она) чувствует? А как правильно надо поступить? (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Times New Roman"/>
              </a:rPr>
              <a:t>завист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иту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6450" t="4446" r="3818" b="7777"/>
          <a:stretch/>
        </p:blipFill>
        <p:spPr>
          <a:xfrm>
            <a:off x="0" y="0"/>
            <a:ext cx="6934320" cy="6827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91" name=""/>
          <p:cNvGrpSpPr/>
          <p:nvPr/>
        </p:nvGrpSpPr>
        <p:grpSpPr>
          <a:xfrm>
            <a:off x="7086600" y="533520"/>
            <a:ext cx="1905120" cy="5705280"/>
            <a:chOff x="7086600" y="533520"/>
            <a:chExt cx="1905120" cy="5705280"/>
          </a:xfrm>
        </p:grpSpPr>
        <p:pic>
          <p:nvPicPr>
            <p:cNvPr id="92" name="" descr=""/>
            <p:cNvPicPr/>
            <p:nvPr/>
          </p:nvPicPr>
          <p:blipFill>
            <a:blip r:embed="rId3"/>
            <a:srcRect l="6096" t="0" r="0" b="0"/>
            <a:stretch/>
          </p:blipFill>
          <p:spPr>
            <a:xfrm>
              <a:off x="7086600" y="533520"/>
              <a:ext cx="1905120" cy="16462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6096" t="0" r="0" b="0"/>
            <a:stretch/>
          </p:blipFill>
          <p:spPr>
            <a:xfrm>
              <a:off x="7086600" y="2514600"/>
              <a:ext cx="1905120" cy="1671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rcRect l="3852" t="0" r="0" b="0"/>
            <a:stretch/>
          </p:blipFill>
          <p:spPr>
            <a:xfrm>
              <a:off x="7086600" y="4495680"/>
              <a:ext cx="1905120" cy="174312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6390" t="0" r="0" b="0"/>
          <a:stretch/>
        </p:blipFill>
        <p:spPr>
          <a:xfrm>
            <a:off x="0" y="0"/>
            <a:ext cx="6705720" cy="6854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96" name=""/>
          <p:cNvGrpSpPr/>
          <p:nvPr/>
        </p:nvGrpSpPr>
        <p:grpSpPr>
          <a:xfrm>
            <a:off x="7086600" y="533520"/>
            <a:ext cx="1905120" cy="5705280"/>
            <a:chOff x="7086600" y="533520"/>
            <a:chExt cx="1905120" cy="5705280"/>
          </a:xfrm>
        </p:grpSpPr>
        <p:pic>
          <p:nvPicPr>
            <p:cNvPr id="97" name="" descr=""/>
            <p:cNvPicPr/>
            <p:nvPr/>
          </p:nvPicPr>
          <p:blipFill>
            <a:blip r:embed="rId3"/>
            <a:srcRect l="6096" t="0" r="0" b="0"/>
            <a:stretch/>
          </p:blipFill>
          <p:spPr>
            <a:xfrm>
              <a:off x="7086600" y="533520"/>
              <a:ext cx="1905120" cy="16462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rcRect l="6096" t="0" r="0" b="0"/>
            <a:stretch/>
          </p:blipFill>
          <p:spPr>
            <a:xfrm>
              <a:off x="7086600" y="2514600"/>
              <a:ext cx="1905120" cy="1671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5"/>
            <a:srcRect l="3852" t="0" r="0" b="0"/>
            <a:stretch/>
          </p:blipFill>
          <p:spPr>
            <a:xfrm>
              <a:off x="7086600" y="4495680"/>
              <a:ext cx="1905120" cy="174312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4304" t="0" r="0" b="0"/>
          <a:stretch/>
        </p:blipFill>
        <p:spPr>
          <a:xfrm>
            <a:off x="0" y="0"/>
            <a:ext cx="6781680" cy="684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101" name=""/>
          <p:cNvGrpSpPr/>
          <p:nvPr/>
        </p:nvGrpSpPr>
        <p:grpSpPr>
          <a:xfrm>
            <a:off x="7086600" y="533520"/>
            <a:ext cx="1905120" cy="5705280"/>
            <a:chOff x="7086600" y="533520"/>
            <a:chExt cx="1905120" cy="5705280"/>
          </a:xfrm>
        </p:grpSpPr>
        <p:pic>
          <p:nvPicPr>
            <p:cNvPr id="102" name="" descr=""/>
            <p:cNvPicPr/>
            <p:nvPr/>
          </p:nvPicPr>
          <p:blipFill>
            <a:blip r:embed="rId3"/>
            <a:srcRect l="6096" t="0" r="0" b="0"/>
            <a:stretch/>
          </p:blipFill>
          <p:spPr>
            <a:xfrm>
              <a:off x="7086600" y="533520"/>
              <a:ext cx="1905120" cy="16462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rcRect l="6096" t="0" r="0" b="0"/>
            <a:stretch/>
          </p:blipFill>
          <p:spPr>
            <a:xfrm>
              <a:off x="7086600" y="2514600"/>
              <a:ext cx="1905120" cy="1671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rcRect l="3852" t="0" r="0" b="0"/>
            <a:stretch/>
          </p:blipFill>
          <p:spPr>
            <a:xfrm>
              <a:off x="7086600" y="4495680"/>
              <a:ext cx="1905120" cy="174312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rcRect l="10906" t="0" r="12730" b="0"/>
          <a:stretch/>
        </p:blipFill>
        <p:spPr>
          <a:xfrm>
            <a:off x="0" y="0"/>
            <a:ext cx="6400800" cy="6838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106" name=""/>
          <p:cNvGrpSpPr/>
          <p:nvPr/>
        </p:nvGrpSpPr>
        <p:grpSpPr>
          <a:xfrm>
            <a:off x="7162920" y="533520"/>
            <a:ext cx="1828800" cy="5705280"/>
            <a:chOff x="7162920" y="533520"/>
            <a:chExt cx="1828800" cy="570528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rcRect l="6096" t="0" r="0" b="0"/>
            <a:stretch/>
          </p:blipFill>
          <p:spPr>
            <a:xfrm>
              <a:off x="7162920" y="533520"/>
              <a:ext cx="1828800" cy="16462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4"/>
            <a:srcRect l="6096" t="0" r="0" b="0"/>
            <a:stretch/>
          </p:blipFill>
          <p:spPr>
            <a:xfrm>
              <a:off x="7162920" y="2514600"/>
              <a:ext cx="1828800" cy="1671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rcRect l="3852" t="0" r="0" b="0"/>
            <a:stretch/>
          </p:blipFill>
          <p:spPr>
            <a:xfrm>
              <a:off x="7162920" y="4495680"/>
              <a:ext cx="1828800" cy="174312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6126" t="0" r="5935" b="9923"/>
          <a:stretch/>
        </p:blipFill>
        <p:spPr>
          <a:xfrm>
            <a:off x="0" y="9360"/>
            <a:ext cx="7086600" cy="6848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111" name=""/>
          <p:cNvGrpSpPr/>
          <p:nvPr/>
        </p:nvGrpSpPr>
        <p:grpSpPr>
          <a:xfrm>
            <a:off x="7391520" y="304920"/>
            <a:ext cx="1639800" cy="6019560"/>
            <a:chOff x="7391520" y="304920"/>
            <a:chExt cx="1639800" cy="601956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rcRect l="11539" t="0" r="11539" b="0"/>
            <a:stretch/>
          </p:blipFill>
          <p:spPr>
            <a:xfrm>
              <a:off x="7391520" y="304920"/>
              <a:ext cx="1617480" cy="1752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rcRect l="11542" t="0" r="11542" b="0"/>
            <a:stretch/>
          </p:blipFill>
          <p:spPr>
            <a:xfrm>
              <a:off x="7391520" y="2438280"/>
              <a:ext cx="1612800" cy="175284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rcRect l="11540" t="0" r="11540" b="0"/>
            <a:stretch/>
          </p:blipFill>
          <p:spPr>
            <a:xfrm>
              <a:off x="7391520" y="4572000"/>
              <a:ext cx="1639800" cy="1752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rcRect l="5999" t="0" r="4997" b="0"/>
          <a:stretch/>
        </p:blipFill>
        <p:spPr>
          <a:xfrm>
            <a:off x="0" y="0"/>
            <a:ext cx="6838920" cy="685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116" name=""/>
          <p:cNvGrpSpPr/>
          <p:nvPr/>
        </p:nvGrpSpPr>
        <p:grpSpPr>
          <a:xfrm>
            <a:off x="7391520" y="304920"/>
            <a:ext cx="1639800" cy="6019560"/>
            <a:chOff x="7391520" y="304920"/>
            <a:chExt cx="1639800" cy="601956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rcRect l="11539" t="0" r="11539" b="0"/>
            <a:stretch/>
          </p:blipFill>
          <p:spPr>
            <a:xfrm>
              <a:off x="7391520" y="304920"/>
              <a:ext cx="1617480" cy="1752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rcRect l="11542" t="0" r="11542" b="0"/>
            <a:stretch/>
          </p:blipFill>
          <p:spPr>
            <a:xfrm>
              <a:off x="7391520" y="2438280"/>
              <a:ext cx="1612800" cy="175284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rcRect l="11540" t="0" r="11540" b="0"/>
            <a:stretch/>
          </p:blipFill>
          <p:spPr>
            <a:xfrm>
              <a:off x="7391520" y="4572000"/>
              <a:ext cx="1639800" cy="1752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rcRect l="6381" t="0" r="0" b="4444"/>
          <a:stretch/>
        </p:blipFill>
        <p:spPr>
          <a:xfrm>
            <a:off x="0" y="0"/>
            <a:ext cx="6834240" cy="685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121" name=""/>
          <p:cNvGrpSpPr/>
          <p:nvPr/>
        </p:nvGrpSpPr>
        <p:grpSpPr>
          <a:xfrm>
            <a:off x="7391520" y="304920"/>
            <a:ext cx="1639800" cy="6019560"/>
            <a:chOff x="7391520" y="304920"/>
            <a:chExt cx="1639800" cy="60195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rcRect l="11539" t="0" r="11539" b="0"/>
            <a:stretch/>
          </p:blipFill>
          <p:spPr>
            <a:xfrm>
              <a:off x="7391520" y="304920"/>
              <a:ext cx="1617480" cy="1752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rcRect l="11542" t="0" r="11542" b="0"/>
            <a:stretch/>
          </p:blipFill>
          <p:spPr>
            <a:xfrm>
              <a:off x="7391520" y="2438280"/>
              <a:ext cx="1612800" cy="175284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rcRect l="11540" t="0" r="11540" b="0"/>
            <a:stretch/>
          </p:blipFill>
          <p:spPr>
            <a:xfrm>
              <a:off x="7391520" y="4572000"/>
              <a:ext cx="1639800" cy="17524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skad</cp:lastModifiedBy>
  <dcterms:modified xsi:type="dcterms:W3CDTF">2010-11-07T05:07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