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29C-BEDD-45C4-8F47-0AF8A59FE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urok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ABA-2A15-454D-9FAF-7C48836E8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hop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b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7214-3210-492E-8612-2C6052294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6DD-2A6F-4DFB-B06D-10B243C3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C38-A95E-4BE7-AC3B-28220EA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EA7-27D1-4AFE-9F8D-3459AA09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699-FD83-47D2-9650-393F57D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9D2-1DF4-4B05-A84A-39E00505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5D5-8183-40BA-8C32-7CDC7F9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8A9-10A0-4F10-A29D-4B18DD8A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C09-F9FF-4E42-BF46-62E94F6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601-65AB-40EF-8C78-AD20EAFC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13F-CFAA-47C4-85C1-91C0218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CFE-5135-438F-979B-77F0F27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0A3-B93D-44C3-8862-063031F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7A4-0CDE-42EE-A845-7D0B4C5DB93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vemaster.ru/" TargetMode="External"/><Relationship Id="rId2" Type="http://schemas.openxmlformats.org/officeDocument/2006/relationships/hyperlink" Target="http://www.2do2go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Documents and Settings\Елена\Рабочий стол\1023825993.jpg"/>
          <p:cNvPicPr/>
          <p:nvPr/>
        </p:nvPicPr>
        <p:blipFill>
          <a:blip r:embed="rId1"/>
          <a:stretch/>
        </p:blipFill>
        <p:spPr>
          <a:xfrm>
            <a:off x="2786040" y="1214280"/>
            <a:ext cx="3224160" cy="458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User\Рабочий стол\7.jpg"/>
          <p:cNvPicPr/>
          <p:nvPr/>
        </p:nvPicPr>
        <p:blipFill>
          <a:blip r:embed="rId2"/>
          <a:stretch/>
        </p:blipFill>
        <p:spPr>
          <a:xfrm rot="1123200">
            <a:off x="5317920" y="2700000"/>
            <a:ext cx="2800080" cy="355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C:\Documents and Settings\Елена\Рабочий стол\324540_46821308.jpg"/>
          <p:cNvPicPr/>
          <p:nvPr/>
        </p:nvPicPr>
        <p:blipFill>
          <a:blip r:embed="rId3"/>
          <a:stretch/>
        </p:blipFill>
        <p:spPr>
          <a:xfrm rot="19842600">
            <a:off x="1153800" y="2708280"/>
            <a:ext cx="2390760" cy="36352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4"/>
          <a:stretch/>
        </p:blipFill>
        <p:spPr>
          <a:xfrm>
            <a:off x="549360" y="-182520"/>
            <a:ext cx="8393040" cy="14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8" descr="C:\Documents and Settings\Елена\Рабочий стол\hello_html_m66193579.jpg"/>
          <p:cNvPicPr/>
          <p:nvPr/>
        </p:nvPicPr>
        <p:blipFill>
          <a:blip r:embed="rId1"/>
          <a:stretch/>
        </p:blipFill>
        <p:spPr>
          <a:xfrm>
            <a:off x="3857760" y="642960"/>
            <a:ext cx="4894200" cy="535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Елена\Рабочий стол\1031694620.jpg"/>
          <p:cNvPicPr/>
          <p:nvPr/>
        </p:nvPicPr>
        <p:blipFill>
          <a:blip r:embed="rId2"/>
          <a:stretch/>
        </p:blipFill>
        <p:spPr>
          <a:xfrm>
            <a:off x="357120" y="857160"/>
            <a:ext cx="344160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Documents and Settings\Елена\Рабочий стол\1013761456.jpg"/>
          <p:cNvPicPr/>
          <p:nvPr/>
        </p:nvPicPr>
        <p:blipFill>
          <a:blip r:embed="rId1"/>
          <a:stretch/>
        </p:blipFill>
        <p:spPr>
          <a:xfrm>
            <a:off x="2571840" y="0"/>
            <a:ext cx="3956040" cy="550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Documents and Settings\Елена\Рабочий стол\11944048_23.jpg"/>
          <p:cNvPicPr/>
          <p:nvPr/>
        </p:nvPicPr>
        <p:blipFill>
          <a:blip r:embed="rId2"/>
          <a:stretch/>
        </p:blipFill>
        <p:spPr>
          <a:xfrm rot="20737200">
            <a:off x="472680" y="2301840"/>
            <a:ext cx="3227400" cy="422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Елена\Рабочий стол\загруженное.jpg"/>
          <p:cNvPicPr/>
          <p:nvPr/>
        </p:nvPicPr>
        <p:blipFill>
          <a:blip r:embed="rId3"/>
          <a:stretch/>
        </p:blipFill>
        <p:spPr>
          <a:xfrm rot="735000">
            <a:off x="5605560" y="2189160"/>
            <a:ext cx="31082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93640" y="714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urok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55920" y="128592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mir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664560" y="185724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kshop.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13880" y="2357280"/>
            <a:ext cx="21999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www.livemaster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65360" y="2857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se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808920" y="3357720"/>
            <a:ext cx="1898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www.2do2go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72120" y="214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тернет-ресурсы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801000" y="39290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.yandex.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865440" y="45007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okbear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7:45:03Z</dcterms:created>
  <dc:creator>Е</dc:creator>
  <dc:description/>
  <dc:language>en-US</dc:language>
  <cp:lastModifiedBy>Елена</cp:lastModifiedBy>
  <dcterms:modified xsi:type="dcterms:W3CDTF">2020-04-11T12:18:43Z</dcterms:modified>
  <cp:revision>454</cp:revision>
  <dc:subject/>
  <dc:title>Урок №27</dc:title>
</cp:coreProperties>
</file>