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80A1-BE77-42E3-A800-175B7314D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urok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65DF-EAB7-43E5-820B-3D6F34761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hop.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blog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EED1-542E-4975-934B-DE9024CF3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910-97E6-4315-BD37-0015AD97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7D2-0169-493D-AA5E-F1554ABE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E5B-905C-4D9D-ADD2-92EEE835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8A3-0C5F-48A0-8E9A-F7471742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6EA-9C68-4BB2-AE9E-DD6CBBC9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7A5-1E19-4EAC-B99F-73A0CA12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8660-CA12-4E0C-A7E4-98E96028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AAA-3AEB-45C6-BBF8-CD64BFF6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2A5-B4B2-4ADF-85CB-8488D713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C8E-7A70-4B42-AA4A-71D86BF2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890-50F0-4D35-AE51-1D9F3BDE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5B9-CE43-477F-B342-F8393A36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3AD7-55BD-485D-846B-CBA50A6E115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vemaster.ru/" TargetMode="External"/><Relationship Id="rId2" Type="http://schemas.openxmlformats.org/officeDocument/2006/relationships/hyperlink" Target="http://www.2do2go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:\Documents and Settings\Елена\Рабочий стол\1023825993.jpg"/>
          <p:cNvPicPr/>
          <p:nvPr/>
        </p:nvPicPr>
        <p:blipFill>
          <a:blip r:embed="rId1"/>
          <a:stretch/>
        </p:blipFill>
        <p:spPr>
          <a:xfrm>
            <a:off x="2786040" y="1214280"/>
            <a:ext cx="3224160" cy="4588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User\Рабочий стол\7.jpg"/>
          <p:cNvPicPr/>
          <p:nvPr/>
        </p:nvPicPr>
        <p:blipFill>
          <a:blip r:embed="rId2"/>
          <a:stretch/>
        </p:blipFill>
        <p:spPr>
          <a:xfrm rot="1123200">
            <a:off x="5317920" y="2700000"/>
            <a:ext cx="2800080" cy="355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" descr="C:\Documents and Settings\Елена\Рабочий стол\324540_46821308.jpg"/>
          <p:cNvPicPr/>
          <p:nvPr/>
        </p:nvPicPr>
        <p:blipFill>
          <a:blip r:embed="rId3"/>
          <a:stretch/>
        </p:blipFill>
        <p:spPr>
          <a:xfrm rot="19842600">
            <a:off x="1153800" y="2708280"/>
            <a:ext cx="2390760" cy="363528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4" descr=""/>
          <p:cNvPicPr/>
          <p:nvPr/>
        </p:nvPicPr>
        <p:blipFill>
          <a:blip r:embed="rId4"/>
          <a:stretch/>
        </p:blipFill>
        <p:spPr>
          <a:xfrm>
            <a:off x="549360" y="-182520"/>
            <a:ext cx="8393040" cy="14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8" descr="C:\Documents and Settings\Елена\Рабочий стол\hello_html_m66193579.jpg"/>
          <p:cNvPicPr/>
          <p:nvPr/>
        </p:nvPicPr>
        <p:blipFill>
          <a:blip r:embed="rId1"/>
          <a:stretch/>
        </p:blipFill>
        <p:spPr>
          <a:xfrm>
            <a:off x="3857760" y="642960"/>
            <a:ext cx="4894200" cy="535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:\Documents and Settings\Елена\Рабочий стол\1031694620.jpg"/>
          <p:cNvPicPr/>
          <p:nvPr/>
        </p:nvPicPr>
        <p:blipFill>
          <a:blip r:embed="rId2"/>
          <a:stretch/>
        </p:blipFill>
        <p:spPr>
          <a:xfrm>
            <a:off x="357120" y="857160"/>
            <a:ext cx="3441600" cy="48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Documents and Settings\Елена\Рабочий стол\1013761456.jpg"/>
          <p:cNvPicPr/>
          <p:nvPr/>
        </p:nvPicPr>
        <p:blipFill>
          <a:blip r:embed="rId1"/>
          <a:stretch/>
        </p:blipFill>
        <p:spPr>
          <a:xfrm>
            <a:off x="2571840" y="0"/>
            <a:ext cx="3956040" cy="5500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Documents and Settings\Елена\Рабочий стол\11944048_23.jpg"/>
          <p:cNvPicPr/>
          <p:nvPr/>
        </p:nvPicPr>
        <p:blipFill>
          <a:blip r:embed="rId2"/>
          <a:stretch/>
        </p:blipFill>
        <p:spPr>
          <a:xfrm rot="20737200">
            <a:off x="472680" y="2301840"/>
            <a:ext cx="3227400" cy="422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Елена\Рабочий стол\загруженное.jpg"/>
          <p:cNvPicPr/>
          <p:nvPr/>
        </p:nvPicPr>
        <p:blipFill>
          <a:blip r:embed="rId3"/>
          <a:stretch/>
        </p:blipFill>
        <p:spPr>
          <a:xfrm rot="735000">
            <a:off x="5605560" y="2189160"/>
            <a:ext cx="31082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93640" y="71424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urok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655920" y="1285920"/>
            <a:ext cx="13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mir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664560" y="185724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okshop.u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713880" y="2357280"/>
            <a:ext cx="21999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www.livemaster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765360" y="2857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bse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808920" y="3357720"/>
            <a:ext cx="18982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  <a:hlinkClick r:id="rId2"/>
              </a:rPr>
              <a:t>www.2do2go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672120" y="21420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тернет-ресурсы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801000" y="392904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.yandex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865440" y="450072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okbear.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7:45:03Z</dcterms:created>
  <dc:creator>Е</dc:creator>
  <dc:description/>
  <dc:language>en-US</dc:language>
  <cp:lastModifiedBy>Елена</cp:lastModifiedBy>
  <dcterms:modified xsi:type="dcterms:W3CDTF">2020-04-11T12:18:43Z</dcterms:modified>
  <cp:revision>454</cp:revision>
  <dc:subject/>
  <dc:title>Урок №27</dc:title>
</cp:coreProperties>
</file>