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686-D2E3-4C87-9D50-E68392EA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424-603F-4EC5-9DD4-7301BDC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425-6B4D-4555-A7D3-BDAA311A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18D-8FD6-4EFE-B32E-7AC7074F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D8D-FB46-4A51-BF91-927F2B2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CDC-8245-4D9B-86F6-58EE689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5FA-3EDC-4013-A883-5172507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FDF-36BD-41F3-802D-29DAD883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74D-7176-421B-A10F-1C7F30F4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637-DBCF-4A1E-914F-C5F3FDD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71A-520F-4BF9-8038-27E257C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904-3A89-4F93-A323-5B33D27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DA6-F2CA-4DE8-9B8A-539F3986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0"/>
            <a:ext cx="741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й и его элем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61636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оходный строй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- строй, в котором подразделение построено в колонну на дистанциях, установленных уставом или командиром. Он применяется для движения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496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лонна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-строй , в котором военнослужащие расположены в затылок друг другу на дистанциях установленных уставом или командиром. Колонны могут быть по одному, по два, по три , по четыре и бо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Что такое интерва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А. Расстояние в глубин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Б. Расстояние по фронт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В. Расстояние между флан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54936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71928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00"/>
                            </p:stCondLst>
                            <p:childTnLst>
                              <p:par>
                                <p:cTn id="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На каком рисунке изображён походный ст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358164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33560" y="2205000"/>
            <a:ext cx="4114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 ещё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52084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276640"/>
            <a:ext cx="842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вет не верный, подумай ещ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5589720"/>
            <a:ext cx="985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84360" y="1125360"/>
            <a:ext cx="439272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5589720"/>
            <a:ext cx="1152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Элементы ст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Развёрнутый и походный 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60280"/>
            <a:ext cx="604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е вопро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трой -установленное Строевым уставом размещение военнослужащих и подразделений для их совместных действий в пешем порядке и на машин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05672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лан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правая (левая) оконечность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ронт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сторона строя, в которую военнослужащие обращены ли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ыльная сторо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 сторона, противоположная фро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терва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расстояние по фронту между военнослужащ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ири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расстояние между флан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47628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стро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4716360" cy="26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67640" y="5877000"/>
            <a:ext cx="6494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станц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в глубину между военнослужащими (машинами) и подраздел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убина стро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от первой шеренги (впереди стоящего военнослужащего) до последней шеренги (позади стоящего военнослужащ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333360"/>
            <a:ext cx="64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менты стро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4766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 зависимости от назначения строи бывают развёрнутые и по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549360"/>
            <a:ext cx="75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ёрнутый и походный стр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17080" y="6093000"/>
            <a:ext cx="826920" cy="76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ёрнут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- это такой строй, в котором подразделения построены на одной линии по фронту в одношереножном или двухшереножном строю (в линию машин) на интервалах, установленных уставом или командиро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511164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Шеренга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(или одношереножный развёрнутый строй)-это строй, в котором военнослужащие размещены один возле другого на одной ли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2562120"/>
            <a:ext cx="720108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вухшереножн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-строй, в котором военнослужащие одной шеренги расположены в затылок военнослужащим другой шеренги на дистанции одного шага (вытянутой руки, наложенной ладонью на плечо впереди стоящего военнослужащего).. Шеренги называются первой и втор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48:42Z</dcterms:created>
  <dc:creator>Nikolay</dc:creator>
  <dc:description/>
  <dc:language>en-US</dc:language>
  <cp:lastModifiedBy>Зайцева Марина</cp:lastModifiedBy>
  <dcterms:modified xsi:type="dcterms:W3CDTF">2009-10-26T12:21:57Z</dcterms:modified>
  <cp:revision>12</cp:revision>
  <dc:subject/>
  <dc:title>Слайд 1</dc:title>
</cp:coreProperties>
</file>