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A23-BAF1-4F0E-8A29-A5FDC28E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944-B9B8-4C54-A69B-645475A6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BA8-42A9-4F55-8D95-58F3B799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CFC-B21B-47F0-AD6F-408803DB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7E9-4BB7-4D9C-8F7F-B4F704C7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451-7C76-4565-ACC6-560EF94C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E3D-FCC3-405E-948D-0179FADD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17B-CE0F-413F-85E9-D1D52118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4D6-5ECE-42D6-835B-5E05327A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D69-1933-4005-86AF-810B39B2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0D7-C50C-4133-8259-CB7D5C0A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7FD-0931-41EF-83CB-01DF0404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001B-675F-4B1C-AA90-3E68139BC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5157360"/>
            <a:ext cx="843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2920" y="0"/>
            <a:ext cx="7415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й и его элемен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35280" y="2492280"/>
            <a:ext cx="5616360" cy="3500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3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оходный строй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- строй, в котором подразделение построено в колонну на дистанциях, установленных уставом или командиром. Он применяется для движения подразде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340000" y="2852640"/>
            <a:ext cx="496872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400"/>
                            </p:stCondLst>
                            <p:childTnLst>
                              <p:par>
                                <p:cTn id="2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476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Колонна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-строй , в котором военнослужащие расположены в затылок друг другу на дистанциях установленных уставом или командиром. Колонны могут быть по одному, по два, по три , по четыре и бол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4680000" cy="3128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713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. Что такое интервал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А. Расстояние в глубину между военнослужащ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Б. Расстояние по фронту между военнослужащ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В. Расстояние между флан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16360" y="549360"/>
            <a:ext cx="3311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719280" cy="69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900"/>
                            </p:stCondLst>
                            <p:childTnLst>
                              <p:par>
                                <p:cTn id="3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400"/>
                            </p:stCondLst>
                            <p:childTnLst>
                              <p:par>
                                <p:cTn id="3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900"/>
                            </p:stCondLst>
                            <p:childTnLst>
                              <p:par>
                                <p:cTn id="3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2. На каком рисунке изображён походный стр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3581640" cy="263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643280" y="2997360"/>
            <a:ext cx="40388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33560" y="2205000"/>
            <a:ext cx="4114800" cy="266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умай ещё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24720" y="520848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2276640"/>
            <a:ext cx="842472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вет не верный, подумай ещё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80360" y="5589720"/>
            <a:ext cx="9856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484360" y="1125360"/>
            <a:ext cx="439272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о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96360" y="5589720"/>
            <a:ext cx="115236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</a:rPr>
              <a:t>Стр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</a:rPr>
              <a:t>Элементы стро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</a:rPr>
              <a:t>Развёрнутый и походный стр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imes New Roman"/>
              </a:rPr>
              <a:t>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360" y="260280"/>
            <a:ext cx="604836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ебные вопрос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2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Строй -установленное Строевым уставом размещение военнослужащих и подразделений для их совместных действий в пешем порядке и на машина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87280" y="2637000"/>
            <a:ext cx="7056720" cy="309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956720" y="5950080"/>
            <a:ext cx="792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Фланг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-правая (левая) оконечность стро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Фронт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-сторона строя, в которую военнослужащие обращены лиц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Тыльная сторона строя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- сторона, противоположная фрон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нтервал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-расстояние по фронту между военнослужащи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Ширина строя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-расстояние между флан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2000" y="476280"/>
            <a:ext cx="676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менты стро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067280" y="2276640"/>
            <a:ext cx="4716360" cy="2616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667640" y="5877000"/>
            <a:ext cx="649440" cy="647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истанция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расстояние в глубину между военнослужащими (машинами) и подразделен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лубина строя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расстояние от первой шеренги (впереди стоящего военнослужащего) до последней шеренги (позади стоящего военнослужащ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03280" y="333360"/>
            <a:ext cx="6481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менты стро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447660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В зависимости от назначения строи бывают развёрнутые и пох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549360"/>
            <a:ext cx="7559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звёрнутый и походный стр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3311640" cy="2590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88000" y="2349360"/>
            <a:ext cx="367164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317080" y="6093000"/>
            <a:ext cx="826920" cy="765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Развёрнутый строй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- это такой строй, в котором подразделения построены на одной линии по фронту в одношереножном или двухшереножном строю (в линию машин) на интервалах, установленных уставом или командиро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195640" y="3141720"/>
            <a:ext cx="5111640" cy="34257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Шеренга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(или одношереножный развёрнутый строй)-это строй, в котором военнослужащие размещены один возле другого на одной лин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00000" y="2562120"/>
            <a:ext cx="720108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507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Двухшереножный строй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-строй, в котором военнослужащие одной шеренги расположены в затылок военнослужащим другой шеренги на дистанции одного шага (вытянутой руки, наложенной ладонью на плечо впереди стоящего военнослужащего).. Шеренги называются первой и втор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340000" y="3645000"/>
            <a:ext cx="453708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48:42Z</dcterms:created>
  <dc:creator>Nikolay</dc:creator>
  <dc:description/>
  <dc:language>en-US</dc:language>
  <cp:lastModifiedBy>Зайцева Марина</cp:lastModifiedBy>
  <dcterms:modified xsi:type="dcterms:W3CDTF">2009-10-26T12:21:57Z</dcterms:modified>
  <cp:revision>12</cp:revision>
  <dc:subject/>
  <dc:title>Слайд 1</dc:title>
</cp:coreProperties>
</file>