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2155-2138-43F3-82CB-B1F449D9F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1AE7-8A64-4FCC-85DF-C2EF69E0C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7653-A20A-4DA8-8D41-334176318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1455-EC2F-435A-AD91-1E910439B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B5E1-7BBA-46E7-848D-455476D7B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2B91-9991-42A6-BA9F-75C2DABE2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3973-BBFC-47F4-B3F9-260B06512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F49E-FDDE-4FC0-B125-D472E9160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971F-737F-466B-B298-1C8B6DB80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B8FC-03CE-44BA-B4DB-58AA04CB6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5287-73B0-46B3-BFE9-13ACF513C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90A8-B5D2-436E-9366-9E2332E7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F2A53-69C4-440A-97ED-8E6FAE5233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3.jpe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5157360"/>
            <a:ext cx="843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042920" y="0"/>
            <a:ext cx="741528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трой и его элемент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835280" y="2492280"/>
            <a:ext cx="5616360" cy="35006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000" y="333000"/>
            <a:ext cx="83516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оходный строй</a:t>
            </a: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 - строй, в котором подразделение построено в колонну на дистанциях, установленных уставом или командиром. Он применяется для движения подраздел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2340000" y="2852640"/>
            <a:ext cx="4968720" cy="3456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lu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400"/>
                            </p:stCondLst>
                            <p:childTnLst>
                              <p:par>
                                <p:cTn id="28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5280" y="47628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Колонна</a:t>
            </a: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-строй , в котором военнослужащие расположены в затылок друг другу на дистанциях установленных уставом или командиром. Колонны могут быть по одному, по два, по три , по четыре и боле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124000" y="2997360"/>
            <a:ext cx="4680000" cy="3128760"/>
          </a:xfrm>
          <a:prstGeom prst="rect">
            <a:avLst/>
          </a:prstGeom>
          <a:ln w="0">
            <a:noFill/>
          </a:ln>
        </p:spPr>
      </p:pic>
    </p:spTree>
  </p:cSld>
  <p:transition spd="med">
    <p:cover dir="u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50560" y="2565360"/>
            <a:ext cx="87138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1. Что такое интервал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</a:rPr>
              <a:t>А. Расстояние в глубину между военнослужащи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</a:rPr>
              <a:t>Б. Расстояние по фронту между военнослужащи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</a:rPr>
              <a:t>В. Расстояние между фланг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916360" y="549360"/>
            <a:ext cx="331128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ес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7885080" y="5950080"/>
            <a:ext cx="719280" cy="696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900"/>
                            </p:stCondLst>
                            <p:childTnLst>
                              <p:par>
                                <p:cTn id="32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4400"/>
                            </p:stCondLst>
                            <p:childTnLst>
                              <p:par>
                                <p:cTn id="33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6900"/>
                            </p:stCondLst>
                            <p:childTnLst>
                              <p:par>
                                <p:cTn id="34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2. На каком рисунке изображён походный стр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39640" y="2997360"/>
            <a:ext cx="3581640" cy="26384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4643280" y="2997360"/>
            <a:ext cx="403884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833560" y="2205000"/>
            <a:ext cx="4114800" cy="2664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е правильно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думай ещё!!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524720" y="5208480"/>
            <a:ext cx="1079640" cy="1079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24000" y="2276640"/>
            <a:ext cx="8424720" cy="26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Ответ не верный, подумай ещё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7380360" y="5589720"/>
            <a:ext cx="98568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484360" y="1125360"/>
            <a:ext cx="4392720" cy="388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лодец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авильно!!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596360" y="5589720"/>
            <a:ext cx="115236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Times New Roman"/>
              </a:rPr>
              <a:t>Стро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Times New Roman"/>
              </a:rPr>
              <a:t>Элементы стро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Times New Roman"/>
              </a:rPr>
              <a:t>Развёрнутый и походный стро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Times New Roman"/>
              </a:rPr>
              <a:t>Тес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692360" y="260280"/>
            <a:ext cx="6048360" cy="177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чебные вопросы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500"/>
                            </p:stCondLst>
                            <p:childTnLst>
                              <p:par>
                                <p:cTn id="4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500"/>
                            </p:stCondLst>
                            <p:childTnLst>
                              <p:par>
                                <p:cTn id="5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500"/>
                            </p:stCondLst>
                            <p:childTnLst>
                              <p:par>
                                <p:cTn id="6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22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Строй -установленное Строевым уставом размещение военнослужащих и подразделений для их совместных действий в пешем порядке и на машинах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187280" y="2637000"/>
            <a:ext cx="7056720" cy="3097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7956720" y="5950080"/>
            <a:ext cx="79200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77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770" fill="hold"/>
                                        <p:tgtEl>
                                          <p:spTgt spid="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" dur="77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Фланг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-правая (левая) оконечность стро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Фронт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-сторона строя, в которую военнослужащие обращены лиц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Тыльная сторона строя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- сторона, противоположная фронт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Интервал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-расстояние по фронту между военнослужащи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Ширина строя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 -расстояние между фланг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332000" y="476280"/>
            <a:ext cx="6769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лементы строя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4067280" y="2276640"/>
            <a:ext cx="4716360" cy="2616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7667640" y="5877000"/>
            <a:ext cx="649440" cy="6476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500"/>
                            </p:stCondLst>
                            <p:childTnLst>
                              <p:par>
                                <p:cTn id="1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500"/>
                            </p:stCondLst>
                            <p:childTnLst>
                              <p:par>
                                <p:cTn id="13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500"/>
                            </p:stCondLst>
                            <p:childTnLst>
                              <p:par>
                                <p:cTn id="13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Дистанция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-расстояние в глубину между военнослужащими (машинами) и подразделения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Глубина строя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-расстояние от первой шеренги (впереди стоящего военнослужащего) до последней шеренги (позади стоящего военнослужащег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403280" y="333360"/>
            <a:ext cx="64818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лементы строя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50920" y="2205000"/>
            <a:ext cx="4476600" cy="338472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77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1" dur="77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3" dur="77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5" dur="77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77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1" dur="77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3" dur="77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5" dur="77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515736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В зависимости от назначения строи бывают развёрнутые и поход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24000" y="549360"/>
            <a:ext cx="75596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Развёрнутый и походный стро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900000" y="2349360"/>
            <a:ext cx="3311640" cy="2590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4788000" y="2349360"/>
            <a:ext cx="3671640" cy="2592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8317080" y="6093000"/>
            <a:ext cx="826920" cy="76500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4000"/>
                            </p:stCondLst>
                            <p:childTnLst>
                              <p:par>
                                <p:cTn id="20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0"/>
                            </p:stCondLst>
                            <p:childTnLst>
                              <p:par>
                                <p:cTn id="20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64072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Развёрнутый строй</a:t>
            </a: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 - это такой строй, в котором подразделения построены на одной линии по фронту в одношереножном или двухшереножном строю (в линию машин) на интервалах, установленных уставом или командиром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195640" y="3141720"/>
            <a:ext cx="5111640" cy="342576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22960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Шеренга</a:t>
            </a: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 (или одношереножный развёрнутый строй)-это строй, в котором военнослужащие размещены один возле другого на одной лини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900000" y="2562120"/>
            <a:ext cx="7201080" cy="3314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5075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Двухшереножный строй</a:t>
            </a: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-строй, в котором военнослужащие одной шеренги расположены в затылок военнослужащим другой шеренги на дистанции одного шага (вытянутой руки, наложенной ладонью на плечо впереди стоящего военнослужащего).. Шеренги называются первой и второй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340000" y="3645000"/>
            <a:ext cx="4537080" cy="30240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0:48:42Z</dcterms:created>
  <dc:creator>Nikolay</dc:creator>
  <dc:description/>
  <dc:language>en-US</dc:language>
  <cp:lastModifiedBy>Зайцева Марина</cp:lastModifiedBy>
  <dcterms:modified xsi:type="dcterms:W3CDTF">2009-10-26T12:21:57Z</dcterms:modified>
  <cp:revision>12</cp:revision>
  <dc:subject/>
  <dc:title>Слайд 1</dc:title>
</cp:coreProperties>
</file>