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494-6A64-498B-BB53-C13A9BCC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432-F8BD-46E1-9E1F-4976B0EB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70D-2F8A-4698-B0FF-D9D210D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E9F-E5FD-419A-8891-D519A3BD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9B7-D66F-4E49-8C16-00AAAAF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5D6-FB52-4115-8F57-D19CD55D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FC3-382E-4756-BFD2-C3949FD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9AB-6F6C-4A4C-8C90-A8E08D7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05A-D004-454F-AA6D-787E9D0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E69-10CD-4964-B97B-FC8A099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89C-0BFE-4735-B9DE-D06A4F3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4FD-8006-4210-9815-BC5E124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BE97-4A02-44D3-B4C0-35A9208E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0"/>
            <a:ext cx="741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й и его элем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61636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оходный строй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- строй, в котором подразделение построено в колонну на дистанциях, установленных уставом или командиром. Он применяется для движения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496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лонна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-строй , в котором военнослужащие расположены в затылок друг другу на дистанциях установленных уставом или командиром. Колонны могут быть по одному, по два, по три , по четыре и бо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Что такое интерва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А. Расстояние в глубин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Б. Расстояние по фронт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В. Расстояние между флан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54936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71928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00"/>
                            </p:stCondLst>
                            <p:childTnLst>
                              <p:par>
                                <p:cTn id="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На каком рисунке изображён походный ст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358164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33560" y="2205000"/>
            <a:ext cx="4114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 ещё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52084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276640"/>
            <a:ext cx="842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вет не верный, подумай ещ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5589720"/>
            <a:ext cx="985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84360" y="1125360"/>
            <a:ext cx="439272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5589720"/>
            <a:ext cx="1152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Элементы ст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Развёрнутый и походный 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60280"/>
            <a:ext cx="604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е вопро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трой -установленное Строевым уставом размещение военнослужащих и подразделений для их совместных действий в пешем порядке и на машин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05672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лан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правая (левая) оконечность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ронт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сторона строя, в которую военнослужащие обращены ли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ыльная сторо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 сторона, противоположная фро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терва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расстояние по фронту между военнослужащ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ири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расстояние между флан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47628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стро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4716360" cy="26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67640" y="5877000"/>
            <a:ext cx="6494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станц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в глубину между военнослужащими (машинами) и подраздел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убина стро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от первой шеренги (впереди стоящего военнослужащего) до последней шеренги (позади стоящего военнослужащ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333360"/>
            <a:ext cx="64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менты стро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4766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 зависимости от назначения строи бывают развёрнутые и по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549360"/>
            <a:ext cx="75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ёрнутый и походный стр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17080" y="6093000"/>
            <a:ext cx="826920" cy="76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ёрнут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- это такой строй, в котором подразделения построены на одной линии по фронту в одношереножном или двухшереножном строю (в линию машин) на интервалах, установленных уставом или командиро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511164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Шеренга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(или одношереножный развёрнутый строй)-это строй, в котором военнослужащие размещены один возле другого на одной ли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2562120"/>
            <a:ext cx="720108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вухшереножн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-строй, в котором военнослужащие одной шеренги расположены в затылок военнослужащим другой шеренги на дистанции одного шага (вытянутой руки, наложенной ладонью на плечо впереди стоящего военнослужащего).. Шеренги называются первой и втор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48:42Z</dcterms:created>
  <dc:creator>Nikolay</dc:creator>
  <dc:description/>
  <dc:language>en-US</dc:language>
  <cp:lastModifiedBy>Зайцева Марина</cp:lastModifiedBy>
  <dcterms:modified xsi:type="dcterms:W3CDTF">2009-10-26T12:21:57Z</dcterms:modified>
  <cp:revision>12</cp:revision>
  <dc:subject/>
  <dc:title>Слайд 1</dc:title>
</cp:coreProperties>
</file>