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5E9C-0FF5-44E9-BF4D-76E82A783F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7111-228A-40D4-86F3-DCA9844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26B7-24B3-44B7-80A0-BD0970A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7C3C-FC31-4ED9-BB33-76ADF3688E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16764-8B44-4FE1-840E-7AED3FFA13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A7D37-0E32-4421-8848-86F1C2C2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50756-C3E1-415D-9061-19CD24DF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AF493-8272-42E4-909F-A49401B7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4FE61-8D14-4C20-887F-B472EFA9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0645B-AEC6-4309-B169-9D2097BB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638AC-F555-4622-B817-91CA8810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A14D-12F5-4867-B763-E1338063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92436-DDB9-4DE6-BE8F-0934D966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164DF-6568-4DDE-9BFE-5C280135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175CC-28D1-405A-85EA-A21DE9D2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FD188-6446-4374-8900-8D52EA5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7E251-DA63-46F4-850C-58BEF67FC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7C1C-53F4-4871-B7BE-CAF7CBC0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4E44B-91CE-4C4F-92E2-7A2135BF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8AA1-3B9B-402E-B168-5111563D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9EAE-7EF6-44ED-9B22-8FA9DD3E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0DF8-D433-4550-91CD-08F915E4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B41A-3DAC-42C1-AE04-EAA4F56D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E47B-2C7D-4FF4-AF2D-1704793D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bff"/>
            </a:gs>
            <a:gs pos="100000">
              <a:srgbClr val="5076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50400" y="-255600"/>
            <a:ext cx="9234720" cy="1561320"/>
            <a:chOff x="-50400" y="-255600"/>
            <a:chExt cx="9234720" cy="1561320"/>
          </a:xfrm>
        </p:grpSpPr>
        <p:sp>
          <p:nvSpPr>
            <p:cNvPr id="3" name=""/>
            <p:cNvSpPr/>
            <p:nvPr/>
          </p:nvSpPr>
          <p:spPr>
            <a:xfrm rot="21420000">
              <a:off x="-28080" y="-15840"/>
              <a:ext cx="9180000" cy="10821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420000">
              <a:off x="-24840" y="106200"/>
              <a:ext cx="9192600" cy="8823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18360" tIns="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3.4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7C6D4BC-FFEC-44A0-987E-64700634AE64}" type="slidenum">
              <a: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50400" y="-255600"/>
            <a:ext cx="9234720" cy="1561320"/>
            <a:chOff x="-50400" y="-255600"/>
            <a:chExt cx="9234720" cy="1561320"/>
          </a:xfrm>
        </p:grpSpPr>
        <p:sp>
          <p:nvSpPr>
            <p:cNvPr id="49" name=""/>
            <p:cNvSpPr/>
            <p:nvPr/>
          </p:nvSpPr>
          <p:spPr>
            <a:xfrm rot="21420000">
              <a:off x="-28080" y="-15840"/>
              <a:ext cx="9180000" cy="108216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420000">
              <a:off x="-24840" y="106200"/>
              <a:ext cx="9192600" cy="8823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3.4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2F7AD36-CE93-4890-B9D6-58B6B45ED486}" type="slidenum">
              <a:rPr b="0" lang="ru-RU" sz="18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54040" y="981000"/>
            <a:ext cx="813600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Здоровый образ жизни как необходимое условие сохранения и укрепления здоровья человека  и обще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62240" y="5543640"/>
            <a:ext cx="5964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763640" y="692280"/>
            <a:ext cx="5616720" cy="5798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413000" y="1284120"/>
            <a:ext cx="6254640" cy="5457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6720" y="663480"/>
            <a:ext cx="85305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равила здорового образа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93320" y="663480"/>
            <a:ext cx="53164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инквейн «Здоровь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46520" y="1484280"/>
            <a:ext cx="959292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1 строчка - 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2 строчка - 2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3 строчка - 3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4 строчка - фраза выражающая отношение к пред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5 строчка - синоним обобщающий или расширяю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смысл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12720" y="3932280"/>
            <a:ext cx="76741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9880" y="663480"/>
            <a:ext cx="2800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111600" y="1484280"/>
            <a:ext cx="8762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ыбрать смайлик выражающий ваше на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 конце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627280" y="1925640"/>
            <a:ext cx="446256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000" y="770040"/>
            <a:ext cx="871200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доровый образ жизни – это индивидуальная система человека, обеспечивающая ему физическое, духовное и социальное благополучие в реальной окружающей среде, а также снижение отрицательного влияния на жизнь и здоровье последствий различных опасных и чрезвычайных ситу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3932280"/>
            <a:ext cx="3784680" cy="251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78360" y="3948120"/>
            <a:ext cx="37749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549360"/>
            <a:ext cx="822960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доровье — состояние любого живого организма, при котором он в целом и все его органы способны полностью выполнять свои функции. 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доровье — это не отсутствие болезни как таковой или физических недостатков, а состояние полного физического, душевного и социального благополу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38560" y="4070520"/>
            <a:ext cx="2666880" cy="24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7320" y="4070520"/>
            <a:ext cx="2815920" cy="195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0" t="0" r="0" b="146"/>
          <a:stretch/>
        </p:blipFill>
        <p:spPr>
          <a:xfrm>
            <a:off x="6286680" y="4052880"/>
            <a:ext cx="2857320" cy="196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Constantia"/>
              </a:rPr>
              <a:t>Физическое здоровь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"/>
          <p:cNvSpPr/>
          <p:nvPr/>
        </p:nvSpPr>
        <p:spPr>
          <a:xfrm>
            <a:off x="122400" y="2349360"/>
            <a:ext cx="1944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Рациональн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2349360"/>
            <a:ext cx="194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облюдение личной гиги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6640" y="5157720"/>
            <a:ext cx="194472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Оптимальное сочетание умственного и физического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157720"/>
            <a:ext cx="194472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Отказ от вредных привы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0" y="4502160"/>
            <a:ext cx="194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Двигательн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33840" y="1343160"/>
            <a:ext cx="1876320" cy="2381040"/>
          </a:xfrm>
          <a:prstGeom prst="rect">
            <a:avLst/>
          </a:prstGeom>
          <a:ln w="12600">
            <a:solidFill>
              <a:srgbClr val="0076a3"/>
            </a:solidFill>
            <a:round/>
          </a:ln>
        </p:spPr>
      </p:pic>
      <p:cxnSp>
        <p:nvCxnSpPr>
          <p:cNvPr id="108" name=""/>
          <p:cNvCxnSpPr/>
          <p:nvPr/>
        </p:nvCxnSpPr>
        <p:spPr>
          <a:xfrm rot="5400000">
            <a:off x="2064600" y="2781360"/>
            <a:ext cx="2160" cy="2160"/>
          </a:xfrm>
          <a:prstGeom prst="bentConnector2">
            <a:avLst/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109" name=""/>
          <p:cNvCxnSpPr/>
          <p:nvPr/>
        </p:nvCxnSpPr>
        <p:spPr>
          <a:xfrm flipV="1" rot="10800000">
            <a:off x="2064600" y="2533320"/>
            <a:ext cx="1570680" cy="248400"/>
          </a:xfrm>
          <a:prstGeom prst="bentConnector3">
            <a:avLst>
              <a:gd name="adj1" fmla="val 50000"/>
            </a:avLst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110" name=""/>
          <p:cNvCxnSpPr/>
          <p:nvPr/>
        </p:nvCxnSpPr>
        <p:spPr>
          <a:xfrm rot="5400000">
            <a:off x="4176720" y="4105800"/>
            <a:ext cx="778680" cy="14760"/>
          </a:xfrm>
          <a:prstGeom prst="bentConnector3">
            <a:avLst>
              <a:gd name="adj1" fmla="val 50000"/>
            </a:avLst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111" name=""/>
          <p:cNvCxnSpPr/>
          <p:nvPr/>
        </p:nvCxnSpPr>
        <p:spPr>
          <a:xfrm>
            <a:off x="5509800" y="2533680"/>
            <a:ext cx="1583640" cy="248400"/>
          </a:xfrm>
          <a:prstGeom prst="bentConnector3">
            <a:avLst>
              <a:gd name="adj1" fmla="val 50000"/>
            </a:avLst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112" name=""/>
          <p:cNvCxnSpPr/>
          <p:nvPr/>
        </p:nvCxnSpPr>
        <p:spPr>
          <a:xfrm rot="5400000">
            <a:off x="2111400" y="4043880"/>
            <a:ext cx="2466360" cy="1131120"/>
          </a:xfrm>
          <a:prstGeom prst="bentConnector3">
            <a:avLst>
              <a:gd name="adj1" fmla="val 50000"/>
            </a:avLst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 flipH="1" rot="16200000">
            <a:off x="4641840" y="3968280"/>
            <a:ext cx="2466360" cy="1281600"/>
          </a:xfrm>
          <a:prstGeom prst="bentConnector3">
            <a:avLst>
              <a:gd name="adj1" fmla="val 50000"/>
            </a:avLst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3840" y="4013280"/>
            <a:ext cx="1685880" cy="11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400" y="1101600"/>
            <a:ext cx="1881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809720" y="3397320"/>
            <a:ext cx="1513080" cy="1128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rcRect l="0" t="0" r="0" b="104"/>
          <a:stretch/>
        </p:blipFill>
        <p:spPr>
          <a:xfrm>
            <a:off x="3114720" y="5403960"/>
            <a:ext cx="2914560" cy="131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093080" y="1049400"/>
            <a:ext cx="1944720" cy="129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rcRect l="68995" t="0" r="0" b="0"/>
          <a:stretch/>
        </p:blipFill>
        <p:spPr>
          <a:xfrm>
            <a:off x="6097680" y="3956040"/>
            <a:ext cx="1025280" cy="95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rcRect l="0" t="1141" r="67978" b="0"/>
          <a:stretch/>
        </p:blipFill>
        <p:spPr>
          <a:xfrm>
            <a:off x="8064360" y="3743280"/>
            <a:ext cx="1051200" cy="939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rcRect l="34682" t="0" r="34569" b="0"/>
          <a:stretch/>
        </p:blipFill>
        <p:spPr>
          <a:xfrm>
            <a:off x="7149960" y="4213080"/>
            <a:ext cx="954360" cy="898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Constantia"/>
              </a:rPr>
              <a:t>Духовное здоровь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"/>
          <p:cNvSpPr/>
          <p:nvPr/>
        </p:nvSpPr>
        <p:spPr>
          <a:xfrm>
            <a:off x="141120" y="3295800"/>
            <a:ext cx="2289240" cy="86328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273480"/>
            <a:ext cx="2289240" cy="86364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7560" y="4237200"/>
            <a:ext cx="2288880" cy="86328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Об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040000">
            <a:off x="171360" y="4402080"/>
            <a:ext cx="2664000" cy="1008000"/>
          </a:xfrm>
          <a:prstGeom prst="hexagon">
            <a:avLst>
              <a:gd name="adj" fmla="val 66071"/>
              <a:gd name="vf" fmla="val 115470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мение жить в гарм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500000">
            <a:off x="6337440" y="4376880"/>
            <a:ext cx="2663640" cy="900000"/>
          </a:xfrm>
          <a:prstGeom prst="hexagon">
            <a:avLst>
              <a:gd name="adj" fmla="val 73990"/>
              <a:gd name="vf" fmla="val 115470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 собой и окружающ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0" t="0" r="0" b="30"/>
          <a:stretch/>
        </p:blipFill>
        <p:spPr>
          <a:xfrm>
            <a:off x="3722760" y="1268280"/>
            <a:ext cx="1743120" cy="2436840"/>
          </a:xfrm>
          <a:prstGeom prst="rect">
            <a:avLst/>
          </a:prstGeom>
          <a:ln w="19080">
            <a:solidFill>
              <a:srgbClr val="0076a3"/>
            </a:solidFill>
            <a:round/>
          </a:ln>
        </p:spPr>
      </p:pic>
      <p:cxnSp>
        <p:nvCxnSpPr>
          <p:cNvPr id="129" name=""/>
          <p:cNvCxnSpPr/>
          <p:nvPr/>
        </p:nvCxnSpPr>
        <p:spPr>
          <a:xfrm flipV="1" rot="10800000">
            <a:off x="2428200" y="2487240"/>
            <a:ext cx="1294560" cy="1240560"/>
          </a:xfrm>
          <a:prstGeom prst="bentConnector3">
            <a:avLst>
              <a:gd name="adj1" fmla="val 49986"/>
            </a:avLst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130" name=""/>
          <p:cNvCxnSpPr/>
          <p:nvPr/>
        </p:nvCxnSpPr>
        <p:spPr>
          <a:xfrm rot="5400000">
            <a:off x="4315680" y="3959280"/>
            <a:ext cx="532800" cy="24480"/>
          </a:xfrm>
          <a:prstGeom prst="bentConnector3">
            <a:avLst>
              <a:gd name="adj1" fmla="val 49966"/>
            </a:avLst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cxnSp>
        <p:nvCxnSpPr>
          <p:cNvPr id="131" name=""/>
          <p:cNvCxnSpPr/>
          <p:nvPr/>
        </p:nvCxnSpPr>
        <p:spPr>
          <a:xfrm flipH="1" rot="16200000">
            <a:off x="5463000" y="2487240"/>
            <a:ext cx="122004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95294"/>
            </a:solidFill>
            <a:round/>
            <a:tailEnd len="med" type="arrow" w="med"/>
          </a:ln>
        </p:spPr>
      </p:cxn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5400" y="1278000"/>
            <a:ext cx="2334960" cy="1895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591240" y="1268280"/>
            <a:ext cx="2359080" cy="1906560"/>
          </a:xfrm>
          <a:prstGeom prst="rect">
            <a:avLst/>
          </a:prstGeom>
          <a:ln w="0">
            <a:noFill/>
          </a:ln>
        </p:spPr>
      </p:pic>
      <p:cxnSp>
        <p:nvCxnSpPr>
          <p:cNvPr id="134" name=""/>
          <p:cNvCxnSpPr/>
          <p:nvPr/>
        </p:nvCxnSpPr>
        <p:spPr>
          <a:xfrm flipV="1">
            <a:off x="2382480" y="4069800"/>
            <a:ext cx="4475880" cy="83160"/>
          </a:xfrm>
          <a:prstGeom prst="bentConnector3">
            <a:avLst>
              <a:gd name="adj1" fmla="val 50000"/>
            </a:avLst>
          </a:prstGeom>
          <a:ln w="9360">
            <a:solidFill>
              <a:srgbClr val="095294"/>
            </a:solidFill>
            <a:round/>
            <a:headEnd len="med" type="arrow" w="med"/>
            <a:tailEnd len="med" type="arrow" w="med"/>
          </a:ln>
        </p:spPr>
      </p:cxn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859120" y="5127480"/>
            <a:ext cx="3406680" cy="1393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Constantia"/>
              </a:rPr>
              <a:t>Социальное здоровь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"/>
          <p:cNvSpPr/>
          <p:nvPr/>
        </p:nvSpPr>
        <p:spPr>
          <a:xfrm>
            <a:off x="3387600" y="2482920"/>
            <a:ext cx="22892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87600" y="4564080"/>
            <a:ext cx="22892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9080" y="2363760"/>
            <a:ext cx="2289240" cy="66996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">
            <a:off x="2063520" y="1607760"/>
            <a:ext cx="2288880" cy="66996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340000">
            <a:off x="4624560" y="1564920"/>
            <a:ext cx="2288880" cy="66996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397240"/>
            <a:ext cx="2288880" cy="66996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87600" y="5454720"/>
            <a:ext cx="2289240" cy="66996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300000">
            <a:off x="515880" y="4692240"/>
            <a:ext cx="2787840" cy="66996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40000">
            <a:off x="5789520" y="4589280"/>
            <a:ext cx="2860920" cy="669600"/>
          </a:xfrm>
          <a:prstGeom prst="ellipse">
            <a:avLst/>
          </a:prstGeom>
          <a:gradFill rotWithShape="0">
            <a:gsLst>
              <a:gs pos="0">
                <a:srgbClr val="008890"/>
              </a:gs>
              <a:gs pos="100000">
                <a:srgbClr val="b0f3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обра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975280" y="5430960"/>
            <a:ext cx="2022480" cy="1309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981840" y="1179360"/>
            <a:ext cx="1528920" cy="102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7451640" y="3278160"/>
            <a:ext cx="1440000" cy="96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24000" y="1279440"/>
            <a:ext cx="1585800" cy="1019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rcRect l="0" t="0" r="0" b="101"/>
          <a:stretch/>
        </p:blipFill>
        <p:spPr>
          <a:xfrm>
            <a:off x="163440" y="3090960"/>
            <a:ext cx="2175120" cy="1342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1782720" y="5475240"/>
            <a:ext cx="1112760" cy="1384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3738600" y="3137040"/>
            <a:ext cx="1668600" cy="124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83664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доровый образ жизни — образ жизни человека, направленный на профилактику болезней и укрепление 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2360" y="2276640"/>
            <a:ext cx="87123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Составляющие ЗОЖ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- воспитание с раннего детства здоровых привычек и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- окружающая среда: безопасная и благоприятная для обитания, знания о влиянии неблагоприятных факторов окружающей среды на здоров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- отказ от курения, употребления наркотиков и алк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- здоровое 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- движения: физически активная жизнь, включая специальные физические упражнения с учётом возрастных и физиологических особен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buClr>
                <a:srgbClr val="04576f"/>
              </a:buClr>
              <a:buSzPct val="45000"/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личная и общественная гиги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4400">
              <a:lnSpc>
                <a:spcPct val="100000"/>
              </a:lnSpc>
              <a:buClr>
                <a:srgbClr val="04576f"/>
              </a:buClr>
              <a:buSzPct val="45000"/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закал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2356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onstantia"/>
              </a:rPr>
              <a:t>Факторы, влияющие на здоровье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Constantia"/>
              </a:rPr>
              <a:t>Факторы, отрицательно влияющие на здоровье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0000"/>
              </a:lnSpc>
              <a:buClr>
                <a:srgbClr val="04576f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трес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4576f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болез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4576f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грязнение окружающей сред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4576f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кур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4576f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алкого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4576f"/>
              </a:buClr>
              <a:buSzPct val="9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нарко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