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A8B-6351-4CD1-BE80-0D9C53CF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BD7-107B-49D2-8C87-52CA2F6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AD8-A8FE-4503-A9EF-FFB60189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170-63DC-4FCD-AC4D-214CBC2B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56BD-11C7-4CE3-8A67-426B11B4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2427-1D1A-4F15-BBD0-D4B9B022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60D-8CEF-48F7-8B6C-E052C906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099-424C-4DBE-A217-D9A783D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A462-C612-4224-85CD-7DC6A96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6CB2-89BA-4AB4-8AD7-3E28409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C96-2E3F-4C40-971F-058691A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0DA-9FEA-46EF-BC87-EC94E06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2F66-DF72-418A-99D1-68944FF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31FA-68C1-464D-82D6-CE1835B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F450-4BD0-4B72-86FB-4485034F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AB9B-0D46-4E2E-899B-88D6ABCA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2E9B-57CD-45D1-B1A7-0B8BC57F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BC8-3022-48C8-BDDC-4D15F85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19E-9290-42A8-A001-963905B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ECC-BB47-494D-BD69-96CD46D4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23F-42EF-4A8E-B815-CAA151B3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593-D11C-4275-BA05-938033B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0B-B3D9-460E-9572-9E09BF8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145-4600-4362-A225-213EADA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52C1-B542-4C7E-A063-31026FB63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E99F-73C9-4F60-A142-AB0D8778F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2352600" y="1195560"/>
            <a:ext cx="4438800" cy="277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39640" y="134136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ризнаки наступления весны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Times New Roman"/>
              </a:rPr>
              <a:t>Какое настроение передаё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равится ли весна поэ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Какие слова говорят о том, что поэт радуется и ждёт вес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 какой просьбой обращается автор к ласточ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187280" y="260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ь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11280" y="26028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ное домашнее задание: уч. с. 65 выучить любое стихотв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258920" y="119160"/>
            <a:ext cx="7202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ексей Николаевич Плещеев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1825-18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Samsung\Desktop\картинки\250px-Yaroshenko_plescheev.jpg"/>
          <p:cNvPicPr/>
          <p:nvPr/>
        </p:nvPicPr>
        <p:blipFill>
          <a:blip r:embed="rId1"/>
          <a:stretch/>
        </p:blipFill>
        <p:spPr>
          <a:xfrm>
            <a:off x="539640" y="1557360"/>
            <a:ext cx="3108600" cy="41036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" name="TextBox 2"/>
          <p:cNvSpPr/>
          <p:nvPr/>
        </p:nvSpPr>
        <p:spPr>
          <a:xfrm>
            <a:off x="3924360" y="1347840"/>
            <a:ext cx="48956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й русский поэт, писатель, театральный и литературный критик XIX века Алексей Плещеев прославился своими романтическими произведениями, которые наполнены тоской и грустью. Его стихи и книги вошли в хрестоматию детской литературы и русской прозы, став основой для сотен прекрасных лирических романсов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979640" y="189000"/>
            <a:ext cx="6696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поллон Николаевич Май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21-18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Samsung\Desktop\картинки\майков а.jpg"/>
          <p:cNvPicPr/>
          <p:nvPr/>
        </p:nvPicPr>
        <p:blipFill>
          <a:blip r:embed="rId1"/>
          <a:stretch/>
        </p:blipFill>
        <p:spPr>
          <a:xfrm>
            <a:off x="611280" y="1468440"/>
            <a:ext cx="2952720" cy="3921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8" name="TextBox 2"/>
          <p:cNvSpPr/>
          <p:nvPr/>
        </p:nvSpPr>
        <p:spPr>
          <a:xfrm>
            <a:off x="3851280" y="155736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ворчестве Аполлона Майкова особое место занимают стихи о русской природе, отличающиеся задушевностью и напевностью. Многие из них вдохновляли композиторов на написание романсов и были  положены на музыку П.И.Чайковского и Н.А.Римского-Корса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74560" y="126828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-та-т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дома чист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-ты-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метану съ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к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-ти-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- съели кашу всю поч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-тё-тё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тложили мы шить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-то-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али мы играть в ло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ь-ать-а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ы идем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-ат-а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ерем с собой самок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900000" y="1666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читай чист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55640" y="907920"/>
            <a:ext cx="93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енели руч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г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 свой - улей - пч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мёд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, кто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уу"/>
          <p:cNvPicPr/>
          <p:nvPr/>
        </p:nvPicPr>
        <p:blipFill>
          <a:blip r:embed="rId1"/>
          <a:stretch/>
        </p:blipFill>
        <p:spPr>
          <a:xfrm>
            <a:off x="4788000" y="3573360"/>
            <a:ext cx="4054320" cy="30686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6" descr=""/>
          <p:cNvPicPr/>
          <p:nvPr/>
        </p:nvPicPr>
        <p:blipFill>
          <a:blip r:embed="rId2"/>
          <a:stretch/>
        </p:blipFill>
        <p:spPr>
          <a:xfrm>
            <a:off x="938160" y="4932360"/>
            <a:ext cx="3384720" cy="1346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631960" y="120600"/>
            <a:ext cx="405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гадай загад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липарты\животные\птицы\ласточка.png"/>
          <p:cNvPicPr/>
          <p:nvPr/>
        </p:nvPicPr>
        <p:blipFill>
          <a:blip r:embed="rId1"/>
          <a:stretch/>
        </p:blipFill>
        <p:spPr>
          <a:xfrm>
            <a:off x="6659640" y="3716280"/>
            <a:ext cx="1989000" cy="2779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75564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 Майков «Ласточка примчалас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55640" y="1341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учебник с. 65, читаем стихотв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baby-scool.narod.ru/media/book/poesiya/img/lastochka.jpg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701640" y="11970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настроение передает это стихотвор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ком о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уда прилетела ласт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и прочтите песенку ласт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слышал поэт А. Майков в пении ласточ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клипарты\животные\птицы\ласточки у.png"/>
          <p:cNvPicPr/>
          <p:nvPr/>
        </p:nvPicPr>
        <p:blipFill>
          <a:blip r:embed="rId1"/>
          <a:stretch/>
        </p:blipFill>
        <p:spPr>
          <a:xfrm>
            <a:off x="5245200" y="4857840"/>
            <a:ext cx="3189240" cy="1558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763640" y="228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97164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 Плещеев «Сельская песен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755640" y="119700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учебник с. 65, читаем стихотв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Мария Шувалова</cp:lastModifiedBy>
  <dcterms:modified xsi:type="dcterms:W3CDTF">2020-04-12T12:55:46Z</dcterms:modified>
  <cp:revision>21</cp:revision>
  <dc:subject/>
  <dc:title>Слайд 1</dc:title>
</cp:coreProperties>
</file>