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3CA-A5DC-4702-B97B-44ECBF99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3FD-B0B1-4AF0-AF16-885DE49C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BB7-156F-4F74-9635-B4DCD22D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F44-6C08-4FC9-A905-0B1BD911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C93-166B-4722-873D-E1C511FB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C0C-BF99-4ADD-B3B9-63DAC55F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146-0C07-4AA0-A3C7-2AA1E61D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5C7-5BF6-4DA7-AF30-47AA3C4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792C-2FA9-4DF8-8EC4-F238093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CAA9-E255-4F5A-B263-6E0BF37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CE4F-C1C0-4735-BA9C-F578F37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CD0-0E70-48FD-87D0-EDC7235A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EF8C-11DE-478D-8F01-0685C72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C92-D96A-43D5-99BB-C28CA78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8B0B-EFBC-49D3-B71E-9F87A93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6B0-BBD2-43A4-9996-1DD386F9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C8F-BD34-45CC-A56A-C7AA1306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F50-6C21-41A3-8452-4CDA2707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060-29FC-4C99-A6EC-66391037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2B6-DC3D-4B15-8D28-BA664803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AE2-CD59-40F9-B663-C45028DC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F30-93EB-4D2D-8799-40473DA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074-EB17-447C-87CF-52A0D46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FC6-643C-41E8-A0D4-B4CB115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6E8B-609F-435C-9AF1-C8E80CF3F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275-3A05-42DB-BE21-BE1E012DA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2352600" y="1195560"/>
            <a:ext cx="4438800" cy="277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39640" y="134136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ризнаки наступления весны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  <a:ea typeface="Times New Roman"/>
              </a:rPr>
              <a:t>Какое настроение передаё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равится ли весна поэ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Какие слова говорят о том, что поэт радуется и ждёт вес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 какой просьбой обращается автор к ласточ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187280" y="260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ь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11280" y="26028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ное домашнее задание: уч. с. 65 выучить любое стихотв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258920" y="119160"/>
            <a:ext cx="7202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ексей Николаевич Плещеев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1825-18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Samsung\Desktop\картинки\250px-Yaroshenko_plescheev.jpg"/>
          <p:cNvPicPr/>
          <p:nvPr/>
        </p:nvPicPr>
        <p:blipFill>
          <a:blip r:embed="rId1"/>
          <a:stretch/>
        </p:blipFill>
        <p:spPr>
          <a:xfrm>
            <a:off x="539640" y="1557360"/>
            <a:ext cx="3108600" cy="41036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5" name="TextBox 2"/>
          <p:cNvSpPr/>
          <p:nvPr/>
        </p:nvSpPr>
        <p:spPr>
          <a:xfrm>
            <a:off x="3924360" y="1347840"/>
            <a:ext cx="48956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й русский поэт, писатель, театральный и литературный критик XIX века Алексей Плещеев прославился своими романтическими произведениями, которые наполнены тоской и грустью. Его стихи и книги вошли в хрестоматию детской литературы и русской прозы, став основой для сотен прекрасных лирических романсов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979640" y="189000"/>
            <a:ext cx="6696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поллон Николаевич Май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21-18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Samsung\Desktop\картинки\майков а.jpg"/>
          <p:cNvPicPr/>
          <p:nvPr/>
        </p:nvPicPr>
        <p:blipFill>
          <a:blip r:embed="rId1"/>
          <a:stretch/>
        </p:blipFill>
        <p:spPr>
          <a:xfrm>
            <a:off x="611280" y="1468440"/>
            <a:ext cx="2952720" cy="39211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8" name="TextBox 2"/>
          <p:cNvSpPr/>
          <p:nvPr/>
        </p:nvSpPr>
        <p:spPr>
          <a:xfrm>
            <a:off x="3851280" y="155736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ворчестве Аполлона Майкова особое место занимают стихи о русской природе, отличающиеся задушевностью и напевностью. Многие из них вдохновляли композиторов на написание романсов и были  положены на музыку П.И.Чайковского и Н.А.Римского-Корса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74560" y="126828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-та-т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дома чист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-ты-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метану съ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к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-ти-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- съели кашу всю поч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-тё-тё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тложили мы шить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-то-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али мы играть в ло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ь-ать-а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ы идем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-ат-а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ерем с собой самок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900000" y="16668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читай чист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55640" y="907920"/>
            <a:ext cx="93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енели руч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и г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 свой - улей - пч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мёд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, кто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уу"/>
          <p:cNvPicPr/>
          <p:nvPr/>
        </p:nvPicPr>
        <p:blipFill>
          <a:blip r:embed="rId1"/>
          <a:stretch/>
        </p:blipFill>
        <p:spPr>
          <a:xfrm>
            <a:off x="4788000" y="3573360"/>
            <a:ext cx="4054320" cy="30686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6" descr=""/>
          <p:cNvPicPr/>
          <p:nvPr/>
        </p:nvPicPr>
        <p:blipFill>
          <a:blip r:embed="rId2"/>
          <a:stretch/>
        </p:blipFill>
        <p:spPr>
          <a:xfrm>
            <a:off x="938160" y="4932360"/>
            <a:ext cx="3384720" cy="1346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631960" y="120600"/>
            <a:ext cx="405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гадай загад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липарты\животные\птицы\ласточка.png"/>
          <p:cNvPicPr/>
          <p:nvPr/>
        </p:nvPicPr>
        <p:blipFill>
          <a:blip r:embed="rId1"/>
          <a:stretch/>
        </p:blipFill>
        <p:spPr>
          <a:xfrm>
            <a:off x="6659640" y="3716280"/>
            <a:ext cx="1989000" cy="2779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75564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 Майков «Ласточка примчалас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55640" y="1341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учебник с. 65, читаем стихотв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baby-scool.narod.ru/media/book/poesiya/img/lastochka.jpg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701640" y="11970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настроение передает это стихотвор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ком о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уда прилетела ласт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и прочтите песенку ласт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слышал поэт А. Майков в пении ласточ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клипарты\животные\птицы\ласточки у.png"/>
          <p:cNvPicPr/>
          <p:nvPr/>
        </p:nvPicPr>
        <p:blipFill>
          <a:blip r:embed="rId1"/>
          <a:stretch/>
        </p:blipFill>
        <p:spPr>
          <a:xfrm>
            <a:off x="5245200" y="4857840"/>
            <a:ext cx="3189240" cy="1558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763640" y="2286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97164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. Плещеев «Сельская песен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755640" y="119700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учебник с. 65, читаем стихотво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Мария Шувалова</cp:lastModifiedBy>
  <dcterms:modified xsi:type="dcterms:W3CDTF">2020-04-12T12:55:46Z</dcterms:modified>
  <cp:revision>21</cp:revision>
  <dc:subject/>
  <dc:title>Слайд 1</dc:title>
</cp:coreProperties>
</file>