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7.jpeg" ContentType="image/jpeg"/>
  <Override PartName="/ppt/media/image14.png" ContentType="image/png"/>
  <Override PartName="/ppt/media/image16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FCFD0-0B27-41B7-82B4-5E5696083EA6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D726-B198-43DB-ADF4-4E97C9EC9C4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веди курсор на дольку с названием темы и щелкни мыш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1A1CE-FF52-41EA-BD54-FC1C62DD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2413-641B-4F51-938F-040CA038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A1D7-44B7-4853-B6F0-C5DCECA2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BA1F-2AF2-4AAA-85FF-98BFEC6F6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634B-2132-4A53-BBB4-00FBFB312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8348A-54F9-4AC7-9637-1D2BB0A0F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B7BA3-B17C-4E0D-882C-50A96F90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1592-D3AE-4FBC-9121-946D8923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703A2-D5EF-4E78-B367-984C29C9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919F-2963-4C37-84F8-88EAF0638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448F6-5828-4F19-BD6B-AF651FA99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732B-8363-4CF7-9DB8-FA650449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905F8-C707-4E24-814C-E3AAE0AF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E4FFE-C791-4E29-B1D4-0634D78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FB663-A404-48EF-A2F4-7A2412A5E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EA23-919B-4EE3-81F8-E4A1960E7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383F-DADB-4547-9314-F1FCD9CC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97F8D-5E0C-49B1-9E98-07B82E952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52C9-32D4-4658-813C-883156A07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5F6176-CF18-468B-AC6B-1D3AA52C8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6F388-79EF-4FAA-B63F-7548FA94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C7892-9269-4D18-8617-E7D5A062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F63F-BE57-4DC8-888A-F2106833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7E428-4E7E-4909-8F1B-F1CC9118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984EF6-FA67-41A7-8EC6-8BD4303A3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70680-3927-4342-B187-D4143130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75FF8-74D6-415F-8E9F-4F82FD06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E10A6-D817-4F55-8D02-52E242171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74205-2B42-4459-903B-70BECFCA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DD6A7-E22E-4F6E-8B0C-8AED7CFA2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66A7F-6675-4216-A843-42E57520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6D8AEA-D714-4895-90A5-E86ED8E4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5FAA1-A867-40B6-A725-9D42FBD19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ECD6-C1E9-4B38-B118-96B4317A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AEE44-A482-4CA8-9020-3E771447C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FF1442-3E47-4013-B5D1-396BA40D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89C60-24A2-4C01-B662-3E7D6925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097C99-61DE-4D1E-B932-AD3E0D71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E8AB-47A7-4100-8DDB-A97E2DDFF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656E37-0A88-4215-98FD-B710F080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8973E6-4177-4F92-8F83-24F85982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A6B3B6-A9CC-4AE3-856E-72946C29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829DC-73F7-4B78-9629-1053A9374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630D2E-2A63-4CE3-9D52-91835C5B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D21A-3B3C-4657-8EBD-84ECE176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94067-C8F4-4BD6-8380-063BC78EA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9532C-D8B4-4ACC-ACA6-6AD9102E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4F188-4578-49B5-BEB3-0B9141F18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90F4F5-8285-4255-B91D-FD9110BFD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13F433-D70B-4AC4-B111-134B524D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E1B18-C4F8-4478-959D-1F670064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3F3BBE-8CDA-4C42-959A-E0551C28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D6381-5A37-45F4-9D7C-7FAB624C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CC578-3679-497C-854C-761038964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ABC7B-F303-448E-B280-15A86750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3A4-CA42-4E57-BB04-826A65BB6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5FE74-97D6-44ED-A9C9-CB81C9E9B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65FD9-E1D4-4425-BD77-BD484486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B5AB3-A588-48B2-8FB9-1B3F866C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F42E61-46D5-4E6E-99AD-AA3293B5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22A18-6CAC-42B8-9803-2A794C1A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32E728-00AE-48D3-A39C-C9D6CC0DE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941CF-FCFA-402D-A282-B3E272857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04F68-7C56-42A0-9A1C-3F9BB0D2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09CD59-DF51-42DE-9D02-42593CA3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9C5A-76C5-48DE-9AA3-D2BDBA254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2331-0806-4727-8E76-FBA058C2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E1A47-165F-4619-BB9B-0EA32A7F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98AC4B-7D7F-475A-9AA8-786CBA625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810CC-F66A-4DEF-98B8-1D1288D53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7545F4-7B22-4B0E-A99E-E1ABD56E53D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82EF4C-600F-4966-828A-FFEE1CCD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3D8AC4-208B-45AD-B078-FF08C5F4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642321-628A-432E-8860-E3592236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399D8D-E74D-497E-AB11-1C9963465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7849F31-95DC-45AC-9CA2-BBA940ECE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AD8B9-C9B4-4668-9275-4CEA54DB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D7AF-8786-4B29-B986-AD982A88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8048D4F-9BD7-4D77-9B86-523FED402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330850-810F-4C9F-9F45-6613E634B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DF98D8-F7A4-4EC2-A2C8-7B2D71209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40B102-A151-4733-9FEF-C8142B9A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D40D01-5EB4-470C-BAB1-A69336F70D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CD3488C-E77E-4E55-9221-69BEE29B0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72DBE6-41B1-4B7F-8230-93A47CB83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16384F-A169-4198-9476-5F36E13B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BDCF1C-30CE-4585-BB94-B5EE30002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37F30A-B52C-400B-8B5C-2437389C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7A1-F954-461B-9CF3-4968D2E8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77F39B-B78F-4B7E-97F7-A2512C4AD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7950A58-C3BB-4E79-BFF1-75F35AF8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D2BA52-1324-4C02-A861-0F181DF9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093840-6120-49F6-AF27-64249D3A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8E1959-4B92-4192-8BF3-218A99400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85E1312-46CB-4CC4-81A8-40A1D377B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5DC680-D076-48F0-87C7-C4F01119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7D33-E03A-48A2-B4F1-345E279EE8B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0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7806-D740-47B6-B8BE-698EB64A5C83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5C537-88F5-410A-958C-B423E248CA7A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3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3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3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D57BE-1371-4940-A56E-540901BFED04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284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285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8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99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303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6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307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0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311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4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315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8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F1D2-26D0-4BBE-A94A-E90C1FBE02F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6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6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7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D1387-DA4A-49E9-9907-EC2B3AD4D0BB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1.12.1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0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DFCCD-F771-4296-A4EF-E4EEF83CF011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E8155-FE71-4FE6-9763-0EA23C3A6D6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" Target="slide8.xm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" Target="slide5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42840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общеобразовательное 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школа №3 г. Лысков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56800" y="1500120"/>
            <a:ext cx="67690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робные чис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по предмету матема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5 «А»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еника: Колесова Георг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рил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иселёва Светлана Игор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. Лысков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20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5364000" y="4724280"/>
            <a:ext cx="24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7" descr="j0301252"/>
          <p:cNvPicPr/>
          <p:nvPr/>
        </p:nvPicPr>
        <p:blipFill>
          <a:blip r:embed="rId1"/>
          <a:stretch/>
        </p:blipFill>
        <p:spPr>
          <a:xfrm>
            <a:off x="4643280" y="3214800"/>
            <a:ext cx="3745080" cy="295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52"/>
          <p:cNvSpPr/>
          <p:nvPr/>
        </p:nvSpPr>
        <p:spPr>
          <a:xfrm>
            <a:off x="152280" y="2133720"/>
            <a:ext cx="426744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3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Rectangle 53"/>
          <p:cNvSpPr/>
          <p:nvPr/>
        </p:nvSpPr>
        <p:spPr>
          <a:xfrm>
            <a:off x="4500720" y="2133720"/>
            <a:ext cx="426708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50" descr="328c9191a0e5t"/>
          <p:cNvPicPr/>
          <p:nvPr/>
        </p:nvPicPr>
        <p:blipFill>
          <a:blip r:embed="rId1"/>
          <a:srcRect l="0" t="0" r="0" b="6351"/>
          <a:stretch/>
        </p:blipFill>
        <p:spPr>
          <a:xfrm>
            <a:off x="0" y="4267080"/>
            <a:ext cx="1143000" cy="2590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1" descr="be3597015f56t"/>
          <p:cNvPicPr/>
          <p:nvPr/>
        </p:nvPicPr>
        <p:blipFill>
          <a:blip r:embed="rId2"/>
          <a:srcRect l="-4378" t="0" r="0" b="6234"/>
          <a:stretch/>
        </p:blipFill>
        <p:spPr>
          <a:xfrm>
            <a:off x="7924680" y="4267080"/>
            <a:ext cx="1219320" cy="2590920"/>
          </a:xfrm>
          <a:prstGeom prst="rect">
            <a:avLst/>
          </a:prstGeom>
          <a:ln w="0">
            <a:noFill/>
          </a:ln>
        </p:spPr>
      </p:pic>
      <p:sp>
        <p:nvSpPr>
          <p:cNvPr id="587" name="WordArt 4"/>
          <p:cNvSpPr txBox="1"/>
          <p:nvPr/>
        </p:nvSpPr>
        <p:spPr>
          <a:xfrm>
            <a:off x="1500120" y="228600"/>
            <a:ext cx="69580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ые и неправильные дроби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88" name="Group 5"/>
          <p:cNvGrpSpPr/>
          <p:nvPr/>
        </p:nvGrpSpPr>
        <p:grpSpPr>
          <a:xfrm>
            <a:off x="1428840" y="2571840"/>
            <a:ext cx="457200" cy="1218600"/>
            <a:chOff x="1428840" y="2571840"/>
            <a:chExt cx="457200" cy="1218600"/>
          </a:xfrm>
        </p:grpSpPr>
        <p:sp>
          <p:nvSpPr>
            <p:cNvPr id="589" name="WordArt 6"/>
            <p:cNvSpPr txBox="1"/>
            <p:nvPr/>
          </p:nvSpPr>
          <p:spPr>
            <a:xfrm>
              <a:off x="1467000" y="25718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0" name="WordArt 7"/>
            <p:cNvSpPr txBox="1"/>
            <p:nvPr/>
          </p:nvSpPr>
          <p:spPr>
            <a:xfrm>
              <a:off x="1428840" y="314928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1" name="WordArt 8"/>
            <p:cNvSpPr txBox="1"/>
            <p:nvPr/>
          </p:nvSpPr>
          <p:spPr>
            <a:xfrm>
              <a:off x="1428840" y="32774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571680" y="2643120"/>
            <a:ext cx="457200" cy="1219320"/>
            <a:chOff x="571680" y="2643120"/>
            <a:chExt cx="457200" cy="1219320"/>
          </a:xfrm>
        </p:grpSpPr>
        <p:sp>
          <p:nvSpPr>
            <p:cNvPr id="593" name="WordArt 10"/>
            <p:cNvSpPr txBox="1"/>
            <p:nvPr/>
          </p:nvSpPr>
          <p:spPr>
            <a:xfrm>
              <a:off x="609840" y="264312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4" name="WordArt 11"/>
            <p:cNvSpPr txBox="1"/>
            <p:nvPr/>
          </p:nvSpPr>
          <p:spPr>
            <a:xfrm>
              <a:off x="571680" y="322056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5" name="WordArt 12"/>
            <p:cNvSpPr txBox="1"/>
            <p:nvPr/>
          </p:nvSpPr>
          <p:spPr>
            <a:xfrm>
              <a:off x="571680" y="334908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5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596" name="Group 13"/>
          <p:cNvGrpSpPr/>
          <p:nvPr/>
        </p:nvGrpSpPr>
        <p:grpSpPr>
          <a:xfrm>
            <a:off x="3000240" y="2571840"/>
            <a:ext cx="457200" cy="1218600"/>
            <a:chOff x="3000240" y="2571840"/>
            <a:chExt cx="457200" cy="1218600"/>
          </a:xfrm>
        </p:grpSpPr>
        <p:sp>
          <p:nvSpPr>
            <p:cNvPr id="597" name="WordArt 14"/>
            <p:cNvSpPr txBox="1"/>
            <p:nvPr/>
          </p:nvSpPr>
          <p:spPr>
            <a:xfrm>
              <a:off x="3038400" y="25718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8" name="WordArt 15"/>
            <p:cNvSpPr txBox="1"/>
            <p:nvPr/>
          </p:nvSpPr>
          <p:spPr>
            <a:xfrm>
              <a:off x="3000240" y="314928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9" name="WordArt 16"/>
            <p:cNvSpPr txBox="1"/>
            <p:nvPr/>
          </p:nvSpPr>
          <p:spPr>
            <a:xfrm>
              <a:off x="3000240" y="32774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4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00" name="Group 17"/>
          <p:cNvGrpSpPr/>
          <p:nvPr/>
        </p:nvGrpSpPr>
        <p:grpSpPr>
          <a:xfrm>
            <a:off x="3714840" y="2571840"/>
            <a:ext cx="457200" cy="1218600"/>
            <a:chOff x="3714840" y="2571840"/>
            <a:chExt cx="457200" cy="1218600"/>
          </a:xfrm>
        </p:grpSpPr>
        <p:sp>
          <p:nvSpPr>
            <p:cNvPr id="601" name="WordArt 18"/>
            <p:cNvSpPr txBox="1"/>
            <p:nvPr/>
          </p:nvSpPr>
          <p:spPr>
            <a:xfrm>
              <a:off x="3753000" y="25718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4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02" name="WordArt 19"/>
            <p:cNvSpPr txBox="1"/>
            <p:nvPr/>
          </p:nvSpPr>
          <p:spPr>
            <a:xfrm>
              <a:off x="3714840" y="314928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03" name="WordArt 20"/>
            <p:cNvSpPr txBox="1"/>
            <p:nvPr/>
          </p:nvSpPr>
          <p:spPr>
            <a:xfrm>
              <a:off x="3714840" y="32774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04" name="Group 21"/>
          <p:cNvGrpSpPr/>
          <p:nvPr/>
        </p:nvGrpSpPr>
        <p:grpSpPr>
          <a:xfrm>
            <a:off x="5000760" y="2857680"/>
            <a:ext cx="457200" cy="1218600"/>
            <a:chOff x="5000760" y="2857680"/>
            <a:chExt cx="457200" cy="1218600"/>
          </a:xfrm>
        </p:grpSpPr>
        <p:sp>
          <p:nvSpPr>
            <p:cNvPr id="605" name="WordArt 22"/>
            <p:cNvSpPr txBox="1"/>
            <p:nvPr/>
          </p:nvSpPr>
          <p:spPr>
            <a:xfrm>
              <a:off x="5038920" y="285768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5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06" name="WordArt 23"/>
            <p:cNvSpPr txBox="1"/>
            <p:nvPr/>
          </p:nvSpPr>
          <p:spPr>
            <a:xfrm>
              <a:off x="5000760" y="343512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07" name="WordArt 24"/>
            <p:cNvSpPr txBox="1"/>
            <p:nvPr/>
          </p:nvSpPr>
          <p:spPr>
            <a:xfrm>
              <a:off x="5000760" y="356328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7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08" name="Group 25"/>
          <p:cNvGrpSpPr/>
          <p:nvPr/>
        </p:nvGrpSpPr>
        <p:grpSpPr>
          <a:xfrm>
            <a:off x="6500880" y="2928960"/>
            <a:ext cx="457200" cy="1219320"/>
            <a:chOff x="6500880" y="2928960"/>
            <a:chExt cx="457200" cy="1219320"/>
          </a:xfrm>
        </p:grpSpPr>
        <p:sp>
          <p:nvSpPr>
            <p:cNvPr id="609" name="WordArt 26"/>
            <p:cNvSpPr txBox="1"/>
            <p:nvPr/>
          </p:nvSpPr>
          <p:spPr>
            <a:xfrm>
              <a:off x="6539040" y="292896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7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0" name="WordArt 27"/>
            <p:cNvSpPr txBox="1"/>
            <p:nvPr/>
          </p:nvSpPr>
          <p:spPr>
            <a:xfrm>
              <a:off x="6500880" y="350640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1" name="WordArt 28"/>
            <p:cNvSpPr txBox="1"/>
            <p:nvPr/>
          </p:nvSpPr>
          <p:spPr>
            <a:xfrm>
              <a:off x="6500880" y="363492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9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12" name="Group 29"/>
          <p:cNvGrpSpPr/>
          <p:nvPr/>
        </p:nvGrpSpPr>
        <p:grpSpPr>
          <a:xfrm>
            <a:off x="8001000" y="2714760"/>
            <a:ext cx="457200" cy="1218600"/>
            <a:chOff x="8001000" y="2714760"/>
            <a:chExt cx="457200" cy="1218600"/>
          </a:xfrm>
        </p:grpSpPr>
        <p:sp>
          <p:nvSpPr>
            <p:cNvPr id="613" name="WordArt 30"/>
            <p:cNvSpPr txBox="1"/>
            <p:nvPr/>
          </p:nvSpPr>
          <p:spPr>
            <a:xfrm>
              <a:off x="8039160" y="271476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6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4" name="WordArt 31"/>
            <p:cNvSpPr txBox="1"/>
            <p:nvPr/>
          </p:nvSpPr>
          <p:spPr>
            <a:xfrm>
              <a:off x="8001000" y="329220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5" name="WordArt 32"/>
            <p:cNvSpPr txBox="1"/>
            <p:nvPr/>
          </p:nvSpPr>
          <p:spPr>
            <a:xfrm>
              <a:off x="8001000" y="342036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6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16" name="Group 33"/>
          <p:cNvGrpSpPr/>
          <p:nvPr/>
        </p:nvGrpSpPr>
        <p:grpSpPr>
          <a:xfrm>
            <a:off x="2286000" y="2643120"/>
            <a:ext cx="457200" cy="1219320"/>
            <a:chOff x="2286000" y="2643120"/>
            <a:chExt cx="457200" cy="1219320"/>
          </a:xfrm>
        </p:grpSpPr>
        <p:sp>
          <p:nvSpPr>
            <p:cNvPr id="617" name="WordArt 34"/>
            <p:cNvSpPr txBox="1"/>
            <p:nvPr/>
          </p:nvSpPr>
          <p:spPr>
            <a:xfrm>
              <a:off x="2324160" y="264312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8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8" name="WordArt 35"/>
            <p:cNvSpPr txBox="1"/>
            <p:nvPr/>
          </p:nvSpPr>
          <p:spPr>
            <a:xfrm>
              <a:off x="2286000" y="322056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9" name="WordArt 36"/>
            <p:cNvSpPr txBox="1"/>
            <p:nvPr/>
          </p:nvSpPr>
          <p:spPr>
            <a:xfrm>
              <a:off x="2286000" y="334908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5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20" name="Group 37"/>
          <p:cNvGrpSpPr/>
          <p:nvPr/>
        </p:nvGrpSpPr>
        <p:grpSpPr>
          <a:xfrm>
            <a:off x="7215120" y="2714760"/>
            <a:ext cx="457200" cy="1218600"/>
            <a:chOff x="7215120" y="2714760"/>
            <a:chExt cx="457200" cy="1218600"/>
          </a:xfrm>
        </p:grpSpPr>
        <p:sp>
          <p:nvSpPr>
            <p:cNvPr id="621" name="WordArt 38"/>
            <p:cNvSpPr txBox="1"/>
            <p:nvPr/>
          </p:nvSpPr>
          <p:spPr>
            <a:xfrm>
              <a:off x="7253280" y="271476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22" name="WordArt 39"/>
            <p:cNvSpPr txBox="1"/>
            <p:nvPr/>
          </p:nvSpPr>
          <p:spPr>
            <a:xfrm>
              <a:off x="7215120" y="329220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23" name="WordArt 40"/>
            <p:cNvSpPr txBox="1"/>
            <p:nvPr/>
          </p:nvSpPr>
          <p:spPr>
            <a:xfrm>
              <a:off x="7215120" y="342036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24" name="Group 41"/>
          <p:cNvGrpSpPr/>
          <p:nvPr/>
        </p:nvGrpSpPr>
        <p:grpSpPr>
          <a:xfrm>
            <a:off x="5643720" y="2857680"/>
            <a:ext cx="457200" cy="1218600"/>
            <a:chOff x="5643720" y="2857680"/>
            <a:chExt cx="457200" cy="1218600"/>
          </a:xfrm>
        </p:grpSpPr>
        <p:sp>
          <p:nvSpPr>
            <p:cNvPr id="625" name="WordArt 42"/>
            <p:cNvSpPr txBox="1"/>
            <p:nvPr/>
          </p:nvSpPr>
          <p:spPr>
            <a:xfrm>
              <a:off x="5681880" y="285768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26" name="WordArt 43"/>
            <p:cNvSpPr txBox="1"/>
            <p:nvPr/>
          </p:nvSpPr>
          <p:spPr>
            <a:xfrm>
              <a:off x="5643720" y="343512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27" name="WordArt 44"/>
            <p:cNvSpPr txBox="1"/>
            <p:nvPr/>
          </p:nvSpPr>
          <p:spPr>
            <a:xfrm>
              <a:off x="5643720" y="356328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628" name="Text Box 49"/>
          <p:cNvSpPr/>
          <p:nvPr/>
        </p:nvSpPr>
        <p:spPr>
          <a:xfrm>
            <a:off x="304920" y="1066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00"/>
              </a:buClr>
              <a:buSzPct val="200000"/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ext Box 56"/>
          <p:cNvSpPr/>
          <p:nvPr/>
        </p:nvSpPr>
        <p:spPr>
          <a:xfrm>
            <a:off x="5097960" y="478620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авиль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роб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 Box 57"/>
          <p:cNvSpPr/>
          <p:nvPr/>
        </p:nvSpPr>
        <p:spPr>
          <a:xfrm>
            <a:off x="1384560" y="4286160"/>
            <a:ext cx="289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еправиль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роб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0.69166 0.45503 E">
                                      <p:cBhvr>
                                        <p:cTn id="344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-0.56667 0.22196 E">
                                      <p:cBhvr>
                                        <p:cTn id="34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-0.025 0.45503 E">
                                      <p:cBhvr>
                                        <p:cTn id="348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42775E-006 L -0.15 0.23306 E">
                                      <p:cBhvr>
                                        <p:cTn id="350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42775E-006 L -0.21666 0.45503 E">
                                      <p:cBhvr>
                                        <p:cTn id="352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2775E-006 L 0.4 0.21086 E">
                                      <p:cBhvr>
                                        <p:cTn id="354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2775E-006 L -0.14167 0.22196 E">
                                      <p:cBhvr>
                                        <p:cTn id="356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-0.225 0.32185 E">
                                      <p:cBhvr>
                                        <p:cTn id="358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42775E-006 L 0.13334 0.31075 E">
                                      <p:cBhvr>
                                        <p:cTn id="360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-0.30834 0.45503 E">
                                      <p:cBhvr>
                                        <p:cTn id="362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4"/>
          <p:cNvSpPr txBox="1"/>
          <p:nvPr/>
        </p:nvSpPr>
        <p:spPr>
          <a:xfrm>
            <a:off x="1571760" y="228600"/>
            <a:ext cx="68864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ые и неправильные дроби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32" name="Group 5"/>
          <p:cNvGrpSpPr/>
          <p:nvPr/>
        </p:nvGrpSpPr>
        <p:grpSpPr>
          <a:xfrm>
            <a:off x="1219320" y="1905120"/>
            <a:ext cx="533160" cy="1142640"/>
            <a:chOff x="1219320" y="1905120"/>
            <a:chExt cx="533160" cy="1142640"/>
          </a:xfrm>
        </p:grpSpPr>
        <p:sp>
          <p:nvSpPr>
            <p:cNvPr id="633" name="WordArt 6"/>
            <p:cNvSpPr txBox="1"/>
            <p:nvPr/>
          </p:nvSpPr>
          <p:spPr>
            <a:xfrm>
              <a:off x="1263600" y="190512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6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34" name="WordArt 7"/>
            <p:cNvSpPr txBox="1"/>
            <p:nvPr/>
          </p:nvSpPr>
          <p:spPr>
            <a:xfrm>
              <a:off x="1219320" y="2446560"/>
              <a:ext cx="533160" cy="59760"/>
            </a:xfrm>
            <a:prstGeom prst="rect">
              <a:avLst/>
            </a:prstGeom>
          </p:spPr>
          <p:txBody>
            <a:bodyPr wrap="none" lIns="90000" rIns="90000" tIns="13320" bIns="13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35" name="WordArt 8"/>
            <p:cNvSpPr txBox="1"/>
            <p:nvPr/>
          </p:nvSpPr>
          <p:spPr>
            <a:xfrm>
              <a:off x="1219320" y="256680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5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636" name="AutoShape 10"/>
          <p:cNvSpPr/>
          <p:nvPr/>
        </p:nvSpPr>
        <p:spPr>
          <a:xfrm>
            <a:off x="2071800" y="2000160"/>
            <a:ext cx="670536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33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обь, в которой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  <a:ea typeface="Arial"/>
              </a:rPr>
              <a:t>числи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  <a:ea typeface="Arial"/>
              </a:rPr>
              <a:t>меньше знаменател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  <a:ea typeface="Arial"/>
              </a:rPr>
              <a:t>правильно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роб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7" name="Group 13"/>
          <p:cNvGrpSpPr/>
          <p:nvPr/>
        </p:nvGrpSpPr>
        <p:grpSpPr>
          <a:xfrm>
            <a:off x="1219320" y="3733920"/>
            <a:ext cx="533160" cy="1142640"/>
            <a:chOff x="1219320" y="3733920"/>
            <a:chExt cx="533160" cy="1142640"/>
          </a:xfrm>
        </p:grpSpPr>
        <p:sp>
          <p:nvSpPr>
            <p:cNvPr id="638" name="WordArt 14"/>
            <p:cNvSpPr txBox="1"/>
            <p:nvPr/>
          </p:nvSpPr>
          <p:spPr>
            <a:xfrm>
              <a:off x="1263600" y="373392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5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39" name="WordArt 15"/>
            <p:cNvSpPr txBox="1"/>
            <p:nvPr/>
          </p:nvSpPr>
          <p:spPr>
            <a:xfrm>
              <a:off x="1219320" y="4275360"/>
              <a:ext cx="533160" cy="59760"/>
            </a:xfrm>
            <a:prstGeom prst="rect">
              <a:avLst/>
            </a:prstGeom>
          </p:spPr>
          <p:txBody>
            <a:bodyPr wrap="none" lIns="90000" rIns="90000" tIns="13320" bIns="13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40" name="WordArt 16"/>
            <p:cNvSpPr txBox="1"/>
            <p:nvPr/>
          </p:nvSpPr>
          <p:spPr>
            <a:xfrm>
              <a:off x="1219320" y="439560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5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41" name="Group 17"/>
          <p:cNvGrpSpPr/>
          <p:nvPr/>
        </p:nvGrpSpPr>
        <p:grpSpPr>
          <a:xfrm>
            <a:off x="1219320" y="5029200"/>
            <a:ext cx="533160" cy="1142640"/>
            <a:chOff x="1219320" y="5029200"/>
            <a:chExt cx="533160" cy="1142640"/>
          </a:xfrm>
        </p:grpSpPr>
        <p:sp>
          <p:nvSpPr>
            <p:cNvPr id="642" name="WordArt 18"/>
            <p:cNvSpPr txBox="1"/>
            <p:nvPr/>
          </p:nvSpPr>
          <p:spPr>
            <a:xfrm>
              <a:off x="1263600" y="502920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5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43" name="WordArt 19"/>
            <p:cNvSpPr txBox="1"/>
            <p:nvPr/>
          </p:nvSpPr>
          <p:spPr>
            <a:xfrm>
              <a:off x="1219320" y="5570640"/>
              <a:ext cx="533160" cy="59760"/>
            </a:xfrm>
            <a:prstGeom prst="rect">
              <a:avLst/>
            </a:prstGeom>
          </p:spPr>
          <p:txBody>
            <a:bodyPr wrap="none" lIns="90000" rIns="90000" tIns="13320" bIns="13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44" name="WordArt 20"/>
            <p:cNvSpPr txBox="1"/>
            <p:nvPr/>
          </p:nvSpPr>
          <p:spPr>
            <a:xfrm>
              <a:off x="1219320" y="569088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6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645" name="AutoShape 21"/>
          <p:cNvSpPr/>
          <p:nvPr/>
        </p:nvSpPr>
        <p:spPr>
          <a:xfrm>
            <a:off x="1981080" y="4267080"/>
            <a:ext cx="670572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270000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обь, в которой </a:t>
            </a:r>
            <a:r>
              <a:rPr b="1" i="1" lang="ru-RU" sz="2800" spc="-1" strike="noStrike">
                <a:solidFill>
                  <a:srgbClr val="ffcf01"/>
                </a:solidFill>
                <a:latin typeface="Arial"/>
                <a:ea typeface="Arial"/>
              </a:rPr>
              <a:t>числи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f01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cf01"/>
                </a:solidFill>
                <a:latin typeface="Arial"/>
                <a:ea typeface="Arial"/>
              </a:rPr>
              <a:t>больше знаменател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</a:t>
            </a:r>
            <a:r>
              <a:rPr b="1" i="1" lang="ru-RU" sz="2800" spc="-1" strike="noStrike">
                <a:solidFill>
                  <a:srgbClr val="ffcf01"/>
                </a:solidFill>
                <a:latin typeface="Arial"/>
                <a:ea typeface="Arial"/>
              </a:rPr>
              <a:t>неправильно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роб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6" name="Picture 22" descr="328c9191a0e5t"/>
          <p:cNvPicPr/>
          <p:nvPr/>
        </p:nvPicPr>
        <p:blipFill>
          <a:blip r:embed="rId1"/>
          <a:srcRect l="0" t="0" r="0" b="6351"/>
          <a:stretch/>
        </p:blipFill>
        <p:spPr>
          <a:xfrm>
            <a:off x="0" y="4267080"/>
            <a:ext cx="1143000" cy="259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428840" y="64260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сь числа ,содержащую целую и          дробную части, называю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СМЕШАНН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8" name="Object 2"/>
          <p:cNvGraphicFramePr/>
          <p:nvPr/>
        </p:nvGraphicFramePr>
        <p:xfrm>
          <a:off x="5500800" y="2286000"/>
          <a:ext cx="238284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0800" y="2286000"/>
                    <a:ext cx="23828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99800" y="285840"/>
            <a:ext cx="63500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ahoma"/>
              </a:rPr>
              <a:t>Смешанн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ое</a:t>
            </a:r>
            <a:r>
              <a:rPr b="1" lang="ru-RU" sz="4400" spc="-1" strike="noStrike">
                <a:solidFill>
                  <a:srgbClr val="006600"/>
                </a:solidFill>
                <a:latin typeface="Tahoma"/>
              </a:rPr>
              <a:t> чис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56760" y="1571400"/>
            <a:ext cx="84250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18"/>
              <p:cNvSpPr txBox="1"/>
              <p:nvPr/>
            </p:nvSpPr>
            <p:spPr>
              <a:xfrm>
                <a:off x="2714760" y="1857240"/>
                <a:ext cx="91728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Rectangle 8"/>
          <p:cNvSpPr/>
          <p:nvPr/>
        </p:nvSpPr>
        <p:spPr>
          <a:xfrm>
            <a:off x="4799520" y="2286000"/>
            <a:ext cx="355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Verdana"/>
              </a:rPr>
              <a:t>одна цела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Verdana"/>
              </a:rPr>
              <a:t>две третьи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Line 20"/>
          <p:cNvSpPr/>
          <p:nvPr/>
        </p:nvSpPr>
        <p:spPr>
          <a:xfrm flipH="1">
            <a:off x="1785600" y="3071880"/>
            <a:ext cx="785880" cy="865080"/>
          </a:xfrm>
          <a:prstGeom prst="line">
            <a:avLst/>
          </a:prstGeom>
          <a:ln w="1584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Line 20"/>
          <p:cNvSpPr/>
          <p:nvPr/>
        </p:nvSpPr>
        <p:spPr>
          <a:xfrm>
            <a:off x="3643200" y="3214800"/>
            <a:ext cx="594000" cy="1008000"/>
          </a:xfrm>
          <a:prstGeom prst="line">
            <a:avLst/>
          </a:prstGeom>
          <a:ln w="1584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25160" y="407196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целая ча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3950640" y="421488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дробная ча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875160" y="5286240"/>
            <a:ext cx="755388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270f"/>
                </a:solidFill>
                <a:latin typeface="Verdana"/>
              </a:rPr>
              <a:t>Числа состоящие из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целой</a:t>
            </a:r>
            <a:r>
              <a:rPr b="1" lang="ru-RU" sz="2400" spc="-1" strike="noStrike">
                <a:solidFill>
                  <a:srgbClr val="19270f"/>
                </a:solidFill>
                <a:latin typeface="Verdana"/>
              </a:rPr>
              <a:t> и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дробной</a:t>
            </a:r>
            <a:r>
              <a:rPr b="1" lang="ru-RU" sz="2400" spc="-1" strike="noStrike">
                <a:solidFill>
                  <a:srgbClr val="19270f"/>
                </a:solidFill>
                <a:latin typeface="Verdana"/>
              </a:rPr>
              <a:t> част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270f"/>
                </a:solidFill>
                <a:latin typeface="Verdana"/>
              </a:rPr>
              <a:t>называются </a:t>
            </a: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смешанными числ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Смешанные дроби."/>
          <p:cNvPicPr/>
          <p:nvPr/>
        </p:nvPicPr>
        <p:blipFill>
          <a:blip r:embed="rId1"/>
          <a:srcRect l="6303" t="5480" r="3286" b="12331"/>
          <a:stretch/>
        </p:blipFill>
        <p:spPr>
          <a:xfrm>
            <a:off x="1000080" y="571680"/>
            <a:ext cx="7929720" cy="5406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1500120" y="597960"/>
            <a:ext cx="67150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сно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иленкин Н.Я., Жохов В.И., Чесноков А.С., Шварцбурд С.И. Математика: Учебник для 5 класса общеобразовательных учреждений / Н.Я.Виленкин и др. - 34-е изд., стер.– М.: Мнемозина, 20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Допол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мпьтер, Интерн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"/>
          <p:cNvSpPr/>
          <p:nvPr/>
        </p:nvSpPr>
        <p:spPr>
          <a:xfrm>
            <a:off x="285840" y="836640"/>
            <a:ext cx="77864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Arial"/>
                <a:ea typeface="Times New Roman"/>
              </a:rPr>
              <a:t>Образовательная цел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Формировать понятие и  умение записывать десятичные дроб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Совершенствовать умение при замене обыкновенной дроби десятичн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Способствовать развитию математической речи, оперативной памяти, произвольного внимания, наглядно-действенного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 Уметь читать, записывать десятичные дроби;  развивать активность, находчивость при решении заданий; уметь общаться в коллективе и в паре, способствовать эмоциональному восприятию математических задач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Это интересно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25" name="Содержимое 8" descr="ancient-egypt-map.jpg"/>
          <p:cNvPicPr/>
          <p:nvPr/>
        </p:nvPicPr>
        <p:blipFill>
          <a:blip r:embed="rId1"/>
          <a:stretch/>
        </p:blipFill>
        <p:spPr>
          <a:xfrm>
            <a:off x="4643280" y="428760"/>
            <a:ext cx="3900600" cy="39369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71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Обыкновенные дроби вошли в математику очень давно: они были известны ещё в Древнем Египте примерно 3000 лет тому назад. Десятичные дроби появились значительно позднее: их впервые ввели в математику независимо друг от друга математик и астроном Аль-Каши (работал в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XV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веке в Улугбекской обсерватории близ Самарканда) и нидерландский математик и инженер Симон Стевин  в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XVI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век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357120" y="4508640"/>
            <a:ext cx="8391600" cy="2228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оссии впервые о десятичных дробях был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зано в русском учебнике  математики – «Арифметике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ницк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лькуляторах целая часть и дробная отделя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ой. Форма записи принята в США и некоторых дру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ах. У нас принято отделять целую часть от дробной запя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робные чис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29" name="Organization Chart 30"/>
          <p:cNvGrpSpPr/>
          <p:nvPr/>
        </p:nvGrpSpPr>
        <p:grpSpPr>
          <a:xfrm>
            <a:off x="431640" y="2328480"/>
            <a:ext cx="8208720" cy="3718080"/>
            <a:chOff x="431640" y="2328480"/>
            <a:chExt cx="8208720" cy="3718080"/>
          </a:xfrm>
        </p:grpSpPr>
        <p:cxnSp>
          <p:nvCxnSpPr>
            <p:cNvPr id="530" name="_s1028"/>
            <p:cNvCxnSpPr>
              <a:stCxn id="531" idx="3"/>
              <a:endCxn id="532" idx="2"/>
            </p:cNvCxnSpPr>
            <p:nvPr/>
          </p:nvCxnSpPr>
          <p:spPr>
            <a:xfrm flipV="1">
              <a:off x="4197600" y="3157920"/>
              <a:ext cx="340920" cy="226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3" name="_s1029"/>
            <p:cNvCxnSpPr>
              <a:stCxn id="534" idx="1"/>
              <a:endCxn id="532" idx="2"/>
            </p:cNvCxnSpPr>
            <p:nvPr/>
          </p:nvCxnSpPr>
          <p:spPr>
            <a:xfrm rot="10800000">
              <a:off x="4537440" y="3157920"/>
              <a:ext cx="33660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5" name="_s1030"/>
            <p:cNvCxnSpPr>
              <a:stCxn id="536" idx="3"/>
              <a:endCxn id="532" idx="2"/>
            </p:cNvCxnSpPr>
            <p:nvPr/>
          </p:nvCxnSpPr>
          <p:spPr>
            <a:xfrm flipV="1">
              <a:off x="4197600" y="3158280"/>
              <a:ext cx="34092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2" name="_s1031"/>
            <p:cNvSpPr/>
            <p:nvPr/>
          </p:nvSpPr>
          <p:spPr>
            <a:xfrm>
              <a:off x="842400" y="2328480"/>
              <a:ext cx="7389360" cy="829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3300"/>
                  </a:solidFill>
                  <a:latin typeface="Arial Black"/>
                </a:rPr>
                <a:t>Обыкновенные дроби          </a:t>
              </a: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buClr>
                  <a:srgbClr val="ff33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_s1032"/>
            <p:cNvSpPr/>
            <p:nvPr/>
          </p:nvSpPr>
          <p:spPr>
            <a:xfrm>
              <a:off x="431640" y="3350880"/>
              <a:ext cx="3766320" cy="125136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Правильные дроб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_s1033"/>
            <p:cNvSpPr/>
            <p:nvPr/>
          </p:nvSpPr>
          <p:spPr>
            <a:xfrm>
              <a:off x="4874400" y="3350880"/>
              <a:ext cx="3765960" cy="125136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Неправильные дроб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_s1034"/>
            <p:cNvSpPr/>
            <p:nvPr/>
          </p:nvSpPr>
          <p:spPr>
            <a:xfrm>
              <a:off x="431640" y="4794840"/>
              <a:ext cx="3766320" cy="12517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d951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 Black"/>
                </a:rPr>
                <a:t>Смешанные числ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7" name="Group 13"/>
          <p:cNvGrpSpPr/>
          <p:nvPr/>
        </p:nvGrpSpPr>
        <p:grpSpPr>
          <a:xfrm>
            <a:off x="5651640" y="4869000"/>
            <a:ext cx="2376360" cy="1511280"/>
            <a:chOff x="5651640" y="4869000"/>
            <a:chExt cx="2376360" cy="1511280"/>
          </a:xfrm>
        </p:grpSpPr>
        <p:sp>
          <p:nvSpPr>
            <p:cNvPr id="538" name="Pyr1"/>
            <p:cNvSpPr/>
            <p:nvPr/>
          </p:nvSpPr>
          <p:spPr>
            <a:xfrm>
              <a:off x="6576120" y="4869000"/>
              <a:ext cx="532440" cy="3348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Pyr2"/>
            <p:cNvSpPr/>
            <p:nvPr/>
          </p:nvSpPr>
          <p:spPr>
            <a:xfrm>
              <a:off x="6267960" y="5203800"/>
              <a:ext cx="1146600" cy="3927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Pyr3"/>
            <p:cNvSpPr/>
            <p:nvPr/>
          </p:nvSpPr>
          <p:spPr>
            <a:xfrm>
              <a:off x="5962680" y="5596920"/>
              <a:ext cx="1756800" cy="3924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Pyr4"/>
            <p:cNvSpPr/>
            <p:nvPr/>
          </p:nvSpPr>
          <p:spPr>
            <a:xfrm>
              <a:off x="5651640" y="5987520"/>
              <a:ext cx="2376360" cy="3927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1" descr="be3597015f56t"/>
          <p:cNvPicPr/>
          <p:nvPr/>
        </p:nvPicPr>
        <p:blipFill>
          <a:blip r:embed="rId1"/>
          <a:srcRect l="-4378" t="0" r="0" b="6234"/>
          <a:stretch/>
        </p:blipFill>
        <p:spPr>
          <a:xfrm>
            <a:off x="7467480" y="990720"/>
            <a:ext cx="1478160" cy="2590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3" descr="be3597015f56t"/>
          <p:cNvPicPr/>
          <p:nvPr/>
        </p:nvPicPr>
        <p:blipFill>
          <a:blip r:embed="rId2"/>
          <a:srcRect l="0" t="0" r="-4378" b="6234"/>
          <a:stretch/>
        </p:blipFill>
        <p:spPr>
          <a:xfrm>
            <a:off x="228600" y="3962520"/>
            <a:ext cx="1523880" cy="2590560"/>
          </a:xfrm>
          <a:prstGeom prst="rect">
            <a:avLst/>
          </a:prstGeom>
          <a:ln w="0">
            <a:noFill/>
          </a:ln>
        </p:spPr>
      </p:pic>
      <p:sp>
        <p:nvSpPr>
          <p:cNvPr id="544" name="WordArt 10"/>
          <p:cNvSpPr txBox="1"/>
          <p:nvPr/>
        </p:nvSpPr>
        <p:spPr>
          <a:xfrm>
            <a:off x="1676520" y="152280"/>
            <a:ext cx="5715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ыкновенные дроби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45" name="Group 34"/>
          <p:cNvGrpSpPr/>
          <p:nvPr/>
        </p:nvGrpSpPr>
        <p:grpSpPr>
          <a:xfrm>
            <a:off x="1502280" y="1142640"/>
            <a:ext cx="6437520" cy="5410080"/>
            <a:chOff x="1502280" y="1142640"/>
            <a:chExt cx="6437520" cy="5410080"/>
          </a:xfrm>
        </p:grpSpPr>
        <p:grpSp>
          <p:nvGrpSpPr>
            <p:cNvPr id="546" name="Group 12"/>
            <p:cNvGrpSpPr/>
            <p:nvPr/>
          </p:nvGrpSpPr>
          <p:grpSpPr>
            <a:xfrm>
              <a:off x="1676160" y="1142640"/>
              <a:ext cx="5597280" cy="5231880"/>
              <a:chOff x="1676160" y="1142640"/>
              <a:chExt cx="5597280" cy="5231880"/>
            </a:xfrm>
          </p:grpSpPr>
          <p:sp>
            <p:nvSpPr>
              <p:cNvPr id="547" name="PubPieSlice"/>
              <p:cNvSpPr/>
              <p:nvPr/>
            </p:nvSpPr>
            <p:spPr>
              <a:xfrm rot="10800000">
                <a:off x="1676160" y="1142280"/>
                <a:ext cx="5597280" cy="52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8" name="Text Box 11">
                <a:hlinkClick r:id="" action="ppaction://hlinkshowjump?jump=nextslide"/>
              </p:cNvPr>
              <p:cNvSpPr/>
              <p:nvPr/>
            </p:nvSpPr>
            <p:spPr>
              <a:xfrm>
                <a:off x="3800160" y="1692360"/>
                <a:ext cx="120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Доли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9" name="Group 21"/>
            <p:cNvGrpSpPr/>
            <p:nvPr/>
          </p:nvGrpSpPr>
          <p:grpSpPr>
            <a:xfrm>
              <a:off x="1752120" y="1294920"/>
              <a:ext cx="5714280" cy="5079960"/>
              <a:chOff x="1752120" y="1294920"/>
              <a:chExt cx="5714280" cy="5079960"/>
            </a:xfrm>
          </p:grpSpPr>
          <p:sp>
            <p:nvSpPr>
              <p:cNvPr id="550" name="PubPieSlice">
                <a:hlinkClick r:id="rId4" action="ppaction://hlinksldjump"/>
              </p:cNvPr>
              <p:cNvSpPr/>
              <p:nvPr/>
            </p:nvSpPr>
            <p:spPr>
              <a:xfrm rot="10800000">
                <a:off x="1752120" y="1294560"/>
                <a:ext cx="5714280" cy="507996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1" name="Text Box 13"/>
              <p:cNvSpPr/>
              <p:nvPr/>
            </p:nvSpPr>
            <p:spPr>
              <a:xfrm>
                <a:off x="4974840" y="2590920"/>
                <a:ext cx="232344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Дроби.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Чтение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и запись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       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2" name="Group 22"/>
            <p:cNvGrpSpPr/>
            <p:nvPr/>
          </p:nvGrpSpPr>
          <p:grpSpPr>
            <a:xfrm>
              <a:off x="1523520" y="1371240"/>
              <a:ext cx="6416280" cy="5181480"/>
              <a:chOff x="1523520" y="1371240"/>
              <a:chExt cx="6416280" cy="5181480"/>
            </a:xfrm>
          </p:grpSpPr>
          <p:sp>
            <p:nvSpPr>
              <p:cNvPr id="553" name="PubPieSlice"/>
              <p:cNvSpPr/>
              <p:nvPr/>
            </p:nvSpPr>
            <p:spPr>
              <a:xfrm rot="10800000">
                <a:off x="1523520" y="1370880"/>
                <a:ext cx="5943240" cy="518148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4" name="Text Box 15"/>
              <p:cNvSpPr/>
              <p:nvPr/>
            </p:nvSpPr>
            <p:spPr>
              <a:xfrm>
                <a:off x="4441320" y="4419720"/>
                <a:ext cx="349848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Правильные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и неправильные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дроби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5" name="Group 19"/>
            <p:cNvGrpSpPr/>
            <p:nvPr/>
          </p:nvGrpSpPr>
          <p:grpSpPr>
            <a:xfrm>
              <a:off x="1523880" y="1447560"/>
              <a:ext cx="5598720" cy="5079960"/>
              <a:chOff x="1523880" y="1447560"/>
              <a:chExt cx="5598720" cy="5079960"/>
            </a:xfrm>
          </p:grpSpPr>
          <p:sp>
            <p:nvSpPr>
              <p:cNvPr id="556" name="PubPieSlice"/>
              <p:cNvSpPr/>
              <p:nvPr/>
            </p:nvSpPr>
            <p:spPr>
              <a:xfrm rot="10800000">
                <a:off x="1523880" y="1447200"/>
                <a:ext cx="5598720" cy="507996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7" name="Text Box 16"/>
              <p:cNvSpPr/>
              <p:nvPr/>
            </p:nvSpPr>
            <p:spPr>
              <a:xfrm>
                <a:off x="1821960" y="4775400"/>
                <a:ext cx="26665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Сравнение дробей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8" name="Group 18"/>
            <p:cNvGrpSpPr/>
            <p:nvPr/>
          </p:nvGrpSpPr>
          <p:grpSpPr>
            <a:xfrm>
              <a:off x="1502280" y="1294920"/>
              <a:ext cx="5677200" cy="5079960"/>
              <a:chOff x="1502280" y="1294920"/>
              <a:chExt cx="5677200" cy="5079960"/>
            </a:xfrm>
          </p:grpSpPr>
          <p:sp>
            <p:nvSpPr>
              <p:cNvPr id="559" name="PubPieSlice"/>
              <p:cNvSpPr/>
              <p:nvPr/>
            </p:nvSpPr>
            <p:spPr>
              <a:xfrm rot="10800000">
                <a:off x="1505520" y="1294560"/>
                <a:ext cx="5673960" cy="507996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1502280" y="2658960"/>
                <a:ext cx="223524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Основное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свойство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дробей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1" name="Freeform 26">
            <a:hlinkClick r:id="rId9" action="ppaction://hlinksldjump"/>
          </p:cNvPr>
          <p:cNvSpPr/>
          <p:nvPr/>
        </p:nvSpPr>
        <p:spPr>
          <a:xfrm>
            <a:off x="1447920" y="1905120"/>
            <a:ext cx="2867040" cy="278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Freeform 27">
            <a:hlinkClick r:id="rId10" action="ppaction://hlinksldjump"/>
          </p:cNvPr>
          <p:cNvSpPr/>
          <p:nvPr/>
        </p:nvSpPr>
        <p:spPr>
          <a:xfrm>
            <a:off x="1676520" y="3962520"/>
            <a:ext cx="2668320" cy="258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Freeform 28">
            <a:hlinkClick r:id="rId11" action="ppaction://hlinksldjump"/>
          </p:cNvPr>
          <p:cNvSpPr/>
          <p:nvPr/>
        </p:nvSpPr>
        <p:spPr>
          <a:xfrm>
            <a:off x="4495680" y="3962520"/>
            <a:ext cx="2862360" cy="252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29">
            <a:hlinkClick r:id="rId12" action="ppaction://hlinksldjump"/>
          </p:cNvPr>
          <p:cNvSpPr/>
          <p:nvPr/>
        </p:nvSpPr>
        <p:spPr>
          <a:xfrm>
            <a:off x="4648320" y="1828800"/>
            <a:ext cx="2805120" cy="2743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Freeform 30">
            <a:hlinkClick r:id="" action="ppaction://hlinkshowjump?jump=nextslide"/>
          </p:cNvPr>
          <p:cNvSpPr/>
          <p:nvPr/>
        </p:nvSpPr>
        <p:spPr>
          <a:xfrm>
            <a:off x="2743200" y="1219320"/>
            <a:ext cx="3483000" cy="250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28520" y="35712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Обыкновенная дробь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Записи вида       называ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обыкновенными дробями</a:t>
            </a: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Числитель дроб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Черта дроби (дробная черт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Знаменатель дроб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214800" y="2214720"/>
            <a:ext cx="350640" cy="819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2"/>
          <a:stretch/>
        </p:blipFill>
        <p:spPr>
          <a:xfrm>
            <a:off x="8001000" y="3786120"/>
            <a:ext cx="590400" cy="1467000"/>
          </a:xfrm>
          <a:prstGeom prst="rect">
            <a:avLst/>
          </a:prstGeom>
          <a:ln w="0">
            <a:noFill/>
          </a:ln>
        </p:spPr>
      </p:pic>
      <p:sp>
        <p:nvSpPr>
          <p:cNvPr id="570" name="Line 13"/>
          <p:cNvSpPr/>
          <p:nvPr/>
        </p:nvSpPr>
        <p:spPr>
          <a:xfrm flipV="1">
            <a:off x="4214880" y="4214520"/>
            <a:ext cx="3429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Line 14"/>
          <p:cNvSpPr/>
          <p:nvPr/>
        </p:nvSpPr>
        <p:spPr>
          <a:xfrm flipV="1">
            <a:off x="6357960" y="4643280"/>
            <a:ext cx="135720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15"/>
          <p:cNvSpPr/>
          <p:nvPr/>
        </p:nvSpPr>
        <p:spPr>
          <a:xfrm flipV="1">
            <a:off x="4500720" y="5357880"/>
            <a:ext cx="3143160" cy="40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65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99760" y="35712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Обыкновенные дроб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Каждый может за верст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Видеть дробную черт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Над  чертой – 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числитель</a:t>
            </a: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, знайт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Под чертою – 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знаменател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Дробь такую, непременн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Надо звать 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обыкновенной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6643800" y="4643280"/>
            <a:ext cx="419040" cy="1114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"/>
          <p:cNvPicPr/>
          <p:nvPr/>
        </p:nvPicPr>
        <p:blipFill>
          <a:blip r:embed="rId2"/>
          <a:stretch/>
        </p:blipFill>
        <p:spPr>
          <a:xfrm>
            <a:off x="7429680" y="2643120"/>
            <a:ext cx="788760" cy="1542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1213920" y="785880"/>
            <a:ext cx="7696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чтении дробей надо помнить: числитель дроби – количественное числительное женского рода (одна, две, восемь и т.д.), а знаменатель – порядковое числительное (седьмая, сотая, двести тридцатая и т.д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имер:       - одна пятая;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две шесты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восемьдесят три с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ятьдесят втор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tretch/>
        </p:blipFill>
        <p:spPr>
          <a:xfrm>
            <a:off x="3500280" y="3786120"/>
            <a:ext cx="343080" cy="733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2"/>
          <a:stretch/>
        </p:blipFill>
        <p:spPr>
          <a:xfrm>
            <a:off x="1285920" y="4429080"/>
            <a:ext cx="314280" cy="695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"/>
          <p:cNvPicPr/>
          <p:nvPr/>
        </p:nvPicPr>
        <p:blipFill>
          <a:blip r:embed="rId3"/>
          <a:stretch/>
        </p:blipFill>
        <p:spPr>
          <a:xfrm>
            <a:off x="1928880" y="5357880"/>
            <a:ext cx="600120" cy="743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5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7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6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28440" y="2214720"/>
            <a:ext cx="764388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Что показывают числитель  и  знаменатель дроби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680" y="4071960"/>
            <a:ext cx="7696080" cy="16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менатель показывает, на сколько долей делят, а числитель – сколько таких долей взят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07:13:55Z</dcterms:created>
  <dc:creator>Андрей</dc:creator>
  <dc:description/>
  <dc:language>en-US</dc:language>
  <cp:lastModifiedBy>User</cp:lastModifiedBy>
  <dcterms:modified xsi:type="dcterms:W3CDTF">2020-04-11T18:30:11Z</dcterms:modified>
  <cp:revision>46</cp:revision>
  <dc:subject/>
  <dc:title>5 класс</dc:title>
</cp:coreProperties>
</file>