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815-C297-438B-9DD0-E78E2A1C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170-427B-4131-81D1-C7C5CFC3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71B-7E44-4EDA-853B-29106841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031-7733-43B7-B4BF-B05E6264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A3B-DF25-4FE1-A6F6-625DB002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6D1-2EB0-4BD0-AC61-A4CA0363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554-6354-4259-90CF-CD56A81D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FFE-254C-4A21-B59C-C45BFCCF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F01-A63C-4916-ABE1-1620359A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4D7-A7C5-4359-8286-1B36ADB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F08-4C5A-4FEB-8758-44E796B7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169-14B0-4C36-9F7F-89F11B5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A081-BC5C-478E-B97F-CE4CBC7259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тешествие по Афр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6381720"/>
            <a:ext cx="543564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читель: Лазарева  Анастасия Рамил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ерите верные утверж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68000" y="1484280"/>
            <a:ext cx="68756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Евразия включает 2 части св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Материк омывается водами всех океанов Зем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Евразия соединяется с материком Северная Амер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Евразия- самый жаркий матери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) Здесь находятся самые высокие в мире гор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) На материке расположено самое большое государство ми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ановите соответствие между частью света и географическим объ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7120" y="1357200"/>
          <a:ext cx="8501040" cy="5214960"/>
        </p:xfrm>
        <a:graphic>
          <a:graphicData uri="http://schemas.openxmlformats.org/drawingml/2006/table">
            <a:tbl>
              <a:tblPr/>
              <a:tblGrid>
                <a:gridCol w="4251240"/>
                <a:gridCol w="424980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ь с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ческий 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) Озеро Байк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) Горы Аль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) Ладожское 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) Горы Гимала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) Река Вол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) Река Аму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авийский полуост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) Восточно- Европейская 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) Река Дун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) Река Ган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3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олните таблицу «Рекордсмены Евраз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387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112320" rIns="112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2320" rIns="112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объ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ые высокие г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очно- Европейская рав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е большое по площади оз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йк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е холодное мес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апунд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е большое по площади государ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12320" rIns="112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материка Аф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4720" y="160020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фрика- самый жаркий материк ми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- второй по величине материк (площадь 30 млн.кв.км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раница между Африкой и Евразией проходит по Суэцкому канал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ngl2006.narod.ru/Contents/Geo/Geo-kart/KOMCHS/Pictures/06.jpg"/>
          <p:cNvPicPr/>
          <p:nvPr/>
        </p:nvPicPr>
        <p:blipFill>
          <a:blip r:embed="rId1"/>
          <a:stretch/>
        </p:blipFill>
        <p:spPr>
          <a:xfrm>
            <a:off x="142920" y="1066680"/>
            <a:ext cx="392904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40000" y="188640"/>
            <a:ext cx="48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ем с контурной карт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4720" y="1628640"/>
            <a:ext cx="4680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эцкий кан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хара- величайшая пустыня мира (8,6 млн.кв.к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ngl2006.narod.ru/Contents/Geo/Geo-kart/KOMCHS/Pictures/06.jpg"/>
          <p:cNvPicPr/>
          <p:nvPr/>
        </p:nvPicPr>
        <p:blipFill>
          <a:blip r:embed="rId1"/>
          <a:stretch/>
        </p:blipFill>
        <p:spPr>
          <a:xfrm>
            <a:off x="142920" y="765000"/>
            <a:ext cx="4141800" cy="5905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854800" y="1811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1766520" y="22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&amp;Pcy;&amp;ucy;&amp;scy;&amp;tcy;&amp;ycy;&amp;ncy;&amp;yacy; &amp;Scy;&amp;acy;&amp;khcy;&amp;acy;&amp;rcy;&amp;acy; &amp;fcy;&amp;ocy;&amp;tcy;&amp;ocy;"/>
          <p:cNvPicPr/>
          <p:nvPr/>
        </p:nvPicPr>
        <p:blipFill>
          <a:blip r:embed="rId2"/>
          <a:stretch/>
        </p:blipFill>
        <p:spPr>
          <a:xfrm>
            <a:off x="4519440" y="3718080"/>
            <a:ext cx="43005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4720" y="188640"/>
            <a:ext cx="48592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Килиманджаро- самая высокая гора (вулкан) Африки- 5642 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Нил- самая длинная река мира (более 6000м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ngl2006.narod.ru/Contents/Geo/Geo-kart/KOMCHS/Pictures/06.jpg"/>
          <p:cNvPicPr/>
          <p:nvPr/>
        </p:nvPicPr>
        <p:blipFill>
          <a:blip r:embed="rId1"/>
          <a:stretch/>
        </p:blipFill>
        <p:spPr>
          <a:xfrm>
            <a:off x="142920" y="765000"/>
            <a:ext cx="4141800" cy="5905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042360" y="351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tury.ru/img.php?hid=106436&amp;pid=413216&amp;v=n"/>
          <p:cNvPicPr/>
          <p:nvPr/>
        </p:nvPicPr>
        <p:blipFill>
          <a:blip r:embed="rId2"/>
          <a:stretch/>
        </p:blipFill>
        <p:spPr>
          <a:xfrm>
            <a:off x="4500720" y="1628640"/>
            <a:ext cx="446400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egypt.well.ru/uploads/posts/2010-11/1289815243_nil.jpg"/>
          <p:cNvPicPr/>
          <p:nvPr/>
        </p:nvPicPr>
        <p:blipFill>
          <a:blip r:embed="rId3"/>
          <a:stretch/>
        </p:blipFill>
        <p:spPr>
          <a:xfrm>
            <a:off x="4500720" y="5013360"/>
            <a:ext cx="4464000" cy="1844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918520" y="2421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284720" y="115560"/>
            <a:ext cx="48592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5. Виктория- крупнейшее озеро Афр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6.Танганьика- самое глубокое озеро Афр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ngl2006.narod.ru/Contents/Geo/Geo-kart/KOMCHS/Pictures/06.jpg"/>
          <p:cNvPicPr/>
          <p:nvPr/>
        </p:nvPicPr>
        <p:blipFill>
          <a:blip r:embed="rId1"/>
          <a:stretch/>
        </p:blipFill>
        <p:spPr>
          <a:xfrm>
            <a:off x="142920" y="765000"/>
            <a:ext cx="4141800" cy="590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img.nk-time.com/uploads/2011-04-12/3372-47.jpg"/>
          <p:cNvPicPr/>
          <p:nvPr/>
        </p:nvPicPr>
        <p:blipFill>
          <a:blip r:embed="rId2"/>
          <a:stretch/>
        </p:blipFill>
        <p:spPr>
          <a:xfrm>
            <a:off x="4427640" y="1125360"/>
            <a:ext cx="4537080" cy="2318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962800" y="357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799360" y="379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www.infoniac.ru/upload/medialibrary/2ec/2ec823d2f265d71afc928e81b77bb2a9.jpg"/>
          <p:cNvPicPr/>
          <p:nvPr/>
        </p:nvPicPr>
        <p:blipFill>
          <a:blip r:embed="rId3"/>
          <a:stretch/>
        </p:blipFill>
        <p:spPr>
          <a:xfrm>
            <a:off x="4454640" y="4352760"/>
            <a:ext cx="451008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57280" y="285480"/>
            <a:ext cx="67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4720" y="1600200"/>
            <a:ext cx="48592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«Оазис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«Саванн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mg.dailymail.co.uk/i/pix/2007/05_01/Sand_468x320.jpg"/>
          <p:cNvPicPr/>
          <p:nvPr/>
        </p:nvPicPr>
        <p:blipFill>
          <a:blip r:embed="rId1"/>
          <a:stretch/>
        </p:blipFill>
        <p:spPr>
          <a:xfrm>
            <a:off x="179280" y="1511280"/>
            <a:ext cx="3892680" cy="266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im3-tub-ru.yandex.net/i?id=457213705-24-72&amp;n=21"/>
          <p:cNvPicPr/>
          <p:nvPr/>
        </p:nvPicPr>
        <p:blipFill>
          <a:blip r:embed="rId2"/>
          <a:stretch/>
        </p:blipFill>
        <p:spPr>
          <a:xfrm>
            <a:off x="0" y="4000680"/>
            <a:ext cx="3780000" cy="252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im3-tub-ru.yandex.net/i?id=299115343-52-72&amp;n=21"/>
          <p:cNvPicPr/>
          <p:nvPr/>
        </p:nvPicPr>
        <p:blipFill>
          <a:blip r:embed="rId3"/>
          <a:stretch/>
        </p:blipFill>
        <p:spPr>
          <a:xfrm>
            <a:off x="4284720" y="2744640"/>
            <a:ext cx="471816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im4-tub-ru.yandex.net/i?id=145012596-28-72&amp;n=21"/>
          <p:cNvPicPr/>
          <p:nvPr/>
        </p:nvPicPr>
        <p:blipFill>
          <a:blip r:embed="rId4"/>
          <a:stretch/>
        </p:blipFill>
        <p:spPr>
          <a:xfrm>
            <a:off x="4284720" y="4797360"/>
            <a:ext cx="317664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im6-tub-ru.yandex.net/i?id=306366119-60-72&amp;n=21"/>
          <p:cNvPicPr/>
          <p:nvPr/>
        </p:nvPicPr>
        <p:blipFill>
          <a:blip r:embed="rId5"/>
          <a:stretch/>
        </p:blipFill>
        <p:spPr>
          <a:xfrm>
            <a:off x="179280" y="500040"/>
            <a:ext cx="203832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6:51:02Z</dcterms:created>
  <dc:creator>Михалыч</dc:creator>
  <dc:description/>
  <dc:language>en-US</dc:language>
  <cp:lastModifiedBy>iRU</cp:lastModifiedBy>
  <dcterms:modified xsi:type="dcterms:W3CDTF">2020-04-12T15:09:40Z</dcterms:modified>
  <cp:revision>11</cp:revision>
  <dc:subject/>
  <dc:title>Путешествие по Африке</dc:title>
</cp:coreProperties>
</file>