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B76-4255-4150-826B-32C92BD4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834-78DA-45AC-B05B-F877759F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641-88FC-42C6-AA15-221FAFA0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2B9-019D-4305-993D-A3DBF716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43D-85A0-4BE6-BFF9-7006E70A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CCB-09F1-4481-8651-8A433B34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588-F82B-4621-8A92-40FFE80D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635-A211-4B6F-9414-BB4FC32E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D76-D744-49CB-9F4D-4908A505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985-72D5-43AD-AC5C-B11834F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258-DE2D-43C3-9A1F-560D009F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EF8-FE11-41A1-A317-A8ED882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F9C2-944F-468E-ACA8-E05CC9712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тешествие п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верной Амер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верная и Южная Аме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121932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 материка: Северная Америка и Южная Америка составляют одну часть света- Америк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еверная Америка- третий по площади материк мира (24 млн.кв.вм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Южная Америка- четвертый по площади материк мира (18 млн.кв.км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 материка разделены Панамским каналом (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Географ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903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7315200" y="594360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верная Аме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464832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амая длинная горная цепь в мире (длина более 9 тысяч км.)- Кордиль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Южной Америке эти горы называют Ан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амые старые горы Северной Америки- Аппал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Горы Кордильеры (сл"/>
          <p:cNvPicPr/>
          <p:nvPr/>
        </p:nvPicPr>
        <p:blipFill>
          <a:blip r:embed="rId1"/>
          <a:stretch/>
        </p:blipFill>
        <p:spPr>
          <a:xfrm>
            <a:off x="5105520" y="3249720"/>
            <a:ext cx="4038480" cy="3608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Рельеф Северной Америки"/>
          <p:cNvPicPr/>
          <p:nvPr/>
        </p:nvPicPr>
        <p:blipFill>
          <a:blip r:embed="rId2"/>
          <a:stretch/>
        </p:blipFill>
        <p:spPr>
          <a:xfrm>
            <a:off x="5292720" y="228600"/>
            <a:ext cx="3851280" cy="285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Каньон Колорадо (сл"/>
          <p:cNvPicPr/>
          <p:nvPr/>
        </p:nvPicPr>
        <p:blipFill>
          <a:blip r:embed="rId3"/>
          <a:stretch/>
        </p:blipFill>
        <p:spPr>
          <a:xfrm>
            <a:off x="0" y="4952880"/>
            <a:ext cx="480060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6640560" y="1828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7478640" y="16765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886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еверная Амер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144756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Самая большая система озер мира- Великие Озе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5. Самый известный водопад Северной Америки- Ниагарск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Назовите самую большую реку Северной Амер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Внутренние воды Северной Америки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4013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6792840" y="1828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Озера Северной Америки"/>
          <p:cNvPicPr/>
          <p:nvPr/>
        </p:nvPicPr>
        <p:blipFill>
          <a:blip r:embed="rId2"/>
          <a:stretch/>
        </p:blipFill>
        <p:spPr>
          <a:xfrm>
            <a:off x="3773520" y="3352680"/>
            <a:ext cx="537048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7021440" y="1981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Озеро Верхнее"/>
          <p:cNvPicPr/>
          <p:nvPr/>
        </p:nvPicPr>
        <p:blipFill>
          <a:blip r:embed="rId1"/>
          <a:stretch/>
        </p:blipFill>
        <p:spPr>
          <a:xfrm>
            <a:off x="380880" y="380880"/>
            <a:ext cx="4267440" cy="266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Озеро Мичиган"/>
          <p:cNvPicPr/>
          <p:nvPr/>
        </p:nvPicPr>
        <p:blipFill>
          <a:blip r:embed="rId2"/>
          <a:stretch/>
        </p:blipFill>
        <p:spPr>
          <a:xfrm>
            <a:off x="5105520" y="380880"/>
            <a:ext cx="3504960" cy="271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90720" y="2971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еро Верх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867280" y="3124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еро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Озеро Онтарио"/>
          <p:cNvPicPr/>
          <p:nvPr/>
        </p:nvPicPr>
        <p:blipFill>
          <a:blip r:embed="rId3"/>
          <a:stretch/>
        </p:blipFill>
        <p:spPr>
          <a:xfrm>
            <a:off x="304920" y="3581280"/>
            <a:ext cx="457200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13716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еро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8"/>
          <p:cNvGraphicFramePr/>
          <p:nvPr/>
        </p:nvGraphicFramePr>
        <p:xfrm>
          <a:off x="5105520" y="3581280"/>
          <a:ext cx="3581280" cy="25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581280"/>
                    <a:ext cx="3581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9"/>
          <p:cNvSpPr/>
          <p:nvPr/>
        </p:nvSpPr>
        <p:spPr>
          <a:xfrm>
            <a:off x="5562720" y="6316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587200" y="609588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агарский водоп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дивительная Аме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18960"/>
            <a:ext cx="72388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книгу выпишите наиболее интересных представителей растительного и животного мира Америки. Укажите, чем они знамени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ДОМАШНЕЕ ЗАДАНИЕ: параграфы №23, 24; оформите контурную карту; в тетради перечислите крупнейшие государства Америки, найдите их на карте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08:18:06Z</dcterms:created>
  <dc:creator>МОУСОШ № 70</dc:creator>
  <dc:description/>
  <dc:language>en-US</dc:language>
  <cp:lastModifiedBy>iRU</cp:lastModifiedBy>
  <dcterms:modified xsi:type="dcterms:W3CDTF">2020-04-12T15:43:20Z</dcterms:modified>
  <cp:revision>5</cp:revision>
  <dc:subject/>
  <dc:title>Путешествие по Америке</dc:title>
</cp:coreProperties>
</file>