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403-D2BB-493A-86FE-A0033A85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93E-8BA4-4ACC-BC7A-074B54E4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D3E-B154-4918-A992-130EA493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097-EEA0-40B2-BFC7-0DF5C30C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1B0E-B5A1-4558-BBD6-B6AE39C9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5C36-63D4-42E8-91EA-8378698C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2154-8634-4345-8120-3BE7CCA0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56A5-B89B-42EC-847A-76FD4217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3C19-D72D-41C5-A168-1784FE1E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0552-A0BF-4F06-9A79-26E36FE9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208E-AC13-4C00-A2D5-8B80FC8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354-2857-49CC-8032-D0197157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F10-9B6E-46F3-B36B-7976718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8B1F-F56F-4EEE-84C3-F036AC8A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7710-1662-452B-B9FD-32670031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C570-ED42-4F84-92C9-38A4AB91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95B8-DF98-4616-AF6E-E680BC3C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5A8C8-99F7-4FC9-9D3A-EF364EE5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A345-DACE-416C-8A01-C7A2B1CD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8413-1924-404F-8A6E-A9E5F4C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3C8B-672B-4593-A0CD-C805714D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1A97-7775-4A5C-92D3-79FDBC15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3FF-EA54-4417-B5CA-00C88707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D41E0-B209-44CE-95B4-09E68115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8AA0-C634-4082-A9F3-9AA66029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C762-E9EA-460E-BAFE-0215C64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E2B9-DAFA-4655-B815-0B7D0610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1850-25E8-49BC-BC73-C59514F9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084B-2C11-447C-889C-8F4768F6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1DDE-A6B4-4F92-8527-25D58751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67411-EFA7-4D3F-BBFC-3CDF5FAD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EA911-261D-4803-A646-271574A8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E4C8-ECF1-4CE8-BA5C-06E272B2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80B-CB23-4434-B201-602B138E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2FB1-D441-4776-84CC-808E2632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31F6-CFF4-4A5B-B180-066ED9E1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4105-7537-4A24-97A7-181C8661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E458-54C3-4225-A451-4472BD4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98DF-4054-471C-A183-53D68BC4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5B81-C0BA-4E08-BE94-9819903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9C00-9984-4F9A-8F83-122D5025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776D-5D6C-42C3-9FC1-F78DA5D5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55103-A6E6-4BC8-B75C-3729F211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D93-597A-40CA-94F6-C9E03C71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265-4E19-4D1E-AA27-0AC12C62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A13-8C56-49D4-8178-DE8EC19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A7E-F118-42FE-9627-5E259A4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77B-0A30-4827-BD7E-ADC6D17E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935-27EC-4C56-8372-15EC44A46987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689D-B002-44F4-A292-30D6437BB9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6AE3-9B3C-436D-8378-AF74926514EA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6B0B-933E-4208-AF91-FE1424188BA9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212480"/>
            <a:ext cx="7475760" cy="29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5100"/>
            </a:br>
            <a:endParaRPr b="0" lang="en-US" sz="5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Артикуляционная гимнастика</a:t>
            </a:r>
            <a:endParaRPr b="0" lang="en-US" sz="54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725040" y="596880"/>
            <a:ext cx="77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СКИЙ САД КОМБИНИРОВАННОГО ВИДА №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Лошадка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ыбнись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риоткрой ро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Цокай медленно кончиком языка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леди, чтобы нижняя челюсть и губы не двигались, а работал только язык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3" name="Picture 7" descr="8190EF6E"/>
          <p:cNvPicPr/>
          <p:nvPr/>
        </p:nvPicPr>
        <p:blipFill>
          <a:blip r:embed="rId1"/>
          <a:srcRect l="11615" t="20483" r="10078" b="8357"/>
          <a:stretch/>
        </p:blipFill>
        <p:spPr>
          <a:xfrm>
            <a:off x="4495680" y="3276720"/>
            <a:ext cx="2724120" cy="327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0E2FDAC"/>
          <p:cNvPicPr/>
          <p:nvPr/>
        </p:nvPicPr>
        <p:blipFill>
          <a:blip r:embed="rId2"/>
          <a:srcRect l="7797" t="88" r="5409" b="6564"/>
          <a:stretch/>
        </p:blipFill>
        <p:spPr>
          <a:xfrm>
            <a:off x="5618160" y="419040"/>
            <a:ext cx="3068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Маляр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Води кончиком языка, как кисточкой, по нёбу вперёд-назад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7" name="Picture 7" descr="FABCAC9A"/>
          <p:cNvPicPr/>
          <p:nvPr/>
        </p:nvPicPr>
        <p:blipFill>
          <a:blip r:embed="rId1"/>
          <a:srcRect l="21582" t="14042" r="12003" b="6657"/>
          <a:stretch/>
        </p:blipFill>
        <p:spPr>
          <a:xfrm>
            <a:off x="2209680" y="3048120"/>
            <a:ext cx="3067200" cy="3467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EC5EAFB8"/>
          <p:cNvPicPr/>
          <p:nvPr/>
        </p:nvPicPr>
        <p:blipFill>
          <a:blip r:embed="rId2"/>
          <a:srcRect l="18165" t="4106" r="5203" b="1392"/>
          <a:stretch/>
        </p:blipFill>
        <p:spPr>
          <a:xfrm>
            <a:off x="5451480" y="609480"/>
            <a:ext cx="3154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Барабанщик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Улыбнись. Открой рот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стучи кончиком языка за верхними зубами, отчётливо произнося твёрдый звук Д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Делай удары медленно, следи, чтобы нижняя челюсть не двигалась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11" name="Picture 8" descr="8190EF6E"/>
          <p:cNvPicPr/>
          <p:nvPr/>
        </p:nvPicPr>
        <p:blipFill>
          <a:blip r:embed="rId1"/>
          <a:srcRect l="11615" t="20483" r="10078" b="1735"/>
          <a:stretch/>
        </p:blipFill>
        <p:spPr>
          <a:xfrm>
            <a:off x="4267080" y="3200400"/>
            <a:ext cx="2667240" cy="3381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C032BA60"/>
          <p:cNvPicPr/>
          <p:nvPr/>
        </p:nvPicPr>
        <p:blipFill>
          <a:blip r:embed="rId2"/>
          <a:srcRect l="13702" t="106" r="23973" b="8434"/>
          <a:stretch/>
        </p:blipFill>
        <p:spPr>
          <a:xfrm>
            <a:off x="6553080" y="380880"/>
            <a:ext cx="20480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Забей мяч в ворота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Возьми поролоновый мячик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ложи перед футбольными воротами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Забивай гол плавной струёй воздуха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Теперь забивай гол резкой, отрывистой струёй воздуха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a6b727"/>
                </a:solidFill>
                <a:latin typeface="Corbel"/>
              </a:rPr>
              <a:t>Посчитай, сколько голов ты забил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75" name="Picture 5" descr="77CC57C0"/>
          <p:cNvPicPr/>
          <p:nvPr/>
        </p:nvPicPr>
        <p:blipFill>
          <a:blip r:embed="rId1"/>
          <a:srcRect l="0" t="0" r="0" b="4952"/>
          <a:stretch/>
        </p:blipFill>
        <p:spPr>
          <a:xfrm>
            <a:off x="4648320" y="2057400"/>
            <a:ext cx="416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59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Лопаточка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728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ыбнись. Приоткрой ро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ложи широкий язык на нижнюю губу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держи его в таком положении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78" name="Picture 8" descr="4A47965C"/>
          <p:cNvPicPr/>
          <p:nvPr/>
        </p:nvPicPr>
        <p:blipFill>
          <a:blip r:embed="rId1"/>
          <a:srcRect l="0" t="5411" r="6470" b="8875"/>
          <a:stretch/>
        </p:blipFill>
        <p:spPr>
          <a:xfrm>
            <a:off x="5664240" y="609480"/>
            <a:ext cx="302904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6C5D009E"/>
          <p:cNvPicPr/>
          <p:nvPr/>
        </p:nvPicPr>
        <p:blipFill>
          <a:blip r:embed="rId2"/>
          <a:srcRect l="990" t="-3598" r="25457" b="7378"/>
          <a:stretch/>
        </p:blipFill>
        <p:spPr>
          <a:xfrm>
            <a:off x="5905440" y="3332160"/>
            <a:ext cx="27813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a6b727"/>
                </a:solidFill>
                <a:latin typeface="Corbel"/>
              </a:rPr>
              <a:t>«Дуем на снежинку»</a:t>
            </a:r>
            <a:br>
              <a:rPr sz="3400"/>
            </a:br>
            <a:endParaRPr b="0" lang="en-US" sz="3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Держи снежинку перед губами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делай из языка «лопаточку»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Выдыхай плавно на снежинку с «лопаточки»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мотри, как красиво летит твоя снежинка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2" name="Picture 7" descr="5C3C50FC"/>
          <p:cNvPicPr/>
          <p:nvPr/>
        </p:nvPicPr>
        <p:blipFill>
          <a:blip r:embed="rId1"/>
          <a:srcRect l="18907" t="2312" r="8678" b="2535"/>
          <a:stretch/>
        </p:blipFill>
        <p:spPr>
          <a:xfrm>
            <a:off x="4648320" y="1523880"/>
            <a:ext cx="4038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Чищу зубы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ыбнись, приоткрой ро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чисти кончиком языка нижние зубы, делая движения из стороны в сторону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чисти кончиком языка верхние зубы, делая движения из стороны в сторону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5" name="Picture 7" descr="44BADB56"/>
          <p:cNvPicPr/>
          <p:nvPr/>
        </p:nvPicPr>
        <p:blipFill>
          <a:blip r:embed="rId1"/>
          <a:srcRect l="0" t="5405" r="11272" b="21621"/>
          <a:stretch/>
        </p:blipFill>
        <p:spPr>
          <a:xfrm>
            <a:off x="4876920" y="1447920"/>
            <a:ext cx="3809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Грибок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рисоси к нёбу широкий язык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Раскрой рот как можно шире, так, чтобы «ножка грибка» (уздечка языка), натянулась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8" name="Picture 7" descr="A018686"/>
          <p:cNvPicPr/>
          <p:nvPr/>
        </p:nvPicPr>
        <p:blipFill>
          <a:blip r:embed="rId1"/>
          <a:srcRect l="3485" t="10468" r="-196" b="10271"/>
          <a:stretch/>
        </p:blipFill>
        <p:spPr>
          <a:xfrm>
            <a:off x="4489560" y="347760"/>
            <a:ext cx="269388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9EC35C84"/>
          <p:cNvPicPr/>
          <p:nvPr/>
        </p:nvPicPr>
        <p:blipFill>
          <a:blip r:embed="rId2"/>
          <a:stretch/>
        </p:blipFill>
        <p:spPr>
          <a:xfrm>
            <a:off x="3886200" y="3505320"/>
            <a:ext cx="49086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Вкусное варенье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Слегка приоткрой ро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Широким кончиком языка слижи варенье с верхней губы, делая движения языком сверху вниз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2" name="Picture 7" descr="EC256C6A"/>
          <p:cNvPicPr/>
          <p:nvPr/>
        </p:nvPicPr>
        <p:blipFill>
          <a:blip r:embed="rId1"/>
          <a:srcRect l="7740" t="10641" r="14000" b="23407"/>
          <a:stretch/>
        </p:blipFill>
        <p:spPr>
          <a:xfrm>
            <a:off x="6019920" y="423720"/>
            <a:ext cx="2666880" cy="2471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94F41008"/>
          <p:cNvPicPr/>
          <p:nvPr/>
        </p:nvPicPr>
        <p:blipFill>
          <a:blip r:embed="rId2"/>
          <a:srcRect l="10784" t="22875" r="6586" b="11130"/>
          <a:stretch/>
        </p:blipFill>
        <p:spPr>
          <a:xfrm>
            <a:off x="4114800" y="32004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Дудочка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Высуни широкий язык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Боковые края языка максимально загни вверх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Дуй в получившуюся «дудочку»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6" name="Picture 8" descr="5A215010"/>
          <p:cNvPicPr/>
          <p:nvPr/>
        </p:nvPicPr>
        <p:blipFill>
          <a:blip r:embed="rId1"/>
          <a:stretch/>
        </p:blipFill>
        <p:spPr>
          <a:xfrm>
            <a:off x="4648320" y="27716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1D30E932"/>
          <p:cNvPicPr/>
          <p:nvPr/>
        </p:nvPicPr>
        <p:blipFill>
          <a:blip r:embed="rId2"/>
          <a:srcRect l="2080" t="14756" r="7090" b="9463"/>
          <a:stretch/>
        </p:blipFill>
        <p:spPr>
          <a:xfrm>
            <a:off x="4502160" y="446040"/>
            <a:ext cx="41148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«Качели»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Улыбнись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Открой рот, как при звуке А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дними кончик языка за верхние зубы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Затем опусти язык за нижние зубы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a6b727"/>
                </a:solidFill>
                <a:latin typeface="Corbel"/>
              </a:rPr>
              <a:t>Повтори несколько раз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0" name="Picture 7" descr="3B1719D4"/>
          <p:cNvPicPr/>
          <p:nvPr/>
        </p:nvPicPr>
        <p:blipFill>
          <a:blip r:embed="rId1"/>
          <a:srcRect l="8268" t="19286" r="13940" b="4272"/>
          <a:stretch/>
        </p:blipFill>
        <p:spPr>
          <a:xfrm>
            <a:off x="4114800" y="457200"/>
            <a:ext cx="4648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</cp:lastModifiedBy>
  <dcterms:modified xsi:type="dcterms:W3CDTF">2020-04-12T17:27:1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