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3C8-6112-4E81-B502-6CAD68E6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3FE-A216-4085-861E-FE7EE46C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2AF-1816-4A94-9FA9-01FC3AF6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B0D-2B40-4B7B-BB7B-FCB0855B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574E-D8D5-478A-ACA9-F56F8AE1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5C46-8E78-4EE4-A3CA-0545162B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D7E2-5867-4AA6-8779-18E73FB1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76A7-289E-4AD1-A7F8-CD6A65F9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0405-489F-477B-B365-B99FD1C1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516F-6D41-442A-B513-61E3B659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DEB2-0EE3-4F50-B541-280AE21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374-2DAE-4D7B-855A-810822C3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7399-6D14-4696-96C1-02CA886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D183-244F-4894-B792-613FC26A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B7EB-BAB7-4709-B519-43EC268F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BF72-FA94-43D6-AF2A-21DEB53A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BB68-BC3A-4A6D-A841-C19A819A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0D7A-34B1-409A-9ABE-781DE0AE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638E-251A-4D8E-A299-613E8492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D49B7-30E7-43C8-859F-A04EDFB0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9FEA-7066-43C8-B55F-E6F1DBA9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A1851-67E4-4762-B829-09B7A236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940-5F37-4068-A1F7-AB8B68F1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33225-4D23-49B8-A9E6-0E982D7A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0F99-6D6C-4A52-9DA8-2705A4D1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FDCB-0CB7-4C0B-9237-9148E329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844B-97E1-4319-99E8-13BE606C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DAE5-F851-4A91-881A-3346A0D2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E296-C9F5-44C4-B9C5-929F74D5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5453-64EC-4336-A7B2-DC0B8FCB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0FC8-9543-4349-A312-A38E41AA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8451-D0B6-47C5-81C6-D7598571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6146-4342-403E-AB55-9AD411D2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9E9-7172-4335-833F-E2C5E921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4F066-B682-4871-BFF5-796326C5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8576F-0DDC-4639-98C7-FFDBBCBD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86DA-CE32-40A4-9606-EA1D8471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EC8F-B208-4011-ADA9-1973454D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CAEC4-F0A9-4C4C-808E-D33F7E8E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E7830-62E8-4067-A073-FBB2A2CC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E9A73-023F-442F-A5E5-D720301A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B9AC6-1484-4834-AD3B-089D86A6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4AFC-DAF2-4B48-805E-83FDDDC2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FE8-9515-4197-92F6-5B0FD282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0FE-23A2-4D37-965E-B28C2BDF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B30-90BD-4543-B69C-0984181D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49A-81FC-4567-80A8-74437020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B34-32DE-4DBD-9CE9-CDAA3A55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84F2-559F-499E-BB58-3B4CD43658D2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8F89-75D4-4E97-BC09-8C0D71AF95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4BD1-CDEE-49BA-8974-40D17752F189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848C-5C1F-428D-93B9-0EF4D80197F7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212480"/>
            <a:ext cx="7475760" cy="29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5100"/>
            </a:br>
            <a:endParaRPr b="0" lang="en-US" sz="5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Артикуляционная гимнастика</a:t>
            </a:r>
            <a:endParaRPr b="0" lang="en-US" sz="54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725040" y="596880"/>
            <a:ext cx="77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СКИЙ САД КОМБИНИРОВАННОГО ВИДА №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Лошадка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ыбнись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риоткрой рот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Цокай медленно кончиком языка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Следи, чтобы нижняя челюсть и губы не двигались, а работал только язык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3" name="Picture 7" descr="8190EF6E"/>
          <p:cNvPicPr/>
          <p:nvPr/>
        </p:nvPicPr>
        <p:blipFill>
          <a:blip r:embed="rId1"/>
          <a:srcRect l="11615" t="20483" r="10078" b="8357"/>
          <a:stretch/>
        </p:blipFill>
        <p:spPr>
          <a:xfrm>
            <a:off x="4495680" y="3276720"/>
            <a:ext cx="2724120" cy="327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E0E2FDAC"/>
          <p:cNvPicPr/>
          <p:nvPr/>
        </p:nvPicPr>
        <p:blipFill>
          <a:blip r:embed="rId2"/>
          <a:srcRect l="7797" t="88" r="5409" b="6564"/>
          <a:stretch/>
        </p:blipFill>
        <p:spPr>
          <a:xfrm>
            <a:off x="5618160" y="419040"/>
            <a:ext cx="30686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Маляр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Води кончиком языка, как кисточкой, по нёбу вперёд-назад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7" name="Picture 7" descr="FABCAC9A"/>
          <p:cNvPicPr/>
          <p:nvPr/>
        </p:nvPicPr>
        <p:blipFill>
          <a:blip r:embed="rId1"/>
          <a:srcRect l="21582" t="14042" r="12003" b="6657"/>
          <a:stretch/>
        </p:blipFill>
        <p:spPr>
          <a:xfrm>
            <a:off x="2209680" y="3048120"/>
            <a:ext cx="3067200" cy="3467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EC5EAFB8"/>
          <p:cNvPicPr/>
          <p:nvPr/>
        </p:nvPicPr>
        <p:blipFill>
          <a:blip r:embed="rId2"/>
          <a:srcRect l="18165" t="4106" r="5203" b="1392"/>
          <a:stretch/>
        </p:blipFill>
        <p:spPr>
          <a:xfrm>
            <a:off x="5451480" y="609480"/>
            <a:ext cx="31543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Барабанщик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Улыбнись. Открой рот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стучи кончиком языка за верхними зубами, отчётливо произнося твёрдый звук Д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Делай удары медленно, следи, чтобы нижняя челюсть не двигалась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11" name="Picture 8" descr="8190EF6E"/>
          <p:cNvPicPr/>
          <p:nvPr/>
        </p:nvPicPr>
        <p:blipFill>
          <a:blip r:embed="rId1"/>
          <a:srcRect l="11615" t="20483" r="10078" b="1735"/>
          <a:stretch/>
        </p:blipFill>
        <p:spPr>
          <a:xfrm>
            <a:off x="4267080" y="3200400"/>
            <a:ext cx="2667240" cy="3381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C032BA60"/>
          <p:cNvPicPr/>
          <p:nvPr/>
        </p:nvPicPr>
        <p:blipFill>
          <a:blip r:embed="rId2"/>
          <a:srcRect l="13702" t="106" r="23973" b="8434"/>
          <a:stretch/>
        </p:blipFill>
        <p:spPr>
          <a:xfrm>
            <a:off x="6553080" y="380880"/>
            <a:ext cx="20480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Забей мяч в ворота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Возьми поролоновый мячик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ложи перед футбольными воротами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Забивай гол плавной струёй воздуха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Теперь забивай гол резкой, отрывистой струёй воздуха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считай, сколько голов ты забил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75" name="Picture 5" descr="77CC57C0"/>
          <p:cNvPicPr/>
          <p:nvPr/>
        </p:nvPicPr>
        <p:blipFill>
          <a:blip r:embed="rId1"/>
          <a:srcRect l="0" t="0" r="0" b="4952"/>
          <a:stretch/>
        </p:blipFill>
        <p:spPr>
          <a:xfrm>
            <a:off x="4648320" y="2057400"/>
            <a:ext cx="4162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59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Лопаточка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728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ыбнись. Приоткрой рот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ложи широкий язык на нижнюю губу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держи его в таком положении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78" name="Picture 8" descr="4A47965C"/>
          <p:cNvPicPr/>
          <p:nvPr/>
        </p:nvPicPr>
        <p:blipFill>
          <a:blip r:embed="rId1"/>
          <a:srcRect l="0" t="5411" r="6470" b="8875"/>
          <a:stretch/>
        </p:blipFill>
        <p:spPr>
          <a:xfrm>
            <a:off x="5664240" y="609480"/>
            <a:ext cx="302904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6C5D009E"/>
          <p:cNvPicPr/>
          <p:nvPr/>
        </p:nvPicPr>
        <p:blipFill>
          <a:blip r:embed="rId2"/>
          <a:srcRect l="990" t="-3598" r="25457" b="7378"/>
          <a:stretch/>
        </p:blipFill>
        <p:spPr>
          <a:xfrm>
            <a:off x="5905440" y="3332160"/>
            <a:ext cx="27813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a6b727"/>
                </a:solidFill>
                <a:latin typeface="Corbel"/>
              </a:rPr>
              <a:t>«Дуем на снежинку»</a:t>
            </a:r>
            <a:br>
              <a:rPr sz="3400"/>
            </a:br>
            <a:endParaRPr b="0" lang="en-US" sz="3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Держи снежинку перед губами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Сделай из языка «лопаточку»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Выдыхай плавно на снежинку с «лопаточки»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Смотри, как красиво летит твоя снежинка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2" name="Picture 7" descr="5C3C50FC"/>
          <p:cNvPicPr/>
          <p:nvPr/>
        </p:nvPicPr>
        <p:blipFill>
          <a:blip r:embed="rId1"/>
          <a:srcRect l="18907" t="2312" r="8678" b="2535"/>
          <a:stretch/>
        </p:blipFill>
        <p:spPr>
          <a:xfrm>
            <a:off x="4648320" y="1523880"/>
            <a:ext cx="40384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Чищу зубы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ыбнись, приоткрой рот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чисти кончиком языка нижние зубы, делая движения из стороны в сторону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чисти кончиком языка верхние зубы, делая движения из стороны в сторону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5" name="Picture 7" descr="44BADB56"/>
          <p:cNvPicPr/>
          <p:nvPr/>
        </p:nvPicPr>
        <p:blipFill>
          <a:blip r:embed="rId1"/>
          <a:srcRect l="0" t="5405" r="11272" b="21621"/>
          <a:stretch/>
        </p:blipFill>
        <p:spPr>
          <a:xfrm>
            <a:off x="4876920" y="1447920"/>
            <a:ext cx="380988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Грибок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рисоси к нёбу широкий язык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Раскрой рот как можно шире, так, чтобы «ножка грибка» (уздечка языка), натянулась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8" name="Picture 7" descr="A018686"/>
          <p:cNvPicPr/>
          <p:nvPr/>
        </p:nvPicPr>
        <p:blipFill>
          <a:blip r:embed="rId1"/>
          <a:srcRect l="3485" t="10468" r="-196" b="10271"/>
          <a:stretch/>
        </p:blipFill>
        <p:spPr>
          <a:xfrm>
            <a:off x="4489560" y="347760"/>
            <a:ext cx="2693880" cy="24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9EC35C84"/>
          <p:cNvPicPr/>
          <p:nvPr/>
        </p:nvPicPr>
        <p:blipFill>
          <a:blip r:embed="rId2"/>
          <a:stretch/>
        </p:blipFill>
        <p:spPr>
          <a:xfrm>
            <a:off x="3886200" y="3505320"/>
            <a:ext cx="49086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Вкусное варенье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Слегка приоткрой рот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Широким кончиком языка слижи варенье с верхней губы, делая движения языком сверху вниз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92" name="Picture 7" descr="EC256C6A"/>
          <p:cNvPicPr/>
          <p:nvPr/>
        </p:nvPicPr>
        <p:blipFill>
          <a:blip r:embed="rId1"/>
          <a:srcRect l="7740" t="10641" r="14000" b="23407"/>
          <a:stretch/>
        </p:blipFill>
        <p:spPr>
          <a:xfrm>
            <a:off x="6019920" y="423720"/>
            <a:ext cx="2666880" cy="2471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94F41008"/>
          <p:cNvPicPr/>
          <p:nvPr/>
        </p:nvPicPr>
        <p:blipFill>
          <a:blip r:embed="rId2"/>
          <a:srcRect l="10784" t="22875" r="6586" b="11130"/>
          <a:stretch/>
        </p:blipFill>
        <p:spPr>
          <a:xfrm>
            <a:off x="4114800" y="3200400"/>
            <a:ext cx="3505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Дудочка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Высуни широкий язык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Боковые края языка максимально загни вверх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Дуй в получившуюся «дудочку»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96" name="Picture 8" descr="5A215010"/>
          <p:cNvPicPr/>
          <p:nvPr/>
        </p:nvPicPr>
        <p:blipFill>
          <a:blip r:embed="rId1"/>
          <a:stretch/>
        </p:blipFill>
        <p:spPr>
          <a:xfrm>
            <a:off x="4648320" y="27716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1D30E932"/>
          <p:cNvPicPr/>
          <p:nvPr/>
        </p:nvPicPr>
        <p:blipFill>
          <a:blip r:embed="rId2"/>
          <a:srcRect l="2080" t="14756" r="7090" b="9463"/>
          <a:stretch/>
        </p:blipFill>
        <p:spPr>
          <a:xfrm>
            <a:off x="4502160" y="446040"/>
            <a:ext cx="41148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Качели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ыбнись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Открой рот, как при звуке А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дними кончик языка за верхние зубы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Затем опусти язык за нижние зубы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втори несколько раз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0" name="Picture 7" descr="3B1719D4"/>
          <p:cNvPicPr/>
          <p:nvPr/>
        </p:nvPicPr>
        <p:blipFill>
          <a:blip r:embed="rId1"/>
          <a:srcRect l="8268" t="19286" r="13940" b="4272"/>
          <a:stretch/>
        </p:blipFill>
        <p:spPr>
          <a:xfrm>
            <a:off x="4114800" y="457200"/>
            <a:ext cx="4648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</cp:lastModifiedBy>
  <dcterms:modified xsi:type="dcterms:W3CDTF">2020-04-12T17:27:1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