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14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FC2-3542-418E-BB9A-8B10BDB9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58A-12CA-420B-9D0F-BFAEB098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123-1CD9-4016-A9AA-B896530B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F9A-A57A-464D-8812-CF98B4CA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5B20D-7E65-441B-BF93-D7DE9B96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306C-EE9F-47B7-BFAD-D1B48A91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69BCC-2F2E-40DD-B433-DE29EAE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89370-ECAF-4DF2-A9CA-82E9D975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D809-F617-479F-A1C3-6BBD205A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A6F6D-67E9-4862-B7CF-0FF5E73D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1B29C-324C-4497-AB96-368C9B89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A0E-36C2-49D3-800F-9DE4D4E3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240F3-A0F2-4664-8712-A17BB20A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51720-68B6-4508-B37C-902E114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4A806-7E85-4173-B2C8-414A43D4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4538E-A89E-4A2B-8005-794C5B53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338D1-02DA-4D62-9CE0-82BC5D2D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BE6B-B9D6-4B11-ACC1-5BB6ED5C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84AB-B80A-4F6D-BFE2-EFC8F5D9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68C4-F967-4D8C-9838-4573A0F7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FE81-3B8D-4AB2-822E-114F863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8BF0-CB1C-492C-A823-6213D79B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D63-9674-49B7-BA6C-EE2B9F48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FA19-A527-405A-AB1A-15E07FD8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777FB-E81A-436B-958A-5564C64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3A01-2412-4A50-9E19-FB41692D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514D-D370-4CA6-819A-6FBF8D64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6E08-2BA6-43AE-8953-3BF02B38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4AEE-CBE7-4D83-B2D4-F252B45A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7FF0-094C-4115-B6C4-4FBFF830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706BC-47B5-403E-9112-81A27B82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3C422-C5FE-4541-937D-B3D6D03E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F40C8-BBBE-471D-A01F-6A3DD1C1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C0A-6A90-49FC-B1DA-58DAAA5F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48DFE-DF95-4C8C-8C74-C465538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4B450-0968-46F4-A67D-0BB80526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8A8C7-90B1-4B2B-9CB9-984B7745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15560-E883-429E-B2D9-0BF05775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2D8FB-82A1-4D09-BADA-B248501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B1007-894E-417A-A04B-239BDE05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4A6F7-2507-45D3-9D4C-8EB64BB5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EA33F-C1C2-45E7-A137-9E6F9D9A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F1F0E-3CFE-40EA-AF20-A51E2C4C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F9E50-0B9C-4C6F-83AB-8134CB16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89A-536C-46E6-87BA-3C98CFB1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DA1B5-AE32-4C25-9A84-C6AFF789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B9D43-691F-4580-BA43-C06539D1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501E5-B456-4562-B5E5-9C728B13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27711-448E-48FD-8B37-DEE8594E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6F137-59E4-4599-94C8-5BA709BB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CB109-86EE-4FF7-9760-1F7FFFC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D6FAF-4DBA-4F18-B8C4-608E069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C3444-DFEA-4724-8A93-D626E9D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D50F7-E507-4EA3-ABEC-0DC6D222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A5AEF-DFB0-4714-ABBF-9677EEB6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AC0-B515-482E-83AB-B6ABEB9E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09EB5-AA0D-4D15-BD0E-F46D0DE5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37CD0-F24E-4EF9-9D42-79667A16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0826B-59C3-4515-B7C8-B461F31B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B6D56-29F7-41E4-A2B3-2423B53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2DF70-8070-4404-ACB6-EEACA742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9D847-FBF1-4B9E-BC45-16EB29C9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F8A8B-76DD-4035-BDFD-04B64AF4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8CE5D-A310-45B7-BD5B-D1B9E677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94D0C-0FE2-45A4-9C4C-E1763EF6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C4790-F863-4984-B0C7-44B2A8C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91A-1AFB-41F1-8C7A-BD9F654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15050-826F-446D-ACA2-ED45503F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46737-C6FA-47C8-8DE9-21F3DCB7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04F52-CD0B-4EF2-A73F-3FE1783E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E36D6-45C5-47BD-85F9-91B8D9F1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C31D7-A0EE-4D3B-9E90-D339561E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8FD9-35EB-465A-B4B9-79EC8E18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42BAF-76A4-4987-8E4C-96D8E25C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1875-4FFA-49C2-BF52-4B1E20A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61EE-B77D-43A9-858A-E494A3D5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F66B-9B32-43EA-9C08-195E9A91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1EC-BC7E-4539-A823-CD9DD9E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B62ED-9129-4CAF-9BC0-4BEB944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3595-B30B-4DA7-9A24-B215107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71A5B-746C-4B26-AC35-DC91334A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74DBB-FC51-4352-AC47-5B7FB038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B7079-B513-4B72-8E60-7E7976CF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654-EABC-4B59-96C7-443FAB5E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B0BF-2F9B-4428-A9CC-2C4171680CD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A0FA-79DF-4021-9156-DB4EF100DC4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E718-9AF5-4C11-9FAC-974D73AD246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A0F1-E7DE-4A63-8070-7FBE9DBAA2E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AB47-FF36-421E-898B-E2A902E51E2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29F7-612A-413F-8E86-0A777AD5CD7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C528-8A9B-464D-A188-2163686C035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slovo.ws/bio/rus/Astafev_Viktor_Petrovich/134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slovo.ws/bio/rus/Astafev_Viktor_Petrovich/135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slovo.ws/bio/rus/Astafev_Viktor_Petrovich/136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1908000" y="333360"/>
            <a:ext cx="511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ктор Петрович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2771640" y="1557360"/>
            <a:ext cx="316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стафье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WordArt 6"/>
          <p:cNvSpPr txBox="1"/>
          <p:nvPr/>
        </p:nvSpPr>
        <p:spPr>
          <a:xfrm>
            <a:off x="6443640" y="1989000"/>
            <a:ext cx="228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1924-2001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6" name="Picture 7" descr="Астафьев Виктор Петрович. фото фотография фотк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3933720"/>
            <a:ext cx="2664000" cy="1989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Астафьев Виктор Петрович. фото фотография фотк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3357720"/>
            <a:ext cx="1477800" cy="2230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Астафьев Виктор Петрович. фото фотография фотк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3357720"/>
            <a:ext cx="17683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81160" y="158760"/>
            <a:ext cx="8424720" cy="7430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4"/>
          <p:cNvSpPr/>
          <p:nvPr/>
        </p:nvSpPr>
        <p:spPr>
          <a:xfrm>
            <a:off x="3132000" y="2565360"/>
            <a:ext cx="2664000" cy="1152720"/>
          </a:xfrm>
          <a:custGeom>
            <a:avLst/>
            <a:gdLst>
              <a:gd name="textAreaLeft" fmla="*/ 0 w 2664000"/>
              <a:gd name="textAreaRight" fmla="*/ 2664360 w 266400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7f6f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наток тай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395280" y="1700280"/>
            <a:ext cx="1512720" cy="504720"/>
          </a:xfrm>
          <a:custGeom>
            <a:avLst/>
            <a:gdLst>
              <a:gd name="textAreaLeft" fmla="*/ 0 w 1512720"/>
              <a:gd name="textAreaRight" fmla="*/ 1513080 w 151272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забот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443640" y="1484280"/>
            <a:ext cx="1513080" cy="504720"/>
          </a:xfrm>
          <a:custGeom>
            <a:avLst/>
            <a:gdLst>
              <a:gd name="textAreaLeft" fmla="*/ 0 w 1513080"/>
              <a:gd name="textAreaRight" fmla="*/ 1513440 w 151308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разум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3708360" y="981000"/>
            <a:ext cx="1513080" cy="505080"/>
          </a:xfrm>
          <a:custGeom>
            <a:avLst/>
            <a:gdLst>
              <a:gd name="textAreaLeft" fmla="*/ 0 w 1513080"/>
              <a:gd name="textAreaRight" fmla="*/ 1513440 w 151308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ла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539640" y="2492280"/>
            <a:ext cx="1513080" cy="505080"/>
          </a:xfrm>
          <a:custGeom>
            <a:avLst/>
            <a:gdLst>
              <a:gd name="textAreaLeft" fmla="*/ 0 w 1513080"/>
              <a:gd name="textAreaRight" fmla="*/ 1513440 w 151308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пыт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755640" y="3645000"/>
            <a:ext cx="1512720" cy="504720"/>
          </a:xfrm>
          <a:custGeom>
            <a:avLst/>
            <a:gdLst>
              <a:gd name="textAreaLeft" fmla="*/ 0 w 1512720"/>
              <a:gd name="textAreaRight" fmla="*/ 1513080 w 151272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лов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6516720" y="3141720"/>
            <a:ext cx="1800360" cy="574560"/>
          </a:xfrm>
          <a:custGeom>
            <a:avLst/>
            <a:gdLst>
              <a:gd name="textAreaLeft" fmla="*/ 0 w 1800360"/>
              <a:gd name="textAreaRight" fmla="*/ 1800720 w 1800360"/>
              <a:gd name="textAreaTop" fmla="*/ 74520 h 574560"/>
              <a:gd name="textAreaBottom" fmla="*/ 50004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разговорч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6372360" y="2276640"/>
            <a:ext cx="1512720" cy="504720"/>
          </a:xfrm>
          <a:custGeom>
            <a:avLst/>
            <a:gdLst>
              <a:gd name="textAreaLeft" fmla="*/ 0 w 1512720"/>
              <a:gd name="textAreaRight" fmla="*/ 1513080 w 151272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мышл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12"/>
          <p:cNvSpPr/>
          <p:nvPr/>
        </p:nvSpPr>
        <p:spPr>
          <a:xfrm>
            <a:off x="611280" y="4581360"/>
            <a:ext cx="1873080" cy="648000"/>
          </a:xfrm>
          <a:custGeom>
            <a:avLst/>
            <a:gdLst>
              <a:gd name="textAreaLeft" fmla="*/ 0 w 1873080"/>
              <a:gd name="textAreaRight" fmla="*/ 1873440 w 1873080"/>
              <a:gd name="textAreaTop" fmla="*/ 83880 h 648000"/>
              <a:gd name="textAreaBottom" fmla="*/ 56412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нима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3851280" y="4941720"/>
            <a:ext cx="1512720" cy="505080"/>
          </a:xfrm>
          <a:custGeom>
            <a:avLst/>
            <a:gdLst>
              <a:gd name="textAreaLeft" fmla="*/ 0 w 1512720"/>
              <a:gd name="textAreaRight" fmla="*/ 1513080 w 151272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терпе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14"/>
          <p:cNvSpPr/>
          <p:nvPr/>
        </p:nvSpPr>
        <p:spPr>
          <a:xfrm>
            <a:off x="3635280" y="3860640"/>
            <a:ext cx="1656000" cy="576360"/>
          </a:xfrm>
          <a:custGeom>
            <a:avLst/>
            <a:gdLst>
              <a:gd name="textAreaLeft" fmla="*/ 0 w 1656000"/>
              <a:gd name="textAreaRight" fmla="*/ 1656360 w 165600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откро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15"/>
          <p:cNvSpPr/>
          <p:nvPr/>
        </p:nvSpPr>
        <p:spPr>
          <a:xfrm>
            <a:off x="3635280" y="1773360"/>
            <a:ext cx="1513080" cy="504720"/>
          </a:xfrm>
          <a:custGeom>
            <a:avLst/>
            <a:gdLst>
              <a:gd name="textAreaLeft" fmla="*/ 0 w 1513080"/>
              <a:gd name="textAreaRight" fmla="*/ 1513440 w 151308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ыносли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6"/>
          <p:cNvSpPr/>
          <p:nvPr/>
        </p:nvSpPr>
        <p:spPr>
          <a:xfrm>
            <a:off x="611280" y="907920"/>
            <a:ext cx="1512720" cy="505080"/>
          </a:xfrm>
          <a:custGeom>
            <a:avLst/>
            <a:gdLst>
              <a:gd name="textAreaLeft" fmla="*/ 0 w 1512720"/>
              <a:gd name="textAreaRight" fmla="*/ 1513080 w 151272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обр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7"/>
          <p:cNvSpPr/>
          <p:nvPr/>
        </p:nvSpPr>
        <p:spPr>
          <a:xfrm>
            <a:off x="6300720" y="907920"/>
            <a:ext cx="1513080" cy="505080"/>
          </a:xfrm>
          <a:custGeom>
            <a:avLst/>
            <a:gdLst>
              <a:gd name="textAreaLeft" fmla="*/ 0 w 1513080"/>
              <a:gd name="textAreaRight" fmla="*/ 1513440 w 151308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ме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6227640" y="4221000"/>
            <a:ext cx="1979640" cy="720720"/>
          </a:xfrm>
          <a:custGeom>
            <a:avLst/>
            <a:gdLst>
              <a:gd name="textAreaLeft" fmla="*/ 0 w 1979640"/>
              <a:gd name="textAreaRight" fmla="*/ 1980000 w 197964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рассуд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20" descr="J0173993"/>
          <p:cNvPicPr/>
          <p:nvPr/>
        </p:nvPicPr>
        <p:blipFill>
          <a:blip r:embed="rId2"/>
          <a:stretch/>
        </p:blipFill>
        <p:spPr>
          <a:xfrm>
            <a:off x="7380360" y="51577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1" descr="52r5"/>
          <p:cNvPicPr/>
          <p:nvPr/>
        </p:nvPicPr>
        <p:blipFill>
          <a:blip r:embed="rId3"/>
          <a:stretch/>
        </p:blipFill>
        <p:spPr>
          <a:xfrm>
            <a:off x="2484360" y="5300640"/>
            <a:ext cx="1354320" cy="1557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2" descr="33r5"/>
          <p:cNvPicPr/>
          <p:nvPr/>
        </p:nvPicPr>
        <p:blipFill>
          <a:blip r:embed="rId4"/>
          <a:stretch/>
        </p:blipFill>
        <p:spPr>
          <a:xfrm>
            <a:off x="5580000" y="4952880"/>
            <a:ext cx="122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семь лет мальчик потерял мать - она утонула в реке. В. П. Астафьев никогда не привыкнет к этой потере. Все ему "не верится, что мамы нет и никогда не будет". Мальчик попадает в детдом-интерна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339966"/>
                </a:solidFill>
                <a:latin typeface="Constantia"/>
              </a:rPr>
              <a:t>"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стоятельную жизнь я начал сразу, безо всякой подготовки", - напишет впоследствии В. П. Астафье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читель школы-интерната сибирский поэт Игнатий Дмитриевич Рождественский замечает в Викторе склонность к литературе и развивает ее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707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брав денег на билет, Виктор уезжает в Красноярск. Окончив учебу, он работает составителем поездов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енью 1942 года Виктор Астафьев добровольцем уходит в армию, а весной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1943 года попадает на фронт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 Осенью 1945 года  демобилизуется из армии и вместе с женой приезжает па ее родину --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город Чусовой на западном Урале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 состоянию здоровья Виктор уже не может вернуться к своей специальности и, чтобы кормить семью, работает слесарем, чернорабочим, грузчиком, плотником, мойщиком мясных туш, вахтером мясокомбинат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В 1953 году в Перми выходит его первая книжка рассказов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- "До будущей весны", а в 1955 году вторая - "Огоньки". Это рассказы для детей. В 1955-1957 годах он пишет роман "Тают снега", издает еще две книги для детей: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"Васюткино озеро" (1956)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и "Дядя Кузя, куры, лиса и кот" (1957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1959 году его направляют в Москву на Высшие литературные курсы при Литературном институте имени М. Горького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1997 году писателю присуждена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Международная Пушкинская премия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, а в 1998 году он удостоен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премии "За честь и достоинство таланта"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Международного литфонд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конце 1998 года В. П. Астафьеву присуждена </a:t>
            </a:r>
            <a:r>
              <a:rPr b="1" lang="ru-RU" sz="2000" spc="-1" strike="noStrike">
                <a:solidFill>
                  <a:srgbClr val="006600"/>
                </a:solidFill>
                <a:latin typeface="Constantia"/>
              </a:rPr>
              <a:t>премия имени Аполлона Григорьева Академии русской современной словес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4244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Землю свою люблю и не устаю удивляться красоте ее, неистощимому терпению и доброте... Рано потерявший мать — она утонула в Енисее весной 1932 г., я, естественно, тянулся ко второй моей и неизменной матери — земле. И жизнь предоставляла мне постоянную возможность быть на природе и с прир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Астафье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Picture 9" descr="i?id=38705736&amp;tov=7"/>
          <p:cNvPicPr/>
          <p:nvPr/>
        </p:nvPicPr>
        <p:blipFill>
          <a:blip r:embed="rId2"/>
          <a:stretch/>
        </p:blipFill>
        <p:spPr>
          <a:xfrm>
            <a:off x="5219640" y="155736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0"/>
          <p:cNvSpPr/>
          <p:nvPr/>
        </p:nvSpPr>
        <p:spPr>
          <a:xfrm>
            <a:off x="4938840" y="544464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рода и человек— эта те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ногих произведений Астафье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днажды, еще учась в пятом классе, в сочинении Витя Астафьев описал, как летом заблудился в заполярной тайге, смертельно испугался, но сумел взять себя в руки и на 4-й день всё-таки вышел к Енисею. Он назвал сочинение “Жив!”. Учитель прочитал сочинение в классе и благословил паренька редкой и потому дорогой похвалой: “Молодец!”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37960" y="165240"/>
            <a:ext cx="84553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i?id=27134198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сютка – мальчик, 13 лет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ть Анна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ец Григорий Афанасьевич Шадрин – бригадир рыболоведческой бригад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душка Афанасий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ядя Коляда – старшина рыбосборочного бот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0" name="Rectangle 2" descr=""/>
          <p:cNvPicPr/>
          <p:nvPr/>
        </p:nvPicPr>
        <p:blipFill>
          <a:blip r:embed="rId2"/>
          <a:stretch/>
        </p:blipFill>
        <p:spPr>
          <a:xfrm>
            <a:off x="219240" y="268200"/>
            <a:ext cx="84740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i?id=11512490&amp;tov=2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327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?id=19606181&amp;tov=0"/>
          <p:cNvPicPr/>
          <p:nvPr/>
        </p:nvPicPr>
        <p:blipFill>
          <a:blip r:embed="rId2"/>
          <a:stretch/>
        </p:blipFill>
        <p:spPr>
          <a:xfrm>
            <a:off x="6659640" y="5200560"/>
            <a:ext cx="2484360" cy="16574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Зачем Васютка отправился в тайгу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Что дала мать Васютке перед дорогой, и каковы были её напутственные слова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очему Васютка спокойно шёл по тайге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 С этой птицей Васютка встретился в тайге. Как она называется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5.С какого момента в Васютке открылся охотничий азарт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Прямоугольник 6"/>
          <p:cNvSpPr/>
          <p:nvPr/>
        </p:nvSpPr>
        <p:spPr>
          <a:xfrm>
            <a:off x="611280" y="3860640"/>
            <a:ext cx="7848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. Как вы думаете, страшно ли было Васют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7"/>
          <p:cNvSpPr/>
          <p:nvPr/>
        </p:nvSpPr>
        <p:spPr>
          <a:xfrm>
            <a:off x="539640" y="4581360"/>
            <a:ext cx="84250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7. Как ведет себя Васютка, поняв, что заблудил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8. Какие трудности пришлось преодолевать мальчику на своём пути?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1. Что помогло Васютке выжить, выстоять наедине с суровой тайгой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0. Что предпринял Васютка для своего спасения, увидев рыбосборочный бот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9. Какое чувство охватило Васютку при встрече с рекой после четырёх дней скитания по тайге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0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чему же так назван рассказ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1.Какие мысли возникают у вас после чтения рассказа “Васюткино озеро”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2.Какова идея рассказа? Что хотел донести В.П.Астафьев до читателя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6:08:40Z</dcterms:created>
  <dc:creator>1</dc:creator>
  <dc:description/>
  <dc:language>en-US</dc:language>
  <cp:lastModifiedBy>дом</cp:lastModifiedBy>
  <dcterms:modified xsi:type="dcterms:W3CDTF">2020-04-12T11:43:13Z</dcterms:modified>
  <cp:revision>12</cp:revision>
  <dc:subject/>
  <dc:title>Слайд 1</dc:title>
</cp:coreProperties>
</file>