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4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3B6-7B92-4AE4-A323-2AE44B20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F2E-70B7-452F-8858-A71AD434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EE5-22E1-49CC-B41F-32EC8F7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FFE-5402-458A-A865-B4564F3E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D70B1-886F-4766-9146-EAAAB91A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F03E8-49A5-4E4F-BE1F-4C51B9DA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B957-68B4-4478-9396-E9C6C34F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2058F-8175-4333-A0ED-BD1FCF99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87751-BF30-4FC5-A59B-6EFB9FF1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31F0-FC1A-4CAD-A35D-7E7C4459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6277D-4F59-414D-9A1D-21DF46B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5B8-E3F5-422B-BBF5-9AC990A0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19C72-C261-4247-A8BD-0B90038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9C348-08E9-4E12-A599-B9468D7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15BDA-8857-4B55-8AAA-5E3CEFD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E796-A4F1-4623-B361-16EF7C3B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3CBCA-41CE-41B3-9994-96E2AD06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22C9-0CF7-4720-8C8B-BFC28121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A759-AA2E-41A8-B864-604FE4A1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FC87-849B-49B0-91C3-A273C9A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E7A4-9529-4060-B5AB-26D2FBD9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25CC-39DE-4DCB-BDD1-F3188248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B57-CA59-4020-82A1-8D16BCB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8545-E2F8-4075-BEA3-69DA075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01EF-F3EA-4021-9773-9CC3219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F8CA-4C8F-4DA8-BE1B-AE362EA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3E98-1532-4818-9E5F-3F79335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000B-C9C4-4D9E-8FF4-0E3B037D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8306-E1EA-4F4F-A211-6EE17DF7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C8FB-F6EC-49AE-9C3B-A41E689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91954-B192-4127-9D3A-33233B99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B3C73-D904-4001-BDED-CBBB796F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66273-DF81-43D7-91E7-A46E893B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FE7-A71E-4D17-B534-AAB0D755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73794-961C-401A-9582-2CD8691A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E32A9-6491-449B-9BBA-41AA79C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52811-5782-4882-BC64-4501E66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AB493-5FA3-431B-9133-4C996B5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7D9F2-BB42-40A9-92E6-B2BEEFC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5E533-4129-4ABB-9972-0F54AE1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D520C-2B96-4714-9014-41ABD6D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29E1B-07DE-4A12-A41A-A69D403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83604-FA3F-4563-A068-8B2B5B83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F5AE3-1736-4634-86BA-17C50B3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D37-DA0B-4885-9253-165D0A26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485EE-4CAA-4BF6-98F3-D02DDBE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74F31-2F19-4C79-A1F1-9A77257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28C18-9A89-489C-9A26-61A9B0F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1E05E-8D17-4616-8D4E-D7B97A5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00CEC-50F0-426C-BCC9-089564A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68EBB-808C-489A-B58C-97DA99BB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17FEA-E356-4B06-B70C-12582E1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9D933-ADE8-4E51-8E66-0000363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E97EB-80FD-49F6-9483-0427FCC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E361A-90C7-42BB-9366-2B1721F9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DFB-7CE6-4998-9A40-8EDDACB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FA9F3-1B3C-4A87-9D35-C0EBF492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3210D-306C-4DD4-9394-AB34E9FB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7A3EB-E278-4763-821A-4018605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3EDBE-0FA9-4BC3-856E-F7997DA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1D4F2-0043-4CFD-A515-7D48B33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33AA2-8A0B-4F20-9946-89EBEEF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C1034-4E46-4198-9829-3CB7FC78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7169C-C612-4414-88CB-68BA0A64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F52DA-B6FF-48BA-A0D9-CA694A3C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67DD7-F998-410C-84D1-407F1FF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084-0F97-4DF8-BE8C-CA5DB01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CD0B7-368E-483E-BF1C-C8E2679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67FB7-236B-4983-A7A5-B2DCE13F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A7946-1262-48AF-AF50-740683BD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F95B-2A9B-46C2-8AA5-1366DA11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7E49-C3F3-40D0-BB39-D477936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53229-664F-4BD8-919A-FD191BD4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EAE54-9E5C-4EEB-B657-4EBBAD04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8190-431C-4F08-9009-E131FCBD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2C8A-5F42-48D8-AA84-C2A7B6A3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3E1A-5E5C-4BCD-B26A-D3AE6E2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EBB-E1DF-4835-BDF6-4D8C936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DA62D-4167-4634-9484-26F9943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61FFE-BEB6-44B0-82C4-574AAD5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A98E-754F-4745-B503-49E83E69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9E70-4A42-44DE-B9DD-8F6FA1A0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27EF-7DD2-48B5-AD97-8DC7CA19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199-EBAD-4784-9448-139EC81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945F-B95F-4198-AABF-5C6D51BCAF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5E86-8E27-412F-98A7-37690A919E6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ECBE-F9C1-4EE3-A76F-ACACCEA202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6A9-ECBF-40BD-8E86-BD6A1575CA1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0CFA-BF1E-4550-ADCC-3C21F959364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829-AF9A-4C34-8EF7-0D1FDEEE934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6D3-50C3-4A03-8934-AE8BD48E6DA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slovo.ws/bio/rus/Astafev_Viktor_Petrovich/134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slovo.ws/bio/rus/Astafev_Viktor_Petrovich/13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slovo.ws/bio/rus/Astafev_Viktor_Petrovich/136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1908000" y="333360"/>
            <a:ext cx="511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ктор Петрович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2771640" y="155736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стафье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WordArt 6"/>
          <p:cNvSpPr txBox="1"/>
          <p:nvPr/>
        </p:nvSpPr>
        <p:spPr>
          <a:xfrm>
            <a:off x="6443640" y="198900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1924-2001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6" name="Picture 7" descr="Астафьев Виктор Петрович. фото фотография фот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933720"/>
            <a:ext cx="2664000" cy="1989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Астафьев Виктор Петрович. фото фотография фот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3357720"/>
            <a:ext cx="1477800" cy="2230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Астафьев Виктор Петрович. фото фотография фотк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357720"/>
            <a:ext cx="17683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81160" y="158760"/>
            <a:ext cx="8424720" cy="7430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4"/>
          <p:cNvSpPr/>
          <p:nvPr/>
        </p:nvSpPr>
        <p:spPr>
          <a:xfrm>
            <a:off x="3132000" y="2565360"/>
            <a:ext cx="2664000" cy="1152720"/>
          </a:xfrm>
          <a:custGeom>
            <a:avLst/>
            <a:gdLst>
              <a:gd name="textAreaLeft" fmla="*/ 0 w 2664000"/>
              <a:gd name="textAreaRight" fmla="*/ 2664360 w 266400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7f6f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наток тай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395280" y="1700280"/>
            <a:ext cx="1512720" cy="504720"/>
          </a:xfrm>
          <a:custGeom>
            <a:avLst/>
            <a:gdLst>
              <a:gd name="textAreaLeft" fmla="*/ 0 w 1512720"/>
              <a:gd name="textAreaRight" fmla="*/ 1513080 w 151272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забот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443640" y="1484280"/>
            <a:ext cx="1513080" cy="504720"/>
          </a:xfrm>
          <a:custGeom>
            <a:avLst/>
            <a:gdLst>
              <a:gd name="textAreaLeft" fmla="*/ 0 w 1513080"/>
              <a:gd name="textAreaRight" fmla="*/ 1513440 w 151308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зу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3708360" y="98100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ла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39640" y="249228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пыт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755640" y="3645000"/>
            <a:ext cx="1512720" cy="504720"/>
          </a:xfrm>
          <a:custGeom>
            <a:avLst/>
            <a:gdLst>
              <a:gd name="textAreaLeft" fmla="*/ 0 w 1512720"/>
              <a:gd name="textAreaRight" fmla="*/ 1513080 w 151272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лов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6516720" y="3141720"/>
            <a:ext cx="1800360" cy="574560"/>
          </a:xfrm>
          <a:custGeom>
            <a:avLst/>
            <a:gdLst>
              <a:gd name="textAreaLeft" fmla="*/ 0 w 1800360"/>
              <a:gd name="textAreaRight" fmla="*/ 1800720 w 1800360"/>
              <a:gd name="textAreaTop" fmla="*/ 74520 h 574560"/>
              <a:gd name="textAreaBottom" fmla="*/ 50004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зговорч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6372360" y="2276640"/>
            <a:ext cx="1512720" cy="504720"/>
          </a:xfrm>
          <a:custGeom>
            <a:avLst/>
            <a:gdLst>
              <a:gd name="textAreaLeft" fmla="*/ 0 w 1512720"/>
              <a:gd name="textAreaRight" fmla="*/ 1513080 w 151272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мышл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611280" y="4581360"/>
            <a:ext cx="1873080" cy="648000"/>
          </a:xfrm>
          <a:custGeom>
            <a:avLst/>
            <a:gdLst>
              <a:gd name="textAreaLeft" fmla="*/ 0 w 1873080"/>
              <a:gd name="textAreaRight" fmla="*/ 1873440 w 1873080"/>
              <a:gd name="textAreaTop" fmla="*/ 83880 h 648000"/>
              <a:gd name="textAreaBottom" fmla="*/ 56412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нима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3851280" y="4941720"/>
            <a:ext cx="1512720" cy="505080"/>
          </a:xfrm>
          <a:custGeom>
            <a:avLst/>
            <a:gdLst>
              <a:gd name="textAreaLeft" fmla="*/ 0 w 1512720"/>
              <a:gd name="textAreaRight" fmla="*/ 1513080 w 151272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терпе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3635280" y="3860640"/>
            <a:ext cx="1656000" cy="576360"/>
          </a:xfrm>
          <a:custGeom>
            <a:avLst/>
            <a:gdLst>
              <a:gd name="textAreaLeft" fmla="*/ 0 w 1656000"/>
              <a:gd name="textAreaRight" fmla="*/ 1656360 w 165600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ткро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15"/>
          <p:cNvSpPr/>
          <p:nvPr/>
        </p:nvSpPr>
        <p:spPr>
          <a:xfrm>
            <a:off x="3635280" y="1773360"/>
            <a:ext cx="1513080" cy="504720"/>
          </a:xfrm>
          <a:custGeom>
            <a:avLst/>
            <a:gdLst>
              <a:gd name="textAreaLeft" fmla="*/ 0 w 1513080"/>
              <a:gd name="textAreaRight" fmla="*/ 1513440 w 151308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ынос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611280" y="907920"/>
            <a:ext cx="1512720" cy="505080"/>
          </a:xfrm>
          <a:custGeom>
            <a:avLst/>
            <a:gdLst>
              <a:gd name="textAreaLeft" fmla="*/ 0 w 1512720"/>
              <a:gd name="textAreaRight" fmla="*/ 1513080 w 151272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об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6300720" y="90792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м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6227640" y="4221000"/>
            <a:ext cx="1979640" cy="720720"/>
          </a:xfrm>
          <a:custGeom>
            <a:avLst/>
            <a:gdLst>
              <a:gd name="textAreaLeft" fmla="*/ 0 w 1979640"/>
              <a:gd name="textAreaRight" fmla="*/ 1980000 w 197964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ссуд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20" descr="J0173993"/>
          <p:cNvPicPr/>
          <p:nvPr/>
        </p:nvPicPr>
        <p:blipFill>
          <a:blip r:embed="rId2"/>
          <a:stretch/>
        </p:blipFill>
        <p:spPr>
          <a:xfrm>
            <a:off x="7380360" y="5157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52r5"/>
          <p:cNvPicPr/>
          <p:nvPr/>
        </p:nvPicPr>
        <p:blipFill>
          <a:blip r:embed="rId3"/>
          <a:stretch/>
        </p:blipFill>
        <p:spPr>
          <a:xfrm>
            <a:off x="2484360" y="5300640"/>
            <a:ext cx="1354320" cy="1557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2" descr="33r5"/>
          <p:cNvPicPr/>
          <p:nvPr/>
        </p:nvPicPr>
        <p:blipFill>
          <a:blip r:embed="rId4"/>
          <a:stretch/>
        </p:blipFill>
        <p:spPr>
          <a:xfrm>
            <a:off x="5580000" y="4952880"/>
            <a:ext cx="12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семь лет мальчик потерял мать - она утонула в реке. В. П. Астафьев никогда не привыкнет к этой потере. Все ему "не верится, что мамы нет и никогда не будет". Мальчик попадает в детдом-интерна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339966"/>
                </a:solidFill>
                <a:latin typeface="Constantia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ую жизнь я начал сразу, безо всякой подготовки", - напишет впоследствии В. П. Астафье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читель школы-интерната сибирский поэт Игнатий Дмитриевич Рождественский замечает в Викторе склонность к литературе и развивает е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707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брав денег на билет, Виктор уезжает в Красноярск. Окончив учебу, он работает составителем поездо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енью 1942 года Виктор Астафьев добровольцем уходит в армию, а весной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1943 года попадает на фронт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 Осенью 1945 года  демобилизуется из армии и вместе с женой приезжает па ее родину --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город Чусовой на западном Урале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 состоянию здоровья Виктор уже не может вернуться к своей специальности и, чтобы кормить семью, работает слесарем, чернорабочим, грузчиком, плотником, мойщиком мясных туш, вахтером мясокомбинат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В 1953 году в Перми выходит его первая книжка рассказов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- "До будущей весны", а в 1955 году вторая - "Огоньки". Это рассказы для детей. В 1955-1957 годах он пишет роман "Тают снега", издает еще две книги для детей: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"Васюткино озеро" (1956)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и "Дядя Кузя, куры, лиса и кот" (1957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1959 году его направляют в Москву на Высшие литературные курсы при Литературном институте имени М. Горьког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1997 году писателю присуждена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Международная Пушкинская премия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, а в 1998 году он удостоен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премии "За честь и достоинство таланта"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Международного литфонд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конце 1998 года В. П. Астафьеву присуждена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премия имени Аполлона Григорьева Академии русской современной словес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4244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Землю свою люблю и не устаю удивляться красоте ее, неистощимому терпению и доброте... Рано потерявший мать — она утонула в Енисее весной 1932 г., я, естественно, тянулся ко второй моей и неизменной матери — земле. И жизнь предоставляла мне постоянную возможность быть на природе и с прир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Астафье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Picture 9" descr="i?id=38705736&amp;tov=7"/>
          <p:cNvPicPr/>
          <p:nvPr/>
        </p:nvPicPr>
        <p:blipFill>
          <a:blip r:embed="rId2"/>
          <a:stretch/>
        </p:blipFill>
        <p:spPr>
          <a:xfrm>
            <a:off x="5219640" y="155736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0"/>
          <p:cNvSpPr/>
          <p:nvPr/>
        </p:nvSpPr>
        <p:spPr>
          <a:xfrm>
            <a:off x="4938840" y="544464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рода и человек— эта т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огих произведений Астафье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нажды, еще учась в пятом классе, в сочинении Витя Астафьев описал, как летом заблудился в заполярной тайге, смертельно испугался, но сумел взять себя в руки и на 4-й день всё-таки вышел к Енисею. Он назвал сочинение “Жив!”. Учитель прочитал сочинение в классе и благословил паренька редкой и потому дорогой похвалой: “Молодец!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37960" y="165240"/>
            <a:ext cx="84553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i?id=27134198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сютка – мальчик, 13 лет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ть Анн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ец Григорий Афанасьевич Шадрин – бригадир рыболоведческой бригад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душка Афанасий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ядя Коляда – старшина рыбосборочного бо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Rectangle 2" descr=""/>
          <p:cNvPicPr/>
          <p:nvPr/>
        </p:nvPicPr>
        <p:blipFill>
          <a:blip r:embed="rId2"/>
          <a:stretch/>
        </p:blipFill>
        <p:spPr>
          <a:xfrm>
            <a:off x="219240" y="268200"/>
            <a:ext cx="84740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i?id=11512490&amp;tov=2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27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?id=19606181&amp;tov=0"/>
          <p:cNvPicPr/>
          <p:nvPr/>
        </p:nvPicPr>
        <p:blipFill>
          <a:blip r:embed="rId2"/>
          <a:stretch/>
        </p:blipFill>
        <p:spPr>
          <a:xfrm>
            <a:off x="6659640" y="5200560"/>
            <a:ext cx="2484360" cy="1657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Зачем Васютка отправился в тайгу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Что дала мать Васютке перед дорогой, и каковы были её напутственные слова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очему Васютка спокойно шёл по тайге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 С этой птицей Васютка встретился в тайге. Как она называется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.С какого момента в Васютке открылся охотничий азарт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611280" y="3860640"/>
            <a:ext cx="7848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 Как вы думаете, страшно ли было Васют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539640" y="4581360"/>
            <a:ext cx="8425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7. Как ведет себя Васютка, поняв, что заблудил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8. Какие трудности пришлось преодолевать мальчику на своём пути?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1. Что помогло Васютке выжить, выстоять наедине с суровой тайгой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0. Что предпринял Васютка для своего спасения, увидев рыбосборочный бот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9. Какое чувство охватило Васютку при встрече с рекой после четырёх дней скитания по тайге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чему же так назван рассказ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1.Какие мысли возникают у вас после чтения рассказа “Васюткино озеро”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2.Какова идея рассказа? Что хотел донести В.П.Астафьев до читателя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6:08:40Z</dcterms:created>
  <dc:creator>1</dc:creator>
  <dc:description/>
  <dc:language>en-US</dc:language>
  <cp:lastModifiedBy>дом</cp:lastModifiedBy>
  <dcterms:modified xsi:type="dcterms:W3CDTF">2020-04-12T11:43:13Z</dcterms:modified>
  <cp:revision>12</cp:revision>
  <dc:subject/>
  <dc:title>Слайд 1</dc:title>
</cp:coreProperties>
</file>