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4.gif" ContentType="image/gif"/>
  <Override PartName="/ppt/media/image42.jpeg" ContentType="image/jpeg"/>
  <Override PartName="/ppt/media/image33.png" ContentType="image/pn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png" ContentType="image/png"/>
  <Override PartName="/ppt/media/image38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9FE4-3340-4366-BB4B-71468B96EC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E17C-E5D0-4B5C-9893-8B3575B33C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584-9C80-41E1-87AF-2E983A78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776-E422-4BE2-90EE-53B738A3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7FC-8284-43C4-9AED-B5A47B92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EB0-13A4-4613-8E91-C225FED4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1EF7-6CC1-45AD-BB29-52CBE804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1389-CDFB-46E2-A87A-CA759A5B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6798-8051-443B-AACF-D469038D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D33D-5A88-4EC5-819B-A9AA7DE5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4DFF-B84C-4869-95A5-456D453C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2701-4932-4A15-BD2C-92FF60FA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26CB-E55E-4F55-951B-531EF6EF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054-5353-41A5-954F-20B60F27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CCBA-6D24-4C2C-9312-C715556A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50BC-803D-4BD6-9965-4272062B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5BD2-D738-4CB7-A56A-CA58BE32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2599-C893-4E31-9BB1-10FCC7DC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93E4-E9B1-4D8C-8B38-57CBCE6D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D86F0-6E02-43AF-8C4D-1B06A02F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E4F03-3CD1-49D3-A0A8-6715DED4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190AC-639E-482D-98A8-2DDDB548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D627C-1B1C-4B27-8679-729999FC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412F3-2F8F-4726-8170-626F4E6E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758-A21A-431D-A19F-8CAF1D08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E16A7-5E81-4D1A-965C-30A93DB5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044F5-0303-4A01-ABD4-A59B3496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07DF2-8E15-4B30-B554-27131FA3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A595C-CAF1-4CAE-8ECB-24C32348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9264B-F1E9-4750-B4A9-9A0A5CB0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8D98E-31C7-40F6-976F-B4DABA95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17786-9471-4821-8C1A-DC4F078E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40E86-01A6-4F54-BE55-A193E840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56724-EF33-4870-B9A3-D9219030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BBC7F-73D9-4D19-966C-F4EC5EE9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AFD5-831F-4C3F-8857-EB089565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EC4D7-399B-45DC-BB0D-5AE39974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03A88-7E87-4C3F-9911-11EFD1AF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CEE2B-67BF-4340-8920-9A943D62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FFDCA-6278-4070-94DF-41597EEE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BFB6A-596D-4853-BC0B-B814811B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A764B-979A-49C5-BEE8-9A2B44C0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460CD-5B89-4522-B787-EC194528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B3BCD-2581-42D7-9366-28066651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0AD2D-35E0-4ED1-867E-75B8FA94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E00C4-2953-4ADF-AE97-55519652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C50-9336-47AD-B7C8-02C8E141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0FF81-C56D-426A-8299-16D2B72F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95DF1-6479-4021-98D8-D8210769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CEB40-5028-461E-80CA-A894E9CD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C3172-8B4A-406D-B532-40F2D154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3AD79-B46B-45B2-9D49-BB229800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993A3-7DF0-435D-A05E-5AD2CBA4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875C8-83FA-41C4-92A7-6777949E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00336-0580-4668-9F8B-87A471AE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6754E-ECDA-4180-BEB2-F7E105BE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10FEE-8327-4A25-8F55-DB340ABA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1D8-8C0E-40D6-AA0F-DEB0E455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FEED5-8B95-48E5-B2F5-CFCE96DC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62D-41F0-4D4F-BD0D-7626EC97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F30-2369-4968-AC76-FFBE7731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BA7-9E94-491C-90CC-9AFC25FF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33B5-7267-4E14-8BD4-00F72D0B1496}" type="slidenum">
              <a:rPr b="0" lang="ru-RU" sz="1200" spc="-1" strike="noStrike">
                <a:solidFill>
                  <a:srgbClr val="dfe6d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0CE0-E29E-4695-A90F-C5E2410E6E93}" type="slidenum">
              <a:rPr b="0" lang="ru-RU" sz="1200" spc="-1" strike="noStrike">
                <a:solidFill>
                  <a:srgbClr val="dfe6d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5A05-BBD8-4397-BFA6-789BB67DB00D}" type="slidenum">
              <a:rPr b="0" lang="ru-RU" sz="1200" spc="-1" strike="noStrike">
                <a:solidFill>
                  <a:srgbClr val="1d36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2E9F-2DE4-43F1-9537-FFE3730FED86}" type="slidenum">
              <a:rPr b="0" lang="ru-RU" sz="1200" spc="-1" strike="noStrike">
                <a:solidFill>
                  <a:srgbClr val="dfe6d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49DE-33A8-4ACB-95D0-2AF473F7D8CB}" type="slidenum">
              <a:rPr b="0" lang="ru-RU" sz="1200" spc="-1" strike="noStrike">
                <a:solidFill>
                  <a:srgbClr val="dfe6d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image" Target="../media/image36.gif"/><Relationship Id="rId6" Type="http://schemas.openxmlformats.org/officeDocument/2006/relationships/image" Target="../media/image34.gif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ards.mail.ru/cardedit.html?tid=4530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3255840" y="403200"/>
            <a:ext cx="5648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Он и весел и незлобе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Этот милый чудачо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С ним хозяин – мальчик Роб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И приятель – Пятач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Для него прогулка – праздн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И на мёд особый ню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Это плюшевый проказ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Медвежонок 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 rot="21277200">
            <a:off x="4085280" y="4672080"/>
            <a:ext cx="27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99"/>
                </a:solidFill>
                <a:latin typeface="Bookman Old Style"/>
              </a:rPr>
              <a:t>Винни - Пу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C:\Users\User\Desktop\winnie-the-pooh_1.jpg"/>
          <p:cNvPicPr/>
          <p:nvPr/>
        </p:nvPicPr>
        <p:blipFill>
          <a:blip r:embed="rId1"/>
          <a:stretch/>
        </p:blipFill>
        <p:spPr>
          <a:xfrm>
            <a:off x="324000" y="1197000"/>
            <a:ext cx="29318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Американский</a:t>
            </a:r>
            <a:r>
              <a:rPr b="1" lang="ru-RU" sz="2400" spc="-1" strike="noStrike">
                <a:solidFill>
                  <a:srgbClr val="9b950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2"/>
          <a:stretch/>
        </p:blipFill>
        <p:spPr>
          <a:xfrm>
            <a:off x="457200" y="2535120"/>
            <a:ext cx="4040280" cy="32306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Русский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27" name="Picture 3" descr=""/>
          <p:cNvPicPr/>
          <p:nvPr/>
        </p:nvPicPr>
        <p:blipFill>
          <a:blip r:embed="rId3"/>
          <a:stretch/>
        </p:blipFill>
        <p:spPr>
          <a:xfrm>
            <a:off x="4645080" y="2519280"/>
            <a:ext cx="40417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4"/>
          <p:cNvSpPr/>
          <p:nvPr/>
        </p:nvSpPr>
        <p:spPr>
          <a:xfrm rot="21344400">
            <a:off x="1476360" y="873000"/>
            <a:ext cx="72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Книжки о медвежонке Пухе были переведены на </a:t>
            </a:r>
            <a:r>
              <a:rPr b="0" lang="ru-RU" sz="2400" spc="-1" strike="noStrike">
                <a:solidFill>
                  <a:srgbClr val="cc0099"/>
                </a:solidFill>
                <a:latin typeface="Arial Black"/>
              </a:rPr>
              <a:t>25 языков 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и заняли свое место в сердцах и на полках миллионов читателей.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5" descr="930527756"/>
          <p:cNvPicPr/>
          <p:nvPr/>
        </p:nvPicPr>
        <p:blipFill>
          <a:blip r:embed="rId1"/>
          <a:stretch/>
        </p:blipFill>
        <p:spPr>
          <a:xfrm rot="21319200">
            <a:off x="1258920" y="2491920"/>
            <a:ext cx="1299960" cy="194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30" name="Picture 6" descr="930527757"/>
          <p:cNvPicPr/>
          <p:nvPr/>
        </p:nvPicPr>
        <p:blipFill>
          <a:blip r:embed="rId2"/>
          <a:stretch/>
        </p:blipFill>
        <p:spPr>
          <a:xfrm rot="21256800">
            <a:off x="6588000" y="1989000"/>
            <a:ext cx="1282680" cy="1943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31" name="Picture 7" descr="1000444745"/>
          <p:cNvPicPr/>
          <p:nvPr/>
        </p:nvPicPr>
        <p:blipFill>
          <a:blip r:embed="rId3"/>
          <a:stretch/>
        </p:blipFill>
        <p:spPr>
          <a:xfrm rot="21254400">
            <a:off x="2987280" y="2349360"/>
            <a:ext cx="1505160" cy="201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32" name="Picture 11" descr="1000607618"/>
          <p:cNvPicPr/>
          <p:nvPr/>
        </p:nvPicPr>
        <p:blipFill>
          <a:blip r:embed="rId4"/>
          <a:stretch/>
        </p:blipFill>
        <p:spPr>
          <a:xfrm rot="21290400">
            <a:off x="4787640" y="2133720"/>
            <a:ext cx="1473120" cy="194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33" name="Picture 12" descr="1000583341"/>
          <p:cNvPicPr/>
          <p:nvPr/>
        </p:nvPicPr>
        <p:blipFill>
          <a:blip r:embed="rId5"/>
          <a:stretch/>
        </p:blipFill>
        <p:spPr>
          <a:xfrm rot="21280200">
            <a:off x="6300720" y="3716280"/>
            <a:ext cx="1548000" cy="2019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34" name="Picture 13" descr="1000484471"/>
          <p:cNvPicPr/>
          <p:nvPr/>
        </p:nvPicPr>
        <p:blipFill>
          <a:blip r:embed="rId6"/>
          <a:stretch/>
        </p:blipFill>
        <p:spPr>
          <a:xfrm rot="21207000">
            <a:off x="2916000" y="4076280"/>
            <a:ext cx="1520640" cy="201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35" name="Picture 14" descr="1000620665"/>
          <p:cNvPicPr/>
          <p:nvPr/>
        </p:nvPicPr>
        <p:blipFill>
          <a:blip r:embed="rId7"/>
          <a:stretch/>
        </p:blipFill>
        <p:spPr>
          <a:xfrm rot="21231000">
            <a:off x="4643280" y="3860640"/>
            <a:ext cx="1455840" cy="201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056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4"/>
          <p:cNvSpPr/>
          <p:nvPr/>
        </p:nvSpPr>
        <p:spPr>
          <a:xfrm>
            <a:off x="900000" y="1016280"/>
            <a:ext cx="71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     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В </a:t>
            </a:r>
            <a:r>
              <a:rPr b="1" lang="ru-RU" sz="2400" spc="-1" strike="noStrike">
                <a:solidFill>
                  <a:srgbClr val="cc0099"/>
                </a:solidFill>
                <a:latin typeface="Arial Black"/>
              </a:rPr>
              <a:t>1985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году, Винни-Пух был блистательно переведен на русский язык </a:t>
            </a:r>
            <a:r>
              <a:rPr b="1" lang="ru-RU" sz="2400" spc="-1" strike="noStrike">
                <a:solidFill>
                  <a:srgbClr val="cc0099"/>
                </a:solidFill>
                <a:latin typeface="Arial Black"/>
              </a:rPr>
              <a:t>Борисом Заходером</a:t>
            </a: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.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Всякий, кто владеет двумя языками, может подтвердить, что перевод был сделан с изощренной точностью и гениальной изобретательностью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6" descr="zahoder1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5292720" y="3141720"/>
            <a:ext cx="2664000" cy="3240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4" descr="77"/>
          <p:cNvPicPr/>
          <p:nvPr/>
        </p:nvPicPr>
        <p:blipFill>
          <a:blip r:embed="rId1"/>
          <a:stretch/>
        </p:blipFill>
        <p:spPr>
          <a:xfrm rot="21343800">
            <a:off x="5867280" y="620640"/>
            <a:ext cx="2136960" cy="2521080"/>
          </a:xfrm>
          <a:prstGeom prst="rect">
            <a:avLst/>
          </a:prstGeom>
          <a:ln w="0">
            <a:noFill/>
          </a:ln>
        </p:spPr>
      </p:pic>
      <p:sp>
        <p:nvSpPr>
          <p:cNvPr id="440" name="WordArt 5"/>
          <p:cNvSpPr txBox="1"/>
          <p:nvPr/>
        </p:nvSpPr>
        <p:spPr>
          <a:xfrm rot="21295200">
            <a:off x="1476360" y="1628280"/>
            <a:ext cx="381312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.Хитрука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Text Box 6"/>
          <p:cNvSpPr/>
          <p:nvPr/>
        </p:nvSpPr>
        <p:spPr>
          <a:xfrm rot="21320400">
            <a:off x="1688760" y="907560"/>
            <a:ext cx="340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Мультфиль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 rot="21320400">
            <a:off x="970920" y="2414160"/>
            <a:ext cx="48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нят по сценарию Бориса Заходера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 rot="21320400">
            <a:off x="2771640" y="3500280"/>
            <a:ext cx="5521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 нём много песенок Винни-Пуха. Их придумал Борис Заходе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AVSEQ02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280200"/>
          </a:xfrm>
          <a:prstGeom prst="rect">
            <a:avLst/>
          </a:prstGeom>
          <a:ln w="0">
            <a:noFill/>
          </a:ln>
        </p:spPr>
      </p:pic>
      <p:pic>
        <p:nvPicPr>
          <p:cNvPr id="445" name="Песенка VinniPuha.mp3" descr=""/>
          <p:cNvPicPr/>
          <p:nvPr/>
        </p:nvPicPr>
        <p:blipFill>
          <a:blip r:embed="rId2"/>
          <a:stretch/>
        </p:blipFill>
        <p:spPr>
          <a:xfrm>
            <a:off x="44197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1222"/>
          <p:cNvPicPr/>
          <p:nvPr/>
        </p:nvPicPr>
        <p:blipFill>
          <a:blip r:embed="rId3"/>
          <a:stretch/>
        </p:blipFill>
        <p:spPr>
          <a:xfrm>
            <a:off x="5292720" y="2565360"/>
            <a:ext cx="2521080" cy="2521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puh"/>
          <p:cNvPicPr/>
          <p:nvPr/>
        </p:nvPicPr>
        <p:blipFill>
          <a:blip r:embed="rId4"/>
          <a:stretch/>
        </p:blipFill>
        <p:spPr>
          <a:xfrm flipH="1">
            <a:off x="5580000" y="2565360"/>
            <a:ext cx="2232000" cy="23763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avatar-1182239088"/>
          <p:cNvPicPr/>
          <p:nvPr/>
        </p:nvPicPr>
        <p:blipFill>
          <a:blip r:embed="rId5"/>
          <a:stretch/>
        </p:blipFill>
        <p:spPr>
          <a:xfrm>
            <a:off x="5219640" y="2565360"/>
            <a:ext cx="2737080" cy="27367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1222"/>
          <p:cNvPicPr/>
          <p:nvPr/>
        </p:nvPicPr>
        <p:blipFill>
          <a:blip r:embed="rId6"/>
          <a:stretch/>
        </p:blipFill>
        <p:spPr>
          <a:xfrm>
            <a:off x="5219640" y="256536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Леонов"/>
          <p:cNvPicPr/>
          <p:nvPr/>
        </p:nvPicPr>
        <p:blipFill>
          <a:blip r:embed="rId7"/>
          <a:stretch/>
        </p:blipFill>
        <p:spPr>
          <a:xfrm>
            <a:off x="1692360" y="692280"/>
            <a:ext cx="3755880" cy="381636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9"/>
          <p:cNvSpPr/>
          <p:nvPr/>
        </p:nvSpPr>
        <p:spPr>
          <a:xfrm>
            <a:off x="1116000" y="51577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Евгений Леон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1926-199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Picture 10" descr="i_cale-sent2006_2"/>
          <p:cNvPicPr/>
          <p:nvPr/>
        </p:nvPicPr>
        <p:blipFill>
          <a:blip r:embed="rId8"/>
          <a:stretch/>
        </p:blipFill>
        <p:spPr>
          <a:xfrm>
            <a:off x="826920" y="2852640"/>
            <a:ext cx="1740240" cy="2303640"/>
          </a:xfrm>
          <a:prstGeom prst="rect">
            <a:avLst/>
          </a:prstGeom>
          <a:ln w="0">
            <a:noFill/>
          </a:ln>
        </p:spPr>
      </p:pic>
      <p:pic>
        <p:nvPicPr>
          <p:cNvPr id="453" name="Песенка VinniPuha.mp3" descr=""/>
          <p:cNvPicPr/>
          <p:nvPr/>
        </p:nvPicPr>
        <p:blipFill>
          <a:blip r:embed="rId9"/>
          <a:stretch/>
        </p:blipFill>
        <p:spPr>
          <a:xfrm>
            <a:off x="8028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57051" fill="hold"/>
                                        <p:tgtEl>
                                          <p:spTgt spid="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142024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4"/>
          <p:cNvSpPr/>
          <p:nvPr/>
        </p:nvSpPr>
        <p:spPr>
          <a:xfrm rot="21320400">
            <a:off x="945360" y="443520"/>
            <a:ext cx="7319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Прежде чем читать песенки, давайте послушаем, как исполняет их «наш» Винни – Пух – артист </a:t>
            </a:r>
            <a:r>
              <a:rPr b="1" lang="ru-RU" sz="4000" spc="-1" strike="noStrike">
                <a:solidFill>
                  <a:srgbClr val="ffc000"/>
                </a:solidFill>
                <a:latin typeface="Bookman Old Style"/>
              </a:rPr>
              <a:t>Евгений Леонов</a:t>
            </a: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6" descr="Евгений Леонов">
            <a:hlinkClick r:id="rId1"/>
          </p:cNvPr>
          <p:cNvPicPr/>
          <p:nvPr/>
        </p:nvPicPr>
        <p:blipFill>
          <a:blip r:embed="rId2"/>
          <a:stretch/>
        </p:blipFill>
        <p:spPr>
          <a:xfrm rot="21269400">
            <a:off x="4571640" y="4005360"/>
            <a:ext cx="1887480" cy="1887480"/>
          </a:xfrm>
          <a:prstGeom prst="rect">
            <a:avLst/>
          </a:prstGeom>
          <a:ln w="0">
            <a:noFill/>
          </a:ln>
        </p:spPr>
      </p:pic>
      <p:sp>
        <p:nvSpPr>
          <p:cNvPr id="456" name="AutoShape 8"/>
          <p:cNvSpPr/>
          <p:nvPr/>
        </p:nvSpPr>
        <p:spPr>
          <a:xfrm rot="21360600">
            <a:off x="3276720" y="4508280"/>
            <a:ext cx="4535280" cy="865080"/>
          </a:xfrm>
          <a:prstGeom prst="wedgeRoundRectCallout">
            <a:avLst>
              <a:gd name="adj1" fmla="val 58240"/>
              <a:gd name="adj2" fmla="val -17930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Bookman Old Style"/>
              </a:rPr>
              <a:t>Как называет свои песенки Винни – П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1"/>
          <a:stretch/>
        </p:blipFill>
        <p:spPr>
          <a:xfrm>
            <a:off x="563400" y="649440"/>
            <a:ext cx="8017200" cy="60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1041480" y="189000"/>
            <a:ext cx="7059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WordArt 4"/>
          <p:cNvSpPr txBox="1"/>
          <p:nvPr/>
        </p:nvSpPr>
        <p:spPr>
          <a:xfrm>
            <a:off x="1403280" y="476280"/>
            <a:ext cx="556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сенка вторая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2919600" y="9079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есенка – загад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3579840" y="1413000"/>
            <a:ext cx="556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уда идё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ы с пятачком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льшой-большой секр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 не расскажем мы о нё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а-д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Верней, нет-нет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чем шагаем мы вдвоё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куда и куд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екретов мы не выдаё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т – нет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Верней, да-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7"/>
          <p:cNvSpPr/>
          <p:nvPr/>
        </p:nvSpPr>
        <p:spPr>
          <a:xfrm rot="21360600">
            <a:off x="3805200" y="5457600"/>
            <a:ext cx="4535640" cy="865080"/>
          </a:xfrm>
          <a:prstGeom prst="wedgeRoundRectCallout">
            <a:avLst>
              <a:gd name="adj1" fmla="val 58240"/>
              <a:gd name="adj2" fmla="val -17930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Bookman Old Style"/>
              </a:rPr>
              <a:t>Что смешного в этой песен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6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287964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4"/>
          <p:cNvSpPr txBox="1"/>
          <p:nvPr/>
        </p:nvSpPr>
        <p:spPr>
          <a:xfrm rot="21328200">
            <a:off x="1835280" y="1267920"/>
            <a:ext cx="5472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f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сенка третья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00b0f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5" name="AutoShape 5"/>
          <p:cNvSpPr/>
          <p:nvPr/>
        </p:nvSpPr>
        <p:spPr>
          <a:xfrm rot="21360600">
            <a:off x="3276720" y="4508280"/>
            <a:ext cx="4535280" cy="865080"/>
          </a:xfrm>
          <a:prstGeom prst="wedgeRoundRectCallout">
            <a:avLst>
              <a:gd name="adj1" fmla="val 58240"/>
              <a:gd name="adj2" fmla="val -17930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Bookman Old Style"/>
              </a:rPr>
              <a:t>Почему надо ходить в гости по утра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 rot="21388800">
            <a:off x="1659960" y="232524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Прочитайте песенку самостоя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Bookman Old Style"/>
              </a:rPr>
              <a:t>Стр. 1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5"/>
          <p:cNvSpPr/>
          <p:nvPr/>
        </p:nvSpPr>
        <p:spPr>
          <a:xfrm>
            <a:off x="1401840" y="1817640"/>
            <a:ext cx="698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Приготовьте выразительное чтение песенок. Может быт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кто- нибудь может спеть одну из ни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Bookman Old Style"/>
              </a:rPr>
              <a:t>Стр. 136 - 13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WordArt 6"/>
          <p:cNvSpPr txBox="1"/>
          <p:nvPr/>
        </p:nvSpPr>
        <p:spPr>
          <a:xfrm rot="21280800">
            <a:off x="1692360" y="1125000"/>
            <a:ext cx="5904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9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4"/>
          <p:cNvSpPr txBox="1"/>
          <p:nvPr/>
        </p:nvSpPr>
        <p:spPr>
          <a:xfrm rot="21280800">
            <a:off x="1692360" y="907560"/>
            <a:ext cx="5904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Text Box 5"/>
          <p:cNvSpPr/>
          <p:nvPr/>
        </p:nvSpPr>
        <p:spPr>
          <a:xfrm rot="21346200">
            <a:off x="2637360" y="1266840"/>
            <a:ext cx="598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Кто же сочинил песенки Винни-Пух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А.Милн или Б.Заходер? Заче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Заголовок 5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" descr=""/>
          <p:cNvPicPr/>
          <p:nvPr/>
        </p:nvPicPr>
        <p:blipFill>
          <a:blip r:embed="rId2"/>
          <a:stretch/>
        </p:blipFill>
        <p:spPr>
          <a:xfrm>
            <a:off x="5634000" y="3213000"/>
            <a:ext cx="2305080" cy="33148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"/>
          <p:cNvPicPr/>
          <p:nvPr/>
        </p:nvPicPr>
        <p:blipFill>
          <a:blip r:embed="rId3"/>
          <a:stretch/>
        </p:blipFill>
        <p:spPr>
          <a:xfrm rot="21118800">
            <a:off x="539640" y="3213000"/>
            <a:ext cx="230364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7" descr="smile4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76" name="Весёлые дети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На переменке мы кричим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Весело и звонко.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Мы «Кричалку» сочиним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Так, чтоб было громко.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Нам учитель не даёт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Накричаться вволю.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н на нас сам так орёт!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лышно по всей школе.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9900"/>
                </a:solidFill>
                <a:latin typeface="Calibri"/>
              </a:rPr>
              <a:t>Кто ж из нас шумней, друзья?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9900"/>
                </a:solidFill>
                <a:latin typeface="Calibri"/>
              </a:rPr>
              <a:t>Мы или </a:t>
            </a:r>
            <a:r>
              <a:rPr b="0" lang="ru-RU" sz="2000" spc="-1" strike="noStrike">
                <a:solidFill>
                  <a:srgbClr val="dfe6d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Calibri"/>
              </a:rPr>
              <a:t>учитель?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9900"/>
                </a:solidFill>
                <a:latin typeface="Calibri"/>
              </a:rPr>
              <a:t>А  на слух узнать нельзя.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9900"/>
                </a:solidFill>
                <a:latin typeface="Calibri"/>
              </a:rPr>
              <a:t>Нужен звука измеритель.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e6d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dfe6d0"/>
                </a:solidFill>
                <a:latin typeface="Calibri"/>
              </a:rPr>
              <a:t>Слова для справок: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кричим</a:t>
            </a:r>
            <a:r>
              <a:rPr b="0" lang="ru-RU" sz="2000" spc="-1" strike="noStrike">
                <a:solidFill>
                  <a:srgbClr val="dfe6d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не даёт</a:t>
            </a:r>
            <a:r>
              <a:rPr b="0" lang="ru-RU" sz="2000" spc="-1" strike="noStrike">
                <a:solidFill>
                  <a:srgbClr val="dfe6d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9900"/>
                </a:solidFill>
                <a:latin typeface="Calibri"/>
              </a:rPr>
              <a:t>друзья</a:t>
            </a:r>
            <a:r>
              <a:rPr b="0" lang="ru-RU" sz="2000" spc="-1" strike="noStrike">
                <a:solidFill>
                  <a:srgbClr val="dfe6d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звонко</a:t>
            </a:r>
            <a:r>
              <a:rPr b="0" lang="ru-RU" sz="2000" spc="-1" strike="noStrike">
                <a:solidFill>
                  <a:srgbClr val="dfe6d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вволю</a:t>
            </a:r>
            <a:r>
              <a:rPr b="0" lang="ru-RU" sz="2000" spc="-1" strike="noStrike">
                <a:solidFill>
                  <a:srgbClr val="dfe6d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9900"/>
                </a:solidFill>
                <a:latin typeface="Calibri"/>
              </a:rPr>
              <a:t>учитель</a:t>
            </a:r>
            <a:r>
              <a:rPr b="0" lang="ru-RU" sz="2000" spc="-1" strike="noStrike">
                <a:solidFill>
                  <a:srgbClr val="dfe6d0"/>
                </a:solidFill>
                <a:latin typeface="Calibri"/>
              </a:rPr>
              <a:t>,       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сочиним</a:t>
            </a:r>
            <a:r>
              <a:rPr b="0" lang="ru-RU" sz="2000" spc="-1" strike="noStrike">
                <a:solidFill>
                  <a:srgbClr val="dfe6d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рёт</a:t>
            </a:r>
            <a:r>
              <a:rPr b="0" lang="ru-RU" sz="2000" spc="-1" strike="noStrike">
                <a:solidFill>
                  <a:srgbClr val="dfe6d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9900"/>
                </a:solidFill>
                <a:latin typeface="Calibri"/>
              </a:rPr>
              <a:t>нельзя</a:t>
            </a:r>
            <a:r>
              <a:rPr b="0" lang="ru-RU" sz="2000" spc="-1" strike="noStrike">
                <a:solidFill>
                  <a:srgbClr val="dfe6d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громко</a:t>
            </a:r>
            <a:r>
              <a:rPr b="0" lang="ru-RU" sz="2000" spc="-1" strike="noStrike">
                <a:solidFill>
                  <a:srgbClr val="dfe6d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школе</a:t>
            </a:r>
            <a:r>
              <a:rPr b="0" lang="ru-RU" sz="2000" spc="-1" strike="noStrike">
                <a:solidFill>
                  <a:srgbClr val="dfe6d0"/>
                </a:solidFill>
                <a:latin typeface="Calibri"/>
              </a:rPr>
              <a:t>,   </a:t>
            </a:r>
            <a:r>
              <a:rPr b="0" lang="ru-RU" sz="2000" spc="-1" strike="noStrike">
                <a:solidFill>
                  <a:srgbClr val="009900"/>
                </a:solidFill>
                <a:latin typeface="Calibri"/>
              </a:rPr>
              <a:t>измеритель</a:t>
            </a:r>
            <a:r>
              <a:rPr b="0" lang="ru-RU" sz="2000" spc="-1" strike="noStrike">
                <a:solidFill>
                  <a:srgbClr val="dfe6d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78" name="Rectangle 12"/>
          <p:cNvSpPr/>
          <p:nvPr/>
        </p:nvSpPr>
        <p:spPr>
          <a:xfrm>
            <a:off x="2700360" y="476280"/>
            <a:ext cx="934920" cy="288720"/>
          </a:xfrm>
          <a:prstGeom prst="rect">
            <a:avLst/>
          </a:prstGeom>
          <a:solidFill>
            <a:srgbClr val="759a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13"/>
          <p:cNvSpPr/>
          <p:nvPr/>
        </p:nvSpPr>
        <p:spPr>
          <a:xfrm>
            <a:off x="1697040" y="857160"/>
            <a:ext cx="863640" cy="289080"/>
          </a:xfrm>
          <a:prstGeom prst="rect">
            <a:avLst/>
          </a:prstGeom>
          <a:solidFill>
            <a:srgbClr val="759a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14"/>
          <p:cNvSpPr/>
          <p:nvPr/>
        </p:nvSpPr>
        <p:spPr>
          <a:xfrm>
            <a:off x="2467080" y="1197000"/>
            <a:ext cx="1008000" cy="287280"/>
          </a:xfrm>
          <a:prstGeom prst="rect">
            <a:avLst/>
          </a:prstGeom>
          <a:solidFill>
            <a:srgbClr val="759a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15"/>
          <p:cNvSpPr/>
          <p:nvPr/>
        </p:nvSpPr>
        <p:spPr>
          <a:xfrm>
            <a:off x="2303640" y="1484280"/>
            <a:ext cx="863280" cy="287280"/>
          </a:xfrm>
          <a:prstGeom prst="rect">
            <a:avLst/>
          </a:prstGeom>
          <a:solidFill>
            <a:srgbClr val="759a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16"/>
          <p:cNvSpPr/>
          <p:nvPr/>
        </p:nvSpPr>
        <p:spPr>
          <a:xfrm>
            <a:off x="3747960" y="1919160"/>
            <a:ext cx="93672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17"/>
          <p:cNvSpPr/>
          <p:nvPr/>
        </p:nvSpPr>
        <p:spPr>
          <a:xfrm>
            <a:off x="3543480" y="2259000"/>
            <a:ext cx="79200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18"/>
          <p:cNvSpPr/>
          <p:nvPr/>
        </p:nvSpPr>
        <p:spPr>
          <a:xfrm>
            <a:off x="4095720" y="2629080"/>
            <a:ext cx="64764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20"/>
          <p:cNvSpPr/>
          <p:nvPr/>
        </p:nvSpPr>
        <p:spPr>
          <a:xfrm>
            <a:off x="3892680" y="2984400"/>
            <a:ext cx="79200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21"/>
          <p:cNvSpPr/>
          <p:nvPr/>
        </p:nvSpPr>
        <p:spPr>
          <a:xfrm>
            <a:off x="2971800" y="3368520"/>
            <a:ext cx="863640" cy="2876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22"/>
          <p:cNvSpPr/>
          <p:nvPr/>
        </p:nvSpPr>
        <p:spPr>
          <a:xfrm>
            <a:off x="1530360" y="3735360"/>
            <a:ext cx="936720" cy="287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23"/>
          <p:cNvSpPr/>
          <p:nvPr/>
        </p:nvSpPr>
        <p:spPr>
          <a:xfrm>
            <a:off x="2467080" y="4091040"/>
            <a:ext cx="865080" cy="288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24"/>
          <p:cNvSpPr/>
          <p:nvPr/>
        </p:nvSpPr>
        <p:spPr>
          <a:xfrm>
            <a:off x="2019240" y="4446720"/>
            <a:ext cx="1438200" cy="285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71546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WordArt 4"/>
          <p:cNvSpPr txBox="1"/>
          <p:nvPr/>
        </p:nvSpPr>
        <p:spPr>
          <a:xfrm rot="21280800">
            <a:off x="1692360" y="907560"/>
            <a:ext cx="5904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 урока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539640" y="2550960"/>
            <a:ext cx="777744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- О каких сказочных человечках мы чита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- Кто вам больше всего понравился? Че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Какую сказку вам захотелось прочитать полность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4"/>
          <p:cNvSpPr txBox="1"/>
          <p:nvPr/>
        </p:nvSpPr>
        <p:spPr>
          <a:xfrm>
            <a:off x="1730520" y="905040"/>
            <a:ext cx="5903640" cy="15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70c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0070c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70c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ние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0070c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1476360" y="31161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man Old Style"/>
              </a:rPr>
              <a:t>Выразительно прочтите стр.134-13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7"/>
          <p:cNvPicPr/>
          <p:nvPr/>
        </p:nvPicPr>
        <p:blipFill>
          <a:blip r:embed="rId1"/>
          <a:stretch/>
        </p:blipFill>
        <p:spPr>
          <a:xfrm>
            <a:off x="4716360" y="907920"/>
            <a:ext cx="3279960" cy="39610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 rot="21327000">
            <a:off x="1115640" y="104904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Шотландец по происхождению,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лан Александр Милн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овел свое детство в Лондоне, где его отец работал в школе.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 rot="21293400">
            <a:off x="971280" y="3428640"/>
            <a:ext cx="4033800" cy="27795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404" name="Rectangle 7"/>
          <p:cNvSpPr/>
          <p:nvPr/>
        </p:nvSpPr>
        <p:spPr>
          <a:xfrm rot="21186000">
            <a:off x="5293080" y="4653000"/>
            <a:ext cx="27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(1882 – 195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2843280" y="4318920"/>
            <a:ext cx="52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В </a:t>
            </a: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1913 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году Милн женился на Дороти Дафне де Селинкот, от этого брака родился один сын, Кристофер</a:t>
            </a:r>
            <a:r>
              <a:rPr b="0" lang="ru-RU" sz="2400" spc="-1" strike="noStrike">
                <a:solidFill>
                  <a:srgbClr val="ffff00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5" descr="222"/>
          <p:cNvPicPr/>
          <p:nvPr/>
        </p:nvPicPr>
        <p:blipFill>
          <a:blip r:embed="rId1"/>
          <a:stretch/>
        </p:blipFill>
        <p:spPr>
          <a:xfrm>
            <a:off x="2916360" y="620640"/>
            <a:ext cx="3600360" cy="3384720"/>
          </a:xfrm>
          <a:prstGeom prst="rect">
            <a:avLst/>
          </a:prstGeom>
          <a:ln w="76320">
            <a:solidFill>
              <a:srgbClr val="cc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128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 rot="21275400">
            <a:off x="1331640" y="1125720"/>
            <a:ext cx="640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   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Два года спустя, в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1926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году появилась первая версия Медвежонка с опилками в голове (по-английски - Медведь-с-очень-маленькими-мозгами)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"Винни-Пух".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3043080" y="1719360"/>
            <a:ext cx="30578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"/>
          <p:cNvSpPr/>
          <p:nvPr/>
        </p:nvSpPr>
        <p:spPr>
          <a:xfrm>
            <a:off x="826920" y="1305360"/>
            <a:ext cx="756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Приключения медвежонка Винни любимы как взрослыми, так и детьми. Проведенный в 1996г. опрос, устроенный английским радио показал, что эта книга заняла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17 место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в списке наиболее ярких и значительных произведений, опубликованных в двадцатом веке.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5" descr="main_img_f"/>
          <p:cNvPicPr/>
          <p:nvPr/>
        </p:nvPicPr>
        <p:blipFill>
          <a:blip r:embed="rId1"/>
          <a:stretch/>
        </p:blipFill>
        <p:spPr>
          <a:xfrm>
            <a:off x="3995640" y="3860640"/>
            <a:ext cx="2808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826560" y="1483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Винни-Пух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2"/>
          <a:stretch/>
        </p:blipFill>
        <p:spPr>
          <a:xfrm>
            <a:off x="644400" y="2174760"/>
            <a:ext cx="3665520" cy="39513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101920" y="1483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ятачок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3"/>
          <a:stretch/>
        </p:blipFill>
        <p:spPr>
          <a:xfrm>
            <a:off x="5275440" y="2174760"/>
            <a:ext cx="27810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6"/>
          <p:cNvSpPr/>
          <p:nvPr/>
        </p:nvSpPr>
        <p:spPr>
          <a:xfrm rot="21304800">
            <a:off x="1459800" y="589320"/>
            <a:ext cx="650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Читая сказку, каждый из вас представлял себе своего медвежонка. По-разному представляют себе главных героев сказки художники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7" descr="33"/>
          <p:cNvPicPr/>
          <p:nvPr/>
        </p:nvPicPr>
        <p:blipFill>
          <a:blip r:embed="rId1"/>
          <a:stretch/>
        </p:blipFill>
        <p:spPr>
          <a:xfrm rot="21285000">
            <a:off x="3638520" y="2488680"/>
            <a:ext cx="1676520" cy="1731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8" descr="0174"/>
          <p:cNvPicPr/>
          <p:nvPr/>
        </p:nvPicPr>
        <p:blipFill>
          <a:blip r:embed="rId2"/>
          <a:stretch/>
        </p:blipFill>
        <p:spPr>
          <a:xfrm rot="21160800">
            <a:off x="5963760" y="2188800"/>
            <a:ext cx="1859040" cy="2038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9" descr="4"/>
          <p:cNvPicPr/>
          <p:nvPr/>
        </p:nvPicPr>
        <p:blipFill>
          <a:blip r:embed="rId3"/>
          <a:stretch/>
        </p:blipFill>
        <p:spPr>
          <a:xfrm rot="21217200">
            <a:off x="3930480" y="4366800"/>
            <a:ext cx="1501920" cy="20350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0" descr="6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5796000" y="4290840"/>
            <a:ext cx="1876320" cy="2189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1000444745"/>
          <p:cNvPicPr/>
          <p:nvPr/>
        </p:nvPicPr>
        <p:blipFill>
          <a:blip r:embed="rId5"/>
          <a:stretch/>
        </p:blipFill>
        <p:spPr>
          <a:xfrm rot="21239400">
            <a:off x="1438200" y="2736360"/>
            <a:ext cx="187344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8:12:58Z</dcterms:created>
  <dc:creator>user</dc:creator>
  <dc:description/>
  <dc:language>en-US</dc:language>
  <cp:lastModifiedBy>Владимир</cp:lastModifiedBy>
  <dcterms:modified xsi:type="dcterms:W3CDTF">2020-04-12T19:23:35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190000000000010243100207f6000400038000</vt:lpwstr>
  </property>
</Properties>
</file>