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29E-1D4A-4B39-9ED8-39E3F3F7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5D0-4B67-470D-99B9-B0943175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1247-E43A-48A3-8EEE-7625A063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73E-5E73-490B-8A3B-64D05514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A4C-9D62-4A96-B7B3-38E70887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463-CA89-486D-B09F-EA10EF5B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489-9409-47B4-8F69-E3F29FF2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D9F-F169-4CA0-8DA0-34A18DC8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148-60F0-4404-8908-491F04FB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05C-EBF7-4AAB-86E8-1E66AC2A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AA4-EF70-4CBB-8AA3-8972123F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D68-EA2F-4E0D-B366-4C7696AA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361C-4AC7-4E16-A5EB-17D8E1F11D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аст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56920"/>
            <a:ext cx="640080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-это служебная часть речи, которая придает различные дополнительные смысловые оттенки словам и предложениям или служит для образования формы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рица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лужат для выражения отрица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, ни, нет, отнюдь не, вовсе не, далеко 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амостоятельность, чувство свободы и личная инициатива в наук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меньше нужны, чем, например, в искусстве или торговле (А. Чех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 неб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обла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астица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т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обычно употребляется при отрицательном ответе на вопрос и отделяется запятой: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«Так вы приедете к нам?» – «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ет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, не приеду» (Л. Толстой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астицу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ет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отрицательный ответ на вопрос) необходимо отличать от слова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ет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являющегося сказуемым в безличном предложении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а поле уже нет снега, а в лесу ещё ес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тверди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лужат для выражения утверждения и отделяются запятым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а, точно, т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Уж женат?» – «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третий год пошел с Филипповок» (Л. Толсто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равни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употребляются при сказуемо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ак, словно, будто, как будто, точн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убровский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ак будт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чнулся от усыпления (А. Пушкин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пелая рож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ак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золотистое мо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склица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то за, как, 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лутовка к дереву на цыпочках подходит, вертит хвостом, с Вороны глаз не сводит и говорит так сладко, чуть дыша: «Голубушка, как хороша!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у чт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а шейка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то з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лазки!» (И. Крыл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Тебе, Казбек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страж востока, принес я, странник, свой поклон (М. Лермонт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ообразующие част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ужат для образования грамматических форм сло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13840" y="285840"/>
            <a:ext cx="2521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Условного наклонения г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Бы(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б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авеки забыл кабаки и стихи 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бы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писать забросил, только 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тонко касаться руки и волос твоих цветом в осень (С. Есени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2"/>
          <p:cNvSpPr/>
          <p:nvPr/>
        </p:nvSpPr>
        <p:spPr>
          <a:xfrm>
            <a:off x="3143160" y="357120"/>
            <a:ext cx="259236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Повелит. наклонения гл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ыва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авай(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усть(пуска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уска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толпа растопчет мой венец: венец певца, венец терновый (М. Лермонт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4"/>
          <p:cNvSpPr/>
          <p:nvPr/>
        </p:nvSpPr>
        <p:spPr>
          <a:xfrm>
            <a:off x="6012000" y="500040"/>
            <a:ext cx="2592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епень сравнения прилагательных и нареч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ол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ен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ибол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имен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ам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астицы необходимо отличать от других частей речи, например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Мы работаем в будни и в выходные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Союз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вязывает однородные чл. предложения.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Ты работаешь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в воскресенье!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Усилительная частица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Ты работаешь даже в воскресенье!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м необходимо точно определить местоположение объект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Наречи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точно;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еобходимо определить (как?) точно.)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сё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точно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замерло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(Сравнительная частица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точно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употребляется при сказуемом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происхождению частицы часто связаны с другими частями ре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, 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р. – с союз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о, себе, эт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р. – с местоимени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авай, бывал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р. – с глагол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цы не являются членами предложения, однако могут входить в состав членов предлож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 любв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требуют поруки, с нею знают радость и беду (С. Есенин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ификация части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яют два основных разряда части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мыслов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ообразующ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мысловые част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ужат для придания словам и предложениям различных дополнительных смысловых оттенков, наприме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каза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обычно указывают на предметы, явлени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Вон, вот, это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Вот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лещик, потроха,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вот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стерляди кусочек (И. Крылов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«Так поправее ракиты, Фёдор Филиппыч,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вон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там-то», - говорит ему кто-то (Л. Толстой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фессия врача –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подвиг, она требует самоотвержения, чистоты души и чистоты помыслов (А. Чехов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точняющ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лужат для уточнения какого-то слова или выраж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менно, почти, точно, как раз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атушк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чт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не обращала на меня внимания (И. Тургене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делительно-ограничи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ридают слову или группе слов ограничительный оттено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олько, всего, лишь, исключительно, всего-навс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комнате осталис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ольк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хозяин да Сергей Николаевич, да Владимир Петрови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или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одчеркивают определённые сл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аже, ведь, же, и, даже и, ни, уж, всё, всё-таки, -т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аж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приказчик издал какой-то неодобрительный звук (Л. Толсто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Однако плохо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ж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кормят тебя твои хозяева!» – говорил незнакомец, глядя, с какой свирепой жадностью Каштанка глотала неразжёванные куски (А. Чех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и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употребляются в вопросительных предложениях и служат для выражения вопро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зве, ли, неужели, ужель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зв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я могу сомневаться в этом? (л. Толсто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2T11:12:24Z</dcterms:created>
  <dc:creator>admin</dc:creator>
  <dc:description/>
  <dc:language>en-US</dc:language>
  <cp:lastModifiedBy>admin</cp:lastModifiedBy>
  <dcterms:modified xsi:type="dcterms:W3CDTF">2020-04-12T11:26:33Z</dcterms:modified>
  <cp:revision>2</cp:revision>
  <dc:subject/>
  <dc:title>Частица</dc:title>
</cp:coreProperties>
</file>