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FAA4-E301-4C1C-97A4-A8D46D110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AB28-2FF0-4A03-8F12-29985A692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6FB9-6348-4728-A5F1-D5AA69AF5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CE49-7DD7-4AD8-B9C1-28998A782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9759-9D9F-4D49-93E8-D848D48F7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36B9-AF60-4D18-94EE-0026D978A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005E-D6CC-4A38-9E0A-182749296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39BC-8107-4FAE-9019-E2B2EE072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9318-6A66-4A40-A5FD-7C6DDC215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9D20-1403-4240-B928-B88869553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36D6-2705-42D7-A532-8550A4C5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9322-E5AE-4D60-A135-120C30768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9E83F-654A-4998-AACD-96E751DEC7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499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астиц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356920"/>
            <a:ext cx="6400800" cy="32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-это служебная часть речи, которая придает различные дополнительные смысловые оттенки словам и предложениям или служит для образования формы сло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рицательны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служат для выражения отрицания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Не, ни, нет, отнюдь не, вовсе не, далеко 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Самостоятельность, чувство свободы и личная инициатива в науке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меньше нужны, чем, например, в искусстве или торговле (А. Чехов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На небе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ни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облач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Частица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нет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обычно употребляется при отрицательном ответе на вопрос и отделяется запятой: 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«Так вы приедете к нам?» – «</a:t>
            </a: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Нет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, не приеду» (Л. Толстой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Частицу </a:t>
            </a: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нет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(отрицательный ответ на вопрос) необходимо отличать от слова 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нет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, являющегося сказуемым в безличном предложении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На поле уже нет снега, а в лесу ещё есть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твердительны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служат для выражения утверждения и отделяются запятым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Да, точно, та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«Уж женат?» – «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, третий год пошел с Филипповок» (Л. Толстой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равнительны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употребляются при сказуемом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Как, словно, будто, как будто, точно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и д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Дубровский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как будто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очнулся от усыпления (А. Пушкин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Спелая рожь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как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золотистое мор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склицательны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Что за, как, о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и д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Плутовка к дереву на цыпочках подходит, вертит хвостом, с Вороны глаз не сводит и говорит так сладко, чуть дыша: «Голубушка, как хороша!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Ну что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за шейка,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что за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глазки!» (И. Крылов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Тебе, Казбек,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страж востока, принес я, странник, свой поклон (М. Лермонтов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ормообразующие частиц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лужат для образования грамматических форм слов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213840" y="285840"/>
            <a:ext cx="25210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Условного наклонения гл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Calibri"/>
              </a:rPr>
              <a:t>Бы(б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Я</a:t>
            </a:r>
            <a:r>
              <a:rPr b="1" i="1" lang="ru-RU" sz="2700" spc="-1" strike="noStrike">
                <a:solidFill>
                  <a:srgbClr val="000000"/>
                </a:solidFill>
                <a:latin typeface="Calibri"/>
              </a:rPr>
              <a:t> б </a:t>
            </a: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навеки забыл кабаки и стихи </a:t>
            </a:r>
            <a:r>
              <a:rPr b="1" i="1" lang="ru-RU" sz="2700" spc="-1" strike="noStrike">
                <a:solidFill>
                  <a:srgbClr val="000000"/>
                </a:solidFill>
                <a:latin typeface="Calibri"/>
              </a:rPr>
              <a:t>бы</a:t>
            </a: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 писать забросил, только </a:t>
            </a:r>
            <a:r>
              <a:rPr b="1" i="1" lang="ru-RU" sz="27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 тонко касаться руки и волос твоих цветом в осень (С. Есенин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32"/>
          <p:cNvSpPr/>
          <p:nvPr/>
        </p:nvSpPr>
        <p:spPr>
          <a:xfrm>
            <a:off x="3143160" y="357120"/>
            <a:ext cx="2592360" cy="48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alibri"/>
              </a:rPr>
              <a:t>Повелит. наклонения гл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Бывал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Давай(т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усть(пускай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ускай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толпа растопчет мой венец: венец певца, венец терновый (М. Лермонт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34"/>
          <p:cNvSpPr/>
          <p:nvPr/>
        </p:nvSpPr>
        <p:spPr>
          <a:xfrm>
            <a:off x="6012000" y="500040"/>
            <a:ext cx="259236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Степень сравнения прилагательных и наречи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Боле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Мене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Наиболе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Наимене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ам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Частицы необходимо отличать от других частей речи, например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Мы работаем в будни и в выходные.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(Союз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связывает однородные чл. предложения.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Ты работаешь </a:t>
            </a: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 в воскресенье!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(Усилительная частица </a:t>
            </a: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Ты работаешь даже в воскресенье!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Вам необходимо точно определить местоположение объекта.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(Наречие 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точно;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необходимо определить (как?) точно.)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–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Всё </a:t>
            </a: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точно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 замерло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. (Сравнительная частица </a:t>
            </a: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точно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употребляется при сказуемом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 происхождению частицы часто связаны с другими частями речи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А, и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др. – с союзам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То, себе, это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др. – с местоимениям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Давай, бывало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др. – с глаголам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астицы не являются членами предложения, однако могут входить в состав членов предложен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От любви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требуют поруки, с нею знают радость и беду (С. Есенин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лассификация части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деляют два основных разряда частиц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мысловы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ормообразующ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мысловые частиц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лужат для придания словам и предложениям различных дополнительных смысловых оттенков, например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казательны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(обычно указывают на предметы, явления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Вон, вот, это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 др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Вот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 лещик, потроха, </a:t>
            </a: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вот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 стерляди кусочек (И. Крылов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«Так поправее ракиты, Фёдор Филиппыч, </a:t>
            </a: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вон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 там-то», - говорит ему кто-то (Л. Толстой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Профессия врача – </a:t>
            </a: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это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 подвиг, она требует самоотвержения, чистоты души и чистоты помыслов (А. Чехов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точняющи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служат для уточнения какого-то слова или выражения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Именно, почти, точно, как раз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д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Матушка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очти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не обращала на меня внимания (И. Тургенев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ыделительно-ограничительны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придают слову или группе слов ограничительный оттенок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Только, всего, лишь, исключительно, всего-навсег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В комнате остались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только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хозяин да Сергей Николаевич, да Владимир Петрович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силительны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подчеркивают определённые слов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Даже, ведь, же, и, даже и, ни, уж, всё, всё-таки, -то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и д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Даже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приказчик издал какой-то неодобрительный звук (Л. Толстой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«Однако плохо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же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кормят тебя твои хозяева!» – говорил незнакомец, глядя, с какой свирепой жадностью Каштанка глотала неразжёванные куски (А. Чехов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просительны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употребляются в вопросительных предложениях и служат для выражения вопрос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Разве, ли, неужели, ужель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и д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Разве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я могу сомневаться в этом? (л. Толстой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12T11:12:24Z</dcterms:created>
  <dc:creator>admin</dc:creator>
  <dc:description/>
  <dc:language>en-US</dc:language>
  <cp:lastModifiedBy>admin</cp:lastModifiedBy>
  <dcterms:modified xsi:type="dcterms:W3CDTF">2020-04-12T11:26:33Z</dcterms:modified>
  <cp:revision>2</cp:revision>
  <dc:subject/>
  <dc:title>Частица</dc:title>
</cp:coreProperties>
</file>