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gif" ContentType="image/gif"/>
  <Override PartName="/ppt/media/image4.jpeg" ContentType="image/jpeg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689D-55D7-450D-B912-E3A517C29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2DDB-B121-4D10-AEF0-53CDE8F5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73AC-1549-4BEB-B5A3-14931504C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FC62-0FAF-4152-B349-A991E3B8B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5234-4DA0-4642-B7F5-DE407917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C03D-AE06-4EFB-A5A9-81073712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A223-5863-45D7-B1AB-8F1D2948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0722-3456-4D08-8537-5125AD88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0C77-D166-47C2-9575-D298FF2C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F7DD-4ED0-459B-B402-E6711988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E2C8-4B90-4813-8C5C-6FABCEB6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3A10-7255-4F5A-B2FB-5DB4FB7C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60A6-141C-407E-B387-DCEA68A44A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ЧАСТ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4343400"/>
            <a:ext cx="37512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1" descr="4bad6a0574936"/>
          <p:cNvPicPr/>
          <p:nvPr/>
        </p:nvPicPr>
        <p:blipFill>
          <a:blip r:embed="rId1"/>
          <a:stretch/>
        </p:blipFill>
        <p:spPr>
          <a:xfrm>
            <a:off x="-684360" y="0"/>
            <a:ext cx="10369800" cy="73342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4"/>
          <p:cNvSpPr/>
          <p:nvPr/>
        </p:nvSpPr>
        <p:spPr>
          <a:xfrm>
            <a:off x="755640" y="1916280"/>
            <a:ext cx="817236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Harlow Solid Italic"/>
              </a:rPr>
              <a:t>    </a:t>
            </a:r>
            <a:r>
              <a:rPr b="1" i="1" lang="ru-RU" sz="3600" spc="-1" strike="noStrike">
                <a:solidFill>
                  <a:srgbClr val="ff0000"/>
                </a:solidFill>
                <a:latin typeface="Harlow Solid Italic"/>
              </a:rPr>
              <a:t> </a:t>
            </a:r>
            <a:r>
              <a:rPr b="0" i="1" lang="ru-RU" sz="3600" spc="-1" strike="noStrike">
                <a:solidFill>
                  <a:srgbClr val="ff0000"/>
                </a:solidFill>
                <a:latin typeface="Harlow Solid Italic"/>
              </a:rPr>
              <a:t>              </a:t>
            </a:r>
            <a:r>
              <a:rPr b="1" i="1" lang="ru-RU" sz="6000" spc="-1" strike="noStrike">
                <a:solidFill>
                  <a:srgbClr val="ffffff"/>
                </a:solidFill>
                <a:latin typeface="Harlow Solid Italic"/>
              </a:rPr>
              <a:t>Частиц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Harlow Solid Italic"/>
              </a:rPr>
              <a:t>             </a:t>
            </a:r>
            <a:r>
              <a:rPr b="1" i="1" lang="ru-RU" sz="6000" spc="-1" strike="noStrike">
                <a:solidFill>
                  <a:srgbClr val="ffffff"/>
                </a:solidFill>
                <a:latin typeface="Harlow Solid Italic"/>
              </a:rPr>
              <a:t>НЕ и НИ</a:t>
            </a:r>
            <a:r>
              <a:rPr b="0" lang="ru-RU" sz="6000" spc="-1" strike="noStrike">
                <a:solidFill>
                  <a:srgbClr val="000000"/>
                </a:solidFill>
                <a:latin typeface="Harlow Solid Italic"/>
              </a:rPr>
              <a:t> </a:t>
            </a:r>
            <a:br>
              <a:rPr sz="60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Harlow Solid Italic"/>
              </a:rPr>
              <a:t>                                       </a:t>
            </a:r>
            <a:r>
              <a:rPr b="1" i="1" lang="ru-RU" sz="3600" spc="-1" strike="noStrike">
                <a:solidFill>
                  <a:srgbClr val="ffff00"/>
                </a:solidFill>
                <a:latin typeface="Harlow Solid Ital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Harlow Solid Italic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250920" y="0"/>
          <a:ext cx="8893080" cy="6772320"/>
        </p:xfrm>
        <a:graphic>
          <a:graphicData uri="http://schemas.openxmlformats.org/drawingml/2006/table">
            <a:tbl>
              <a:tblPr/>
              <a:tblGrid>
                <a:gridCol w="3241440"/>
                <a:gridCol w="2519640"/>
                <a:gridCol w="3132000"/>
              </a:tblGrid>
              <a:tr h="20430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c0000"/>
                          </a:solidFill>
                          <a:latin typeface="Arial Cyr"/>
                        </a:rPr>
                        <a:t>Не</a:t>
                      </a:r>
                      <a:r>
                        <a:rPr b="1" lang="ru-RU" sz="2400" spc="-1" strike="noStrike">
                          <a:solidFill>
                            <a:srgbClr val="cc0000"/>
                          </a:solidFill>
                          <a:latin typeface="Arial Cyr"/>
                        </a:rPr>
                        <a:t> пишетс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0000"/>
                          </a:solidFill>
                          <a:latin typeface="Arial Cyr"/>
                        </a:rPr>
                        <a:t>        </a:t>
                      </a:r>
                      <a:r>
                        <a:rPr b="1" lang="ru-RU" sz="2400" spc="-1" strike="noStrike" u="sng">
                          <a:solidFill>
                            <a:srgbClr val="cc0000"/>
                          </a:solidFill>
                          <a:uFillTx/>
                          <a:latin typeface="Arial Cyr"/>
                        </a:rPr>
                        <a:t>слит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 Если слово н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потребляется без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не 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со всеми словам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н полный невежда 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узыке. Бабушке сегод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здоровитс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настная погод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ы сделали это оч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брежно.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льз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итать чужие письм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 Если слово можно заменить синонимом  без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с существительными, прилагательными, наречиями на -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приятель (противни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чал наступление. 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акая невесёлая (грустна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годня.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н вёл себя крайн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вежливо (грубо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 Если нет зависимых  слов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с полными причасти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достроенный до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: Невидимые миру слёз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 Если в качеств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яснительных с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ыступают количестве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речия, наречия меры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тепени: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чти, очень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есьма, совершенно, крайн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вольно, вполне, самый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 др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со всеми словам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есьма нелюбезно.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инял совершен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обдуманное решен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делка очень невыгодн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(Ср.: Почти не тронут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Arial Cyr"/>
                        </a:rPr>
                        <a:t>загаром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жа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 Если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до-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имеет смыс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«мало, плохо, ниже нормы»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казывает на постоянное д-е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  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с глагол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весил товар. Вс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 недолюбливал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ыпал, недорабатыва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Picture 28" descr="j0354499"/>
          <p:cNvPicPr/>
          <p:nvPr/>
        </p:nvPicPr>
        <p:blipFill>
          <a:blip r:embed="rId1"/>
          <a:stretch/>
        </p:blipFill>
        <p:spPr>
          <a:xfrm flipH="1">
            <a:off x="395280" y="620640"/>
            <a:ext cx="118728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risunok7[1]"/>
          <p:cNvPicPr/>
          <p:nvPr/>
        </p:nvPicPr>
        <p:blipFill>
          <a:blip r:embed="rId1"/>
          <a:srcRect l="0" t="5166" r="41303" b="0"/>
          <a:stretch/>
        </p:blipFill>
        <p:spPr>
          <a:xfrm>
            <a:off x="0" y="0"/>
            <a:ext cx="4857840" cy="58053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6"/>
          <p:cNvSpPr/>
          <p:nvPr/>
        </p:nvSpPr>
        <p:spPr>
          <a:xfrm>
            <a:off x="2556000" y="2852640"/>
            <a:ext cx="5616360" cy="30186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Harlow Solid Italic"/>
              </a:rPr>
              <a:t>Правописание част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Harlow Solid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Harlow Solid Italic"/>
              </a:rPr>
              <a:t>Раздельное и дефис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Harlow Solid Italic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Harlow Solid Italic"/>
              </a:rPr>
              <a:t>написание части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Harlow Solid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Harlow Solid Italic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Harlow Solid Italic"/>
              </a:rPr>
              <a:t>Различение части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Harlow Solid Italic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Harlow Solid Italic"/>
              </a:rPr>
              <a:t>НЕ и 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3132000" y="260280"/>
            <a:ext cx="4392720" cy="1224000"/>
          </a:xfrm>
          <a:prstGeom prst="wedgeEllipseCallout">
            <a:avLst>
              <a:gd name="adj1" fmla="val -63768"/>
              <a:gd name="adj2" fmla="val 99157"/>
            </a:avLst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Harlow Solid Italic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854520" y="620640"/>
            <a:ext cx="28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Harlow Solid Italic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Harlow Solid Italic"/>
              </a:rPr>
              <a:t>Узнавай - 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61437566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85374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1274760" y="4797360"/>
            <a:ext cx="228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1187280" y="4365720"/>
            <a:ext cx="1965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2124000" y="4724280"/>
            <a:ext cx="1295640" cy="1620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1600200" y="5424480"/>
            <a:ext cx="668160" cy="366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1547640" y="5157720"/>
            <a:ext cx="1100160" cy="916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Harlow Solid Ital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763640" y="5950080"/>
            <a:ext cx="64944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 rot="18346800">
            <a:off x="380520" y="3730320"/>
            <a:ext cx="3024360" cy="2562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Harlow Solid Italic"/>
              </a:rPr>
              <a:t>Разли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Harlow Solid Italic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Harlow Solid Italic"/>
              </a:rPr>
              <a:t>части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Harlow Solid Italic"/>
              </a:rPr>
              <a:t>НЕ и 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8101080" y="7800840"/>
            <a:ext cx="104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Частица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ни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- усилите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24000" y="639720"/>
          <a:ext cx="8640720" cy="6261120"/>
        </p:xfrm>
        <a:graphic>
          <a:graphicData uri="http://schemas.openxmlformats.org/drawingml/2006/table">
            <a:tbl>
              <a:tblPr/>
              <a:tblGrid>
                <a:gridCol w="2813040"/>
                <a:gridCol w="2874960"/>
                <a:gridCol w="2952720"/>
              </a:tblGrid>
              <a:tr h="6293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силивает отриц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предложениях с отрицательным сказуемым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Мы этой частицей ни разу не занимались. Давайте не будем терять ни минуты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Иногда отрицательное сказуемое только </a:t>
                      </a: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одразумевается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обычно  в предложениях без подлежащего при существительн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родительном падеже) 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голове ни капли знан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авило-помощник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опустить частицу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 заменить её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то смысл не изменится. Сравнит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сли вы получите двойку, вас не похвалит ни мама, ни папа, ни бабушка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о в том случае, когда вы не учились, не старались, не запоминали.</a:t>
                      </a: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идаёт обобщающее значение некоторым местоимениям и наречиям</a:t>
                      </a:r>
                      <a:r>
                        <a:rPr b="0" i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(сколько ни, кто ни, что ни, куда ни, где ни)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, с помощью которых простое предложение присоединяется к другому в сложном (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силение утверждения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)</a:t>
                      </a:r>
                      <a:r>
                        <a:rPr b="0" i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:</a:t>
                      </a:r>
                      <a:r>
                        <a:rPr b="0" i="1" lang="ru-RU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Иногда как ни учись, сколько ни старайся, что ни делай, всё равно не запоминается.</a:t>
                      </a: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. Устойчивые сочетания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 жив ни мёр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 дать ни взять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 то ни сё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 рыба ни мясо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 много ни мал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 больше ни меньш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 днём ни ночью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 ответа ни привета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 за что ни про чт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 пуха ни пера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 свет ни заря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 с того ни с 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 так ни ся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 там ни с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 туда ни сюда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бы то ни было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уда ни возьмись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 бы ни бы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де  бы то ни был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да ни ш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 за ч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 к чем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 с ч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 при чём (но: нипочё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то ни говор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 что бы то ни ста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к ни в чем не быва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48"/>
          <p:cNvSpPr/>
          <p:nvPr/>
        </p:nvSpPr>
        <p:spPr>
          <a:xfrm>
            <a:off x="4056840" y="450864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Harlow Solid Italic"/>
              </a:rPr>
              <a:t>Закрепляй - 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2"/>
          <p:cNvSpPr/>
          <p:nvPr/>
        </p:nvSpPr>
        <p:spPr>
          <a:xfrm>
            <a:off x="3040200" y="4344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5" descr="41341142_1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348000" y="4365720"/>
            <a:ext cx="792360" cy="707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6" descr="41341142_1[1]"/>
          <p:cNvPicPr/>
          <p:nvPr/>
        </p:nvPicPr>
        <p:blipFill>
          <a:blip r:embed="rId3"/>
          <a:stretch/>
        </p:blipFill>
        <p:spPr>
          <a:xfrm>
            <a:off x="3348000" y="5157720"/>
            <a:ext cx="792360" cy="708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7" descr="41341142_1[1]"/>
          <p:cNvPicPr/>
          <p:nvPr/>
        </p:nvPicPr>
        <p:blipFill>
          <a:blip r:embed="rId4"/>
          <a:stretch/>
        </p:blipFill>
        <p:spPr>
          <a:xfrm>
            <a:off x="7572240" y="5286240"/>
            <a:ext cx="79236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частицы не и ни обрезанная.mp3" descr=""/>
          <p:cNvPicPr/>
          <p:nvPr/>
        </p:nvPicPr>
        <p:blipFill>
          <a:blip r:embed="rId1"/>
          <a:stretch/>
        </p:blipFill>
        <p:spPr>
          <a:xfrm>
            <a:off x="0" y="624672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0" descr="8845911d4eb1"/>
          <p:cNvPicPr/>
          <p:nvPr/>
        </p:nvPicPr>
        <p:blipFill>
          <a:blip r:embed="rId2"/>
          <a:stretch/>
        </p:blipFill>
        <p:spPr>
          <a:xfrm>
            <a:off x="-900000" y="-603360"/>
            <a:ext cx="10801080" cy="74613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97"/>
          <p:cNvSpPr/>
          <p:nvPr/>
        </p:nvSpPr>
        <p:spPr>
          <a:xfrm>
            <a:off x="1042920" y="692280"/>
            <a:ext cx="1081080" cy="165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8"/>
          <p:cNvSpPr/>
          <p:nvPr/>
        </p:nvSpPr>
        <p:spPr>
          <a:xfrm>
            <a:off x="4932360" y="765000"/>
            <a:ext cx="3168720" cy="136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0"/>
          <p:cNvSpPr/>
          <p:nvPr/>
        </p:nvSpPr>
        <p:spPr>
          <a:xfrm>
            <a:off x="539640" y="5554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 дать                              ни вз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1"/>
          <p:cNvSpPr/>
          <p:nvPr/>
        </p:nvSpPr>
        <p:spPr>
          <a:xfrm>
            <a:off x="468360" y="1557360"/>
            <a:ext cx="695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 рыба                               ни мяс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2"/>
          <p:cNvSpPr/>
          <p:nvPr/>
        </p:nvSpPr>
        <p:spPr>
          <a:xfrm>
            <a:off x="395280" y="10587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 сесть                             ни вст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4"/>
          <p:cNvSpPr/>
          <p:nvPr/>
        </p:nvSpPr>
        <p:spPr>
          <a:xfrm>
            <a:off x="611280" y="4428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 холодно                     ни жарко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4186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3419640" y="189000"/>
            <a:ext cx="4392360" cy="1224000"/>
          </a:xfrm>
          <a:prstGeom prst="wedgeEllipseCallout">
            <a:avLst>
              <a:gd name="adj1" fmla="val -70129"/>
              <a:gd name="adj2" fmla="val 104347"/>
            </a:avLst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Harlow Solid Italic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risunok7[1]"/>
          <p:cNvPicPr/>
          <p:nvPr/>
        </p:nvPicPr>
        <p:blipFill>
          <a:blip r:embed="rId1"/>
          <a:srcRect l="0" t="5166" r="41303" b="0"/>
          <a:stretch/>
        </p:blipFill>
        <p:spPr>
          <a:xfrm>
            <a:off x="0" y="0"/>
            <a:ext cx="4857840" cy="58053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2556000" y="2492280"/>
            <a:ext cx="6337080" cy="3933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Harlow Solid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Harlow Solid Italic"/>
              </a:rPr>
              <a:t>Куда ты только н… взгляни, частица ни повсюду н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Harlow Solid Italic"/>
              </a:rPr>
              <a:t>встреч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Harlow Solid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Harlow Solid Italic"/>
              </a:rPr>
              <a:t>Я н… разу не читал про э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Harlow Solid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Harlow Solid Italic"/>
              </a:rPr>
              <a:t>Н… находил ответа н… в мыслях, н… на потолке, н… в щёлочках парк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Harlow Solid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Harlow Solid Italic"/>
              </a:rPr>
              <a:t>Стоял перед классом н… рыба и н… мяс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3990240" y="549360"/>
            <a:ext cx="339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Harlow Solid Italic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Harlow Solid Italic"/>
              </a:rPr>
              <a:t>Закрепляй - 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1388160" y="616572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Harlow Solid Italic"/>
              </a:rPr>
              <a:t>Те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j0354499"/>
          <p:cNvPicPr/>
          <p:nvPr/>
        </p:nvPicPr>
        <p:blipFill>
          <a:blip r:embed="rId2"/>
          <a:stretch/>
        </p:blipFill>
        <p:spPr>
          <a:xfrm flipH="1">
            <a:off x="250560" y="5624640"/>
            <a:ext cx="1368360" cy="10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Частица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- отрицате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125360"/>
          <a:ext cx="8229600" cy="5000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00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.При наличии </a:t>
                      </a:r>
                      <a:r>
                        <a:rPr b="0" lang="ru-RU" sz="1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двойного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трицания (усиливает утверждение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не мог не знать. (Я должен был знать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.В риторических вопросах, выражающих </a:t>
                      </a:r>
                      <a:r>
                        <a:rPr b="0" lang="ru-RU" sz="1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утверждение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простые восклицательные предложения обобщающего характера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 не знает имё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стого и Достоевского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.В соединении со словам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ока не ,чуть (ли) не , вовсе не, едва ли не, вряд ли не 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тнюдь не, совсем не, далеко не:</a:t>
                      </a:r>
                      <a:r>
                        <a:rPr b="0" lang="ru-RU" sz="1800" spc="-1" strike="noStrike">
                          <a:solidFill>
                            <a:srgbClr val="e53b1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 не замело следы, охотники спешили в поле.(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 - союз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. В СПП, в котором главное и придаточное являются отрицательным: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 таких мест в нашей стране, где бы молодёжь не нашла применение своим сила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 Box 21"/>
          <p:cNvSpPr/>
          <p:nvPr/>
        </p:nvSpPr>
        <p:spPr>
          <a:xfrm>
            <a:off x="1272960" y="6308640"/>
            <a:ext cx="491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Harlow Solid Italic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Harlow Solid Italic"/>
              </a:rPr>
              <a:t>Орфограмма </a:t>
            </a:r>
            <a:r>
              <a:rPr b="0" lang="ru-RU" sz="1800" spc="-1" strike="noStrike">
                <a:solidFill>
                  <a:srgbClr val="ffff00"/>
                </a:solidFill>
                <a:latin typeface="Harlow Solid Italic"/>
              </a:rPr>
              <a:t>«</a:t>
            </a:r>
            <a:r>
              <a:rPr b="1" lang="ru-RU" sz="1800" spc="-1" strike="noStrike">
                <a:solidFill>
                  <a:srgbClr val="ffff00"/>
                </a:solidFill>
                <a:latin typeface="Harlow Solid Italic"/>
              </a:rPr>
              <a:t>НЕ: слитно – раздельн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2" descr="j0354499"/>
          <p:cNvPicPr/>
          <p:nvPr/>
        </p:nvPicPr>
        <p:blipFill>
          <a:blip r:embed="rId1"/>
          <a:stretch/>
        </p:blipFill>
        <p:spPr>
          <a:xfrm flipH="1">
            <a:off x="250920" y="5864400"/>
            <a:ext cx="129672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risunok7[1]"/>
          <p:cNvPicPr/>
          <p:nvPr/>
        </p:nvPicPr>
        <p:blipFill>
          <a:blip r:embed="rId1"/>
          <a:srcRect l="0" t="5166" r="41303" b="0"/>
          <a:stretch/>
        </p:blipFill>
        <p:spPr>
          <a:xfrm>
            <a:off x="250920" y="0"/>
            <a:ext cx="5121360" cy="6119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916000" y="2421000"/>
            <a:ext cx="5903640" cy="4176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 один (много, несколько)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и один (никт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 раз (много)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и разу (никогда, совсе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 кто иной, как (именно, только)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икто иной не (отрицат. местоим. никт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И входит в состав соед. Союза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ни…ни: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К Иудушке не чувствовала она ни ненависти, ни расположения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 входит в состав сложных союзов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не только … , но и …; не то … , не то …; если не … , то … ; не то чтобы …, но и: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Не то чтобы злой, но и не добр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3851280" y="476280"/>
            <a:ext cx="4392720" cy="1224000"/>
          </a:xfrm>
          <a:prstGeom prst="wedgeEllipseCallout">
            <a:avLst>
              <a:gd name="adj1" fmla="val -71754"/>
              <a:gd name="adj2" fmla="val 91893"/>
            </a:avLst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Harlow Solid Italic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4427640" y="765000"/>
            <a:ext cx="37432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Harlow Solid Italic"/>
              </a:rPr>
              <a:t>Различай -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79280" y="0"/>
          <a:ext cx="8856720" cy="6858000"/>
        </p:xfrm>
        <a:graphic>
          <a:graphicData uri="http://schemas.openxmlformats.org/drawingml/2006/table">
            <a:tbl>
              <a:tblPr/>
              <a:tblGrid>
                <a:gridCol w="2737080"/>
                <a:gridCol w="2387520"/>
                <a:gridCol w="3732120"/>
              </a:tblGrid>
              <a:tr h="1882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c0000"/>
                          </a:solidFill>
                          <a:latin typeface="Arial Cyr"/>
                        </a:rPr>
                        <a:t>Не</a:t>
                      </a:r>
                      <a:r>
                        <a:rPr b="1" lang="ru-RU" sz="2400" spc="-1" strike="noStrike">
                          <a:solidFill>
                            <a:srgbClr val="cc0000"/>
                          </a:solidFill>
                          <a:latin typeface="Arial Cyr"/>
                        </a:rPr>
                        <a:t> пише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cc0000"/>
                          </a:solidFill>
                          <a:uFillTx/>
                          <a:latin typeface="Arial Cyr"/>
                        </a:rPr>
                        <a:t>раздель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 Всег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Cyr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с глагол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Cyr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с деепричасти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Cyr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с краткими причасти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Cyr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с числительны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 Cyr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со словами состоя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секомые не давали поко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людям.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 говоря лишних сл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доме ещё не вставлены рам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ы не раз и не два были в лес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ы искали место, где было б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 жарк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 Если е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(или подразумеваетс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тивопоста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со всеми слов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 погашенные, а зажжё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гни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ека не глубокая, но и не мелка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(отрицаются оба противоположных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заимоисключающих понятия)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Если отриц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илено слов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далеко, отнюдь, вовсе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совсем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ли отрица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оим. и наречи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со всеми слов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 был совсем не глупый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нюдь не любезный. Нискольк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опасен. Ни к чему н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ый челове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 Если есть зависим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лов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(особо слова на –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ый!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с полными причасти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щё не распустивший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цвето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 Невидимые для исследователя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видимые глазом бактер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8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 Если притяжательные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носительные,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тенком долженствовани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сравнительной степе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с  прилагательны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бо не синее. Не волчьи след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 обязан. Не готов. Не прав. 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 меньшим успехом. Не хуже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16:58:19Z</dcterms:created>
  <dc:creator>Лариса</dc:creator>
  <dc:description/>
  <dc:language>en-US</dc:language>
  <cp:lastModifiedBy>admin</cp:lastModifiedBy>
  <dcterms:modified xsi:type="dcterms:W3CDTF">2020-04-12T12:59:45Z</dcterms:modified>
  <cp:revision>3</cp:revision>
  <dc:subject/>
  <dc:title>ЧАСТИЦА</dc:title>
</cp:coreProperties>
</file>