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01E-E540-4C75-A5B9-E8A07F03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0F2-5F8E-4B61-BD1B-A1EDC3A6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04A-AE57-4166-BE87-0F98D77A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132-B608-4834-B11A-DE448D1A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193C-EF4D-44C6-A10D-D34C4264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B4F-3D00-4254-AC45-35F333C6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0F0B-BE31-45B2-88F4-EB84910A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3C30-021C-41D3-B93E-6FAD2DCD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3113-595D-43EF-AF83-A7CFE1D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CD2A-61F5-4225-BF83-22075611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BC94-92DA-4C2E-8897-AD37B88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553-DE79-4B5A-AEE5-60ABD47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5C4-59CC-4CA1-BCFF-533CDAB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059F-AB60-4C64-9DEE-97D0E1D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A3C6-0F41-46E1-B968-7B9F73E7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5D3B-46AB-4225-B1CC-C30EC4FA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7FC-2F2F-43F4-8FFA-6694B47F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087-A9E6-47C9-8867-2CE336DC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562-11E5-4D69-A84F-D1745484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556-8CA7-420C-B856-167AB85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35D-1586-450D-97E4-6C9F93C6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C44-C9BE-408E-88FD-8F765C52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021-7BF5-457C-9C78-284C41C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2AE-1843-4E8A-AB05-8DCDC6E9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8692-49D4-4DFC-9AF4-A09BBCF4A1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ECE-AB8D-4A31-A363-0211EB3057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3&amp;ed=1&amp;text=&#1051;&#1072;&#1089;&#1090;&#1086;&#1095;&#1082;&#1072;&amp;spsite=www.perepoloh.org&amp;img_url=madamugu.narod.ru%2Feesti%2Fswallow.gif&amp;rpt=simag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hyperlink" Target="http://images.yandex.ru/yandsearch?p=0&amp;ed=1&amp;text=%20%20&#1057;&#1090;&#1091;&#1083;%20%20%20%20%20%20%20%20%20%20%20%20%20%20%20%20%20%20%20%20%20%20%20%20%20%20%20%20%20%20%20%20%20%20&amp;spsite=www.mostik.ru&amp;img_url=www.mebelmagazin.ru%2Fproducts_pictures%2Flandbond_nr20.jpg&amp;rpt=simage" TargetMode="External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ифференциация букв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п </a:t>
            </a:r>
            <a:r>
              <a:rPr b="1" i="1" lang="ru-RU" sz="9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 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слова. Вместо точек вставьте буквы «п» ил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788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ря.ки                .е.ло                .ор.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риве.                .я.но                 .родук.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я.ка                  .ор.ной             куро.а.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е.ерев              .ру.ик               .е.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о.емнел           .о.нул               .ома.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ос.ел               .рочи.ал         .ер.е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8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и    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о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ив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ук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  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й             куро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ев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к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мнел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ул  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м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л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чи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        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чтите и запишите словосочетания, вставив буквы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» и «т» ручками разных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428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ервый ав-обус             -ла-ная с-оя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уховый –ла-ок                с-арый –о-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ри –анкис-а                  с-ильное –ла-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-арые ш-аны                      кре-кий с-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онкая -кань                        -ё-лая ша-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-о-евшее с-екло            жёл-ые лис-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-румен-альное -р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вый ав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ус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я 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я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ховый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                 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рый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и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кис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                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ьное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рые ш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ы                       кре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ий 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кая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нь             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я ша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вшее 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кло          жёл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е ли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умен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ьно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 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гадайте загадки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словах-отгадках найдите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» или «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завтрак съел он только луков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 никогда он не был плакс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исать учился носом буков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садил в тетрадке кляк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 слушался совсем Мальв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ын папы Карло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https://avatars.mds.yandex.net/get-pdb/1773776/d1c80917-ec5f-4c16-9200-aa63e14fb22c/s1200?webp=false"/>
          <p:cNvPicPr/>
          <p:nvPr/>
        </p:nvPicPr>
        <p:blipFill>
          <a:blip r:embed="rId1"/>
          <a:stretch/>
        </p:blipFill>
        <p:spPr>
          <a:xfrm>
            <a:off x="6300720" y="3011400"/>
            <a:ext cx="238464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чит он мышей и кры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окодилов, зайцев, ли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евязывает р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фриканской обезьян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любой нам подтверди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о - доктор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avatars.mds.yandex.net/get-pdb/49816/abd402d3-7fe4-4249-9d42-044bdd46200a/s1200?webp=false"/>
          <p:cNvPicPr/>
          <p:nvPr/>
        </p:nvPicPr>
        <p:blipFill>
          <a:blip r:embed="rId1"/>
          <a:stretch/>
        </p:blipFill>
        <p:spPr>
          <a:xfrm>
            <a:off x="6156360" y="3159000"/>
            <a:ext cx="258444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готов к учебным старт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оро сяду я з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http://www.differo.ee/wp-content/uploads/2013/09/photo1361371762.jpg"/>
          <p:cNvPicPr/>
          <p:nvPr/>
        </p:nvPicPr>
        <p:blipFill>
          <a:blip r:embed="rId1"/>
          <a:stretch/>
        </p:blipFill>
        <p:spPr>
          <a:xfrm>
            <a:off x="4421160" y="2924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коробку я похож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чки ты в меня кладёш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кольник, ты меня узна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у, конечно, я -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https://shmelyok.ru/upload/resize_cache/iblock/66a/850_850_0/66a9a881d83bfdc44323341d3864d4e3.jpg"/>
          <p:cNvPicPr/>
          <p:nvPr/>
        </p:nvPicPr>
        <p:blipFill>
          <a:blip r:embed="rId1"/>
          <a:stretch/>
        </p:blipFill>
        <p:spPr>
          <a:xfrm>
            <a:off x="5651640" y="3429000"/>
            <a:ext cx="332892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землей живёт семь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па, мама, деток ть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шь копни её немножк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миг появится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s://www.ipukr.com/wp-content/uploads/2015/01/20130311104849.jpg"/>
          <p:cNvPicPr/>
          <p:nvPr/>
        </p:nvPicPr>
        <p:blipFill>
          <a:blip r:embed="rId1"/>
          <a:stretch/>
        </p:blipFill>
        <p:spPr>
          <a:xfrm>
            <a:off x="5148360" y="3716280"/>
            <a:ext cx="39654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 виду он как рыжий мя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вот не мчится вскач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нём полезный витам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о спелый 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https://sc01.alicdn.com/kf/HTB1o.Orj0zJ8KJjSspkq6zF7VXac/100-pure-Bitter-Orange-Citrus-Aurantium-extract.jpg"/>
          <p:cNvPicPr/>
          <p:nvPr/>
        </p:nvPicPr>
        <p:blipFill>
          <a:blip r:embed="rId1"/>
          <a:stretch/>
        </p:blipFill>
        <p:spPr>
          <a:xfrm>
            <a:off x="5916600" y="3500280"/>
            <a:ext cx="322740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м похоже и чем различается написание букв «п» и «т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п                 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ьте из данных слов словосочетания. Запиш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                                 ста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ч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цевальная                          пу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56000" y="1989000"/>
            <a:ext cx="136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5148000" y="2060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2700360" y="479736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 flipH="1">
            <a:off x="5003640" y="472428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ишите словосочетания, вставляя буквы «п» ил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ас.ь  .оля                    .ляжный кос.ю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очка  о.оры                ки.айский  зон.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ачка  ва.ы                    .равый бо.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с.о  ку.ания                    у.иная охо.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и.ели  .лане.ы             .уховый  .ла.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.и.ан фло.а                   .лохой .ос.у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ала.ка .урис.ов             .ро.яжная .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ь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я         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яжный ко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чка  о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ы                    ки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йский  зон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чка  в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         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вый  б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 ку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ия                        у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ая ох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ли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н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ховый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 фл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  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охой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и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в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жная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словосочетания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делите буквы «п» 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пустил по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летают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етёные лап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птал 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мпа копт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езд отпра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имена и фамилии, вставляя пропущенные буквы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«п» ил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е.рова   .аня              .о.оркова .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ихомиров   .е.я           .е.ухова .ам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ихомиров  .оля        .имошенко .ав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ло.ников  Ан.он              .ихов  Ники.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ре.ьякова  Нас.я          .еплова На.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ва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я     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кова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хомиров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тя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хова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хомиров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я   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ошенко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в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ков Ан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   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хов  Ники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ьякова На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ова Н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 данных слов составьте предложения, изменив слова по смы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учок, плести, пау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тя, стелить, пос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я, посылать, теле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рожки, лежать, на, та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стья, лететь, по, ве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тя, писать, листок,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учок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у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с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и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я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ыла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рожки лежа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р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с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я л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 в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ш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 лис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предложения, выбрав из скобок слова по смы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ло (толка, полка) от лентя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д столом висела (полка, тол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плоход приходит в  (порт, тор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бедителю викторины подарили  (торт,пор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адкий утёнок (стал, спал) красивой пт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ренький дедушка (спал, стал) на кро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предложения, подчеркните букву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ёмная туча нависла над п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поляну вылетела стая тетере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тер треплет последние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рпение и труд все перетр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лена тумана окутала  б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я птиц опустилась на п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чтите слоги, заменяя цифру 2 буквой «п», а цифру 3 буквой «т». Запиш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6059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а-3а                     2ы-3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о-3о                     2у-3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я-2я                     3е-2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э-2э-3э                3ю-3ю-2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и-2и-3и               3я-2я-3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ёмн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а нависла над п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поляну выле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а ст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ре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р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пле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следние лис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рпение 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уд все перетру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лена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мана оку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а  боло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я п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ц опус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лась на п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стихотворения, подчеркните букву «п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крапиве, как на пл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кипятили чай ул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ходи чайку нап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крапивы не бо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йте ос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льто и бо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до погре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дной оси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кр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ве, как н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ки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тили чай ул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ходи чайку н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кр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вы не бо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йте ос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ьто и бо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д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гре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дной оси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пишите из текста слова с буквой «п» в первый столбик, во второй – с «т»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 третий – с «п» 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плошной стеной стоит лес. Застыли стройные пальмы. На ветвях сидят пёстрые попугаи. Прячутся в траве ядовитые пауки. Снуют по ветвям потешные обезья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, т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но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м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а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к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о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и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л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йны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ях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я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ови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ую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ям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с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чу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я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п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i="1" lang="ru-RU" sz="2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шны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предложения. Вставляя пропущенные буквы «п» ил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с-у-ила –ора цве-ения ли-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-и буду- долго вс-омина-ь –ервого учи-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с-очки - -ерелё-ные –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ец вс-орхнул и с-ря-ался за кус-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д –олями с-еле-ся гус-ой –ум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_имоша сиди- за –ервой –ар-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кро-а  -ередние ла-ы –охожи на ло-а-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я заку-алась в –ё-лый –ла-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с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а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а цве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ия ли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буду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долго вс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мина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ь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вого учи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с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чки -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елё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ые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ец вс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хнул и с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ся за кус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ями с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ле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я гус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й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м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оша сиди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вой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кро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редние ла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хожи на ло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я заку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лась в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ый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s://horosho-rostov.ru/upload/iblock/37e/37e0bbd38aa369dd095576d352bad10c.jpg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слоги. Вместо палочек напишите буквы «п» или «т»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читайте получившиеся с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706788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мест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тавьте букву «п», вмест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II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букву «т»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чтите и запиши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8920" y="1773000"/>
            <a:ext cx="63356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на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ми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дра                  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га                   пи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гр                       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граф              сир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вар                      сал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в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ьн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628640"/>
            <a:ext cx="6347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на                       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ми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дра                  с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га                   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толе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гр                       с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леграф              сиро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вар                      сала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в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с</a:t>
            </a:r>
            <a:r>
              <a:rPr b="0" i="1" lang="ru-RU" sz="32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ьн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ови картинки. Выпиши в левый столбик названия с буквой «п», в правый – с буквой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im3-tub.yandex.net/i?id=4934123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86080" y="3000240"/>
            <a:ext cx="119376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?id=87533136&amp;tov=7"/>
          <p:cNvPicPr/>
          <p:nvPr/>
        </p:nvPicPr>
        <p:blipFill>
          <a:blip r:embed="rId3"/>
          <a:stretch/>
        </p:blipFill>
        <p:spPr>
          <a:xfrm>
            <a:off x="630360" y="3360600"/>
            <a:ext cx="1085760" cy="177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i?id=36768034&amp;tov=6"/>
          <p:cNvPicPr/>
          <p:nvPr/>
        </p:nvPicPr>
        <p:blipFill>
          <a:blip r:embed="rId4"/>
          <a:stretch/>
        </p:blipFill>
        <p:spPr>
          <a:xfrm>
            <a:off x="5580000" y="227664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i?id=38103191&amp;tov=8"/>
          <p:cNvPicPr/>
          <p:nvPr/>
        </p:nvPicPr>
        <p:blipFill>
          <a:blip r:embed="rId5"/>
          <a:stretch/>
        </p:blipFill>
        <p:spPr>
          <a:xfrm>
            <a:off x="2411280" y="5157720"/>
            <a:ext cx="1695600" cy="129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 "/>
          <p:cNvPicPr/>
          <p:nvPr/>
        </p:nvPicPr>
        <p:blipFill>
          <a:blip r:embed="rId6"/>
          <a:stretch/>
        </p:blipFill>
        <p:spPr>
          <a:xfrm>
            <a:off x="6877080" y="486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?id=13291713&amp;tov=7"/>
          <p:cNvPicPr/>
          <p:nvPr/>
        </p:nvPicPr>
        <p:blipFill>
          <a:blip r:embed="rId7"/>
          <a:stretch/>
        </p:blipFill>
        <p:spPr>
          <a:xfrm>
            <a:off x="324000" y="5300640"/>
            <a:ext cx="1511280" cy="124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i?id=27897999&amp;tov=8"/>
          <p:cNvPicPr/>
          <p:nvPr/>
        </p:nvPicPr>
        <p:blipFill>
          <a:blip r:embed="rId8"/>
          <a:stretch/>
        </p:blipFill>
        <p:spPr>
          <a:xfrm>
            <a:off x="3382920" y="1768320"/>
            <a:ext cx="14479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i?id=53199694&amp;tov=5"/>
          <p:cNvPicPr/>
          <p:nvPr/>
        </p:nvPicPr>
        <p:blipFill>
          <a:blip r:embed="rId9"/>
          <a:stretch/>
        </p:blipFill>
        <p:spPr>
          <a:xfrm>
            <a:off x="4716360" y="5013360"/>
            <a:ext cx="148608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i?id=50574870&amp;tov=3"/>
          <p:cNvPicPr/>
          <p:nvPr/>
        </p:nvPicPr>
        <p:blipFill>
          <a:blip r:embed="rId10"/>
          <a:stretch/>
        </p:blipFill>
        <p:spPr>
          <a:xfrm>
            <a:off x="7451640" y="1844640"/>
            <a:ext cx="10098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i?id=72686380&amp;tov=2"/>
          <p:cNvPicPr/>
          <p:nvPr/>
        </p:nvPicPr>
        <p:blipFill>
          <a:blip r:embed="rId11"/>
          <a:stretch/>
        </p:blipFill>
        <p:spPr>
          <a:xfrm>
            <a:off x="468360" y="1628640"/>
            <a:ext cx="140976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i?id=4467091&amp;tov=4"/>
          <p:cNvPicPr/>
          <p:nvPr/>
        </p:nvPicPr>
        <p:blipFill>
          <a:blip r:embed="rId12"/>
          <a:stretch/>
        </p:blipFill>
        <p:spPr>
          <a:xfrm>
            <a:off x="4106880" y="3645000"/>
            <a:ext cx="1123920" cy="100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http://im8-tub.yandex.net/i?id=24098395&amp;tov=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627960" y="3117960"/>
            <a:ext cx="124452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шите слова. Вместо палочек  вставьте буквы «п» или «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              к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вор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к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чки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н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           ав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м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р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р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                ка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воро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к            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чки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не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            ав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м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с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р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ро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i="1" lang="ru-RU" sz="2800" spc="-1" strike="noStrike">
                <a:solidFill>
                  <a:srgbClr val="9933ff"/>
                </a:solidFill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7:59:05Z</dcterms:created>
  <dc:creator>СОШ 7</dc:creator>
  <dc:description/>
  <dc:language>en-US</dc:language>
  <cp:lastModifiedBy>Asus</cp:lastModifiedBy>
  <dcterms:modified xsi:type="dcterms:W3CDTF">2020-04-12T16:39:33Z</dcterms:modified>
  <cp:revision>23</cp:revision>
  <dc:subject/>
  <dc:title>Содержание и последовательность работы над дифференциацией смешиваемых букв п-т</dc:title>
</cp:coreProperties>
</file>