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3BFF-DE5D-4578-834A-70B5BDD0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C9D4-8D0B-4038-81EA-533A31ED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B075-1FCE-44EE-B1E4-21234AD9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ECD8-A537-434B-852A-77894E7C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BCBF-7BF5-43A4-9500-45C2684C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6BA6-65B8-4FA0-ACB4-18226B36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8181-1492-4DE7-ABE1-7EEBB0C6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0C2E-A453-4E65-9D0B-F0715BDC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F1C7-6E2E-4EF3-BAA6-AAE49F97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22C5-E16C-48AC-B16F-23E4F30F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708C-AFD6-42A3-8547-70F46F8C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FE1-1745-4AA7-9F33-D76C8E2A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4E27-A5B2-4DE6-94D2-CE073914C4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ky_35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1640" y="259920"/>
            <a:ext cx="42498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3780000" y="2133720"/>
            <a:ext cx="504504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2" descr="https://www.stihi.ru/pics/2018/01/03/3045.jpg"/>
          <p:cNvPicPr/>
          <p:nvPr/>
        </p:nvPicPr>
        <p:blipFill>
          <a:blip r:embed="rId2"/>
          <a:stretch/>
        </p:blipFill>
        <p:spPr>
          <a:xfrm>
            <a:off x="0" y="0"/>
            <a:ext cx="5595840" cy="378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http://i.mycdn.me/i?r=AzEPZsRbOZEKgBhR0XGMT1RkqNdp9UecMQ_ZmpTSmLwBUqaKTM5SRkZCeTgDn6uOyic"/>
          <p:cNvPicPr/>
          <p:nvPr/>
        </p:nvPicPr>
        <p:blipFill>
          <a:blip r:embed="rId3"/>
          <a:stretch/>
        </p:blipFill>
        <p:spPr>
          <a:xfrm>
            <a:off x="0" y="3716280"/>
            <a:ext cx="3925800" cy="3141720"/>
          </a:xfrm>
          <a:prstGeom prst="rect">
            <a:avLst/>
          </a:prstGeom>
          <a:ln w="0">
            <a:noFill/>
          </a:ln>
        </p:spPr>
      </p:pic>
      <p:pic>
        <p:nvPicPr>
          <p:cNvPr id="49" name="город.mp3" descr=""/>
          <p:cNvPicPr/>
          <p:nvPr/>
        </p:nvPicPr>
        <p:blipFill>
          <a:blip r:embed="rId4"/>
          <a:stretch/>
        </p:blipFill>
        <p:spPr>
          <a:xfrm>
            <a:off x="586728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avatars.mds.yandex.net/get-zen_doc/57035/pub_5c57db6462f8ac00acb94556_5c57db6eefbfdf00adc32d6c/scale_1200"/>
          <p:cNvPicPr/>
          <p:nvPr/>
        </p:nvPicPr>
        <p:blipFill>
          <a:blip r:embed="rId5"/>
          <a:stretch/>
        </p:blipFill>
        <p:spPr>
          <a:xfrm>
            <a:off x="3924360" y="0"/>
            <a:ext cx="5219640" cy="378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https://selskoehozjajstvo.ru/wp-content/uploads/2018/08/Korova-v-domashnih-usloviyah-27.jpg"/>
          <p:cNvPicPr/>
          <p:nvPr/>
        </p:nvPicPr>
        <p:blipFill>
          <a:blip r:embed="rId6"/>
          <a:stretch/>
        </p:blipFill>
        <p:spPr>
          <a:xfrm>
            <a:off x="5678640" y="3716280"/>
            <a:ext cx="3465360" cy="3141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https://avatars.mds.yandex.net/get-pdb/1712747/b3c5a606-3043-4dd6-9637-fb0b70933f0a/s1200"/>
          <p:cNvPicPr/>
          <p:nvPr/>
        </p:nvPicPr>
        <p:blipFill>
          <a:blip r:embed="rId7"/>
          <a:stretch/>
        </p:blipFill>
        <p:spPr>
          <a:xfrm>
            <a:off x="3132000" y="3736800"/>
            <a:ext cx="2952720" cy="3121200"/>
          </a:xfrm>
          <a:prstGeom prst="rect">
            <a:avLst/>
          </a:prstGeom>
          <a:ln w="0">
            <a:noFill/>
          </a:ln>
        </p:spPr>
      </p:pic>
      <p:pic>
        <p:nvPicPr>
          <p:cNvPr id="53" name="город.mp3" descr=""/>
          <p:cNvPicPr/>
          <p:nvPr/>
        </p:nvPicPr>
        <p:blipFill>
          <a:blip r:embed="rId8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818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1" descr="https://img3.goodfon.ru/original/2560x1440/6/37/medved-grizli-zima.jpg"/>
          <p:cNvPicPr/>
          <p:nvPr/>
        </p:nvPicPr>
        <p:blipFill>
          <a:blip r:embed="rId1"/>
          <a:stretch/>
        </p:blipFill>
        <p:spPr>
          <a:xfrm>
            <a:off x="0" y="0"/>
            <a:ext cx="5735520" cy="3573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https://st4.depositphotos.com/6489776/24813/i/950/depositphotos_248136084-stock-photo-a-female-wolf-lies-in.jpg"/>
          <p:cNvPicPr/>
          <p:nvPr/>
        </p:nvPicPr>
        <p:blipFill>
          <a:blip r:embed="rId2"/>
          <a:stretch/>
        </p:blipFill>
        <p:spPr>
          <a:xfrm>
            <a:off x="0" y="3500280"/>
            <a:ext cx="5364000" cy="3357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https://s1.1zoom.ru/big3/998/348165-admin.jpg"/>
          <p:cNvPicPr/>
          <p:nvPr/>
        </p:nvPicPr>
        <p:blipFill>
          <a:blip r:embed="rId3"/>
          <a:stretch/>
        </p:blipFill>
        <p:spPr>
          <a:xfrm>
            <a:off x="5364000" y="3544920"/>
            <a:ext cx="3780000" cy="331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Людмила\Desktop\Мои документы\все мои наработки\все мои наработки\конспекты мои занятия\друзья спешат на\презентация\картинки для презентации\i (1).jpg"/>
          <p:cNvPicPr/>
          <p:nvPr/>
        </p:nvPicPr>
        <p:blipFill>
          <a:blip r:embed="rId4"/>
          <a:stretch/>
        </p:blipFill>
        <p:spPr>
          <a:xfrm>
            <a:off x="5651640" y="0"/>
            <a:ext cx="3492360" cy="2421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https://photocentra.ru/images/main73/734849_main.jpg"/>
          <p:cNvPicPr/>
          <p:nvPr/>
        </p:nvPicPr>
        <p:blipFill>
          <a:blip r:embed="rId5"/>
          <a:stretch/>
        </p:blipFill>
        <p:spPr>
          <a:xfrm>
            <a:off x="4427640" y="1844640"/>
            <a:ext cx="2305080" cy="171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26" descr="C:\Users\Людмила\Desktop\Мои документы\все мои наработки\все мои наработки\конспекты мои занятия\друзья спешат на\презентация\картинки для презентации\71556078114687151500.jpg"/>
          <p:cNvPicPr/>
          <p:nvPr/>
        </p:nvPicPr>
        <p:blipFill>
          <a:blip r:embed="rId6"/>
          <a:stretch/>
        </p:blipFill>
        <p:spPr>
          <a:xfrm>
            <a:off x="6732720" y="2349360"/>
            <a:ext cx="2411280" cy="122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https://s3.nat-geo.ru/images/2019/5/15/c0b3d3b4daee43a1bc03b72af3ce5889.max-1200x8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дятел.mp3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зимний лес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007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46624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http://animalphoto.ru/images/photos/medium/0e375cde27752ddcd4e8353c007a08b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сорока.mp3" descr=""/>
          <p:cNvPicPr/>
          <p:nvPr/>
        </p:nvPicPr>
        <p:blipFill>
          <a:blip r:embed="rId2"/>
          <a:stretch/>
        </p:blipFill>
        <p:spPr>
          <a:xfrm>
            <a:off x="86756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9822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https://img2.akspic.ru/image/105671-led-gora-arktika-severnyj_ledovityj_okean-ledyanaya_shapka-1920x1080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метель.mp3" descr=""/>
          <p:cNvPicPr/>
          <p:nvPr/>
        </p:nvPicPr>
        <p:blipFill>
          <a:blip r:embed="rId2"/>
          <a:stretch/>
        </p:blipFill>
        <p:spPr>
          <a:xfrm>
            <a:off x="86756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958729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C:\Users\Людмила\Desktop\Мои документы\все мои наработки\все мои наработки\конспекты мои занятия\друзья спешат на\презентация\картинки для презентации\1356365323_forsee1-113.jpg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10440"/>
          </a:xfrm>
          <a:prstGeom prst="rect">
            <a:avLst/>
          </a:prstGeom>
          <a:ln w="0">
            <a:noFill/>
          </a:ln>
        </p:spPr>
      </p:pic>
      <p:pic>
        <p:nvPicPr>
          <p:cNvPr id="73" name="3  пляска.mp3" descr=""/>
          <p:cNvPicPr/>
          <p:nvPr/>
        </p:nvPicPr>
        <p:blipFill>
          <a:blip r:embed="rId2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Sky_35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" descr="Детский сад"/>
          <p:cNvPicPr/>
          <p:nvPr/>
        </p:nvPicPr>
        <p:blipFill>
          <a:blip r:embed="rId2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1640" y="259920"/>
            <a:ext cx="42498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3780000" y="2133720"/>
            <a:ext cx="504504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</cp:lastModifiedBy>
  <dcterms:modified xsi:type="dcterms:W3CDTF">2020-04-12T04:42:08Z</dcterms:modified>
  <cp:revision>82</cp:revision>
  <dc:subject/>
  <dc:title>PowerPoint Presentation</dc:title>
</cp:coreProperties>
</file>