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C94-DC93-4772-B43A-FF4CD790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45B-F235-4EA0-9584-D456AA8D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6FA-8DD8-4975-B565-B5EB0A20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FBD-B512-4F74-BC39-8FDE4BC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A1F-5320-4993-88DE-C21AD53F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D54-FA93-4FD3-A877-DE40862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6F0-6A02-4228-B49D-EF75506F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AEB-A26A-48A2-96A8-E0AB48E0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903-C567-4E6A-9A07-8F7D7BE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F78-0CFB-4E32-96BD-6AE981F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BD6-1554-4C4C-9CBD-3B5CCEA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786-5176-4E4A-967D-99300569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C59-63F5-470B-9BD0-1A91DD901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ky_3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1640" y="259920"/>
            <a:ext cx="4249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780000" y="2133720"/>
            <a:ext cx="5045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https://www.stihi.ru/pics/2018/01/03/3045.jpg"/>
          <p:cNvPicPr/>
          <p:nvPr/>
        </p:nvPicPr>
        <p:blipFill>
          <a:blip r:embed="rId2"/>
          <a:stretch/>
        </p:blipFill>
        <p:spPr>
          <a:xfrm>
            <a:off x="0" y="0"/>
            <a:ext cx="559584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i.mycdn.me/i?r=AzEPZsRbOZEKgBhR0XGMT1RkqNdp9UecMQ_ZmpTSmLwBUqaKTM5SRkZCeTgDn6uOyic"/>
          <p:cNvPicPr/>
          <p:nvPr/>
        </p:nvPicPr>
        <p:blipFill>
          <a:blip r:embed="rId3"/>
          <a:stretch/>
        </p:blipFill>
        <p:spPr>
          <a:xfrm>
            <a:off x="0" y="3716280"/>
            <a:ext cx="3925800" cy="3141720"/>
          </a:xfrm>
          <a:prstGeom prst="rect">
            <a:avLst/>
          </a:prstGeom>
          <a:ln w="0">
            <a:noFill/>
          </a:ln>
        </p:spPr>
      </p:pic>
      <p:pic>
        <p:nvPicPr>
          <p:cNvPr id="49" name="город.mp3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avatars.mds.yandex.net/get-zen_doc/57035/pub_5c57db6462f8ac00acb94556_5c57db6eefbfdf00adc32d6c/scale_1200"/>
          <p:cNvPicPr/>
          <p:nvPr/>
        </p:nvPicPr>
        <p:blipFill>
          <a:blip r:embed="rId5"/>
          <a:stretch/>
        </p:blipFill>
        <p:spPr>
          <a:xfrm>
            <a:off x="3924360" y="0"/>
            <a:ext cx="5219640" cy="378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s://selskoehozjajstvo.ru/wp-content/uploads/2018/08/Korova-v-domashnih-usloviyah-27.jpg"/>
          <p:cNvPicPr/>
          <p:nvPr/>
        </p:nvPicPr>
        <p:blipFill>
          <a:blip r:embed="rId6"/>
          <a:stretch/>
        </p:blipFill>
        <p:spPr>
          <a:xfrm>
            <a:off x="5678640" y="3716280"/>
            <a:ext cx="3465360" cy="314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s://avatars.mds.yandex.net/get-pdb/1712747/b3c5a606-3043-4dd6-9637-fb0b70933f0a/s1200"/>
          <p:cNvPicPr/>
          <p:nvPr/>
        </p:nvPicPr>
        <p:blipFill>
          <a:blip r:embed="rId7"/>
          <a:stretch/>
        </p:blipFill>
        <p:spPr>
          <a:xfrm>
            <a:off x="3132000" y="3736800"/>
            <a:ext cx="2952720" cy="3121200"/>
          </a:xfrm>
          <a:prstGeom prst="rect">
            <a:avLst/>
          </a:prstGeom>
          <a:ln w="0">
            <a:noFill/>
          </a:ln>
        </p:spPr>
      </p:pic>
      <p:pic>
        <p:nvPicPr>
          <p:cNvPr id="53" name="город.mp3" descr=""/>
          <p:cNvPicPr/>
          <p:nvPr/>
        </p:nvPicPr>
        <p:blipFill>
          <a:blip r:embed="rId8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81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s://img3.goodfon.ru/original/2560x1440/6/37/medved-grizli-zima.jpg"/>
          <p:cNvPicPr/>
          <p:nvPr/>
        </p:nvPicPr>
        <p:blipFill>
          <a:blip r:embed="rId1"/>
          <a:stretch/>
        </p:blipFill>
        <p:spPr>
          <a:xfrm>
            <a:off x="0" y="0"/>
            <a:ext cx="573552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s://st4.depositphotos.com/6489776/24813/i/950/depositphotos_248136084-stock-photo-a-female-wolf-lies-in.jpg"/>
          <p:cNvPicPr/>
          <p:nvPr/>
        </p:nvPicPr>
        <p:blipFill>
          <a:blip r:embed="rId2"/>
          <a:stretch/>
        </p:blipFill>
        <p:spPr>
          <a:xfrm>
            <a:off x="0" y="3500280"/>
            <a:ext cx="536400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s://s1.1zoom.ru/big3/998/348165-admin.jpg"/>
          <p:cNvPicPr/>
          <p:nvPr/>
        </p:nvPicPr>
        <p:blipFill>
          <a:blip r:embed="rId3"/>
          <a:stretch/>
        </p:blipFill>
        <p:spPr>
          <a:xfrm>
            <a:off x="5364000" y="3544920"/>
            <a:ext cx="378000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Людмила\Desktop\Мои документы\все мои наработки\все мои наработки\конспекты мои занятия\друзья спешат на\презентация\картинки для презентации\i (1).jpg"/>
          <p:cNvPicPr/>
          <p:nvPr/>
        </p:nvPicPr>
        <p:blipFill>
          <a:blip r:embed="rId4"/>
          <a:stretch/>
        </p:blipFill>
        <p:spPr>
          <a:xfrm>
            <a:off x="5651640" y="0"/>
            <a:ext cx="34923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s://photocentra.ru/images/main73/734849_main.jpg"/>
          <p:cNvPicPr/>
          <p:nvPr/>
        </p:nvPicPr>
        <p:blipFill>
          <a:blip r:embed="rId5"/>
          <a:stretch/>
        </p:blipFill>
        <p:spPr>
          <a:xfrm>
            <a:off x="4427640" y="1844640"/>
            <a:ext cx="2305080" cy="171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6" descr="C:\Users\Людмила\Desktop\Мои документы\все мои наработки\все мои наработки\конспекты мои занятия\друзья спешат на\презентация\картинки для презентации\71556078114687151500.jpg"/>
          <p:cNvPicPr/>
          <p:nvPr/>
        </p:nvPicPr>
        <p:blipFill>
          <a:blip r:embed="rId6"/>
          <a:stretch/>
        </p:blipFill>
        <p:spPr>
          <a:xfrm>
            <a:off x="6732720" y="2349360"/>
            <a:ext cx="241128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https://s3.nat-geo.ru/images/2019/5/15/c0b3d3b4daee43a1bc03b72af3ce5889.max-1200x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дятел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зимний лес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7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466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http://animalphoto.ru/images/photos/medium/0e375cde27752ddcd4e8353c007a08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сорока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8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s://img2.akspic.ru/image/105671-led-gora-arktika-severnyj_ledovityj_okean-ledyanaya_shapka-1920x1080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метель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587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Людмила\Desktop\Мои документы\все мои наработки\все мои наработки\конспекты мои занятия\друзья спешат на\презентация\картинки для презентации\1356365323_forsee1-113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0440"/>
          </a:xfrm>
          <a:prstGeom prst="rect">
            <a:avLst/>
          </a:prstGeom>
          <a:ln w="0">
            <a:noFill/>
          </a:ln>
        </p:spPr>
      </p:pic>
      <p:pic>
        <p:nvPicPr>
          <p:cNvPr id="73" name="3  пляска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ky_3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Детский сад"/>
          <p:cNvPicPr/>
          <p:nvPr/>
        </p:nvPicPr>
        <p:blipFill>
          <a:blip r:embed="rId2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1640" y="259920"/>
            <a:ext cx="4249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780000" y="2133720"/>
            <a:ext cx="5045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20-04-12T04:42:08Z</dcterms:modified>
  <cp:revision>82</cp:revision>
  <dc:subject/>
  <dc:title>PowerPoint Presentation</dc:title>
</cp:coreProperties>
</file>