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729-E238-4B60-8DAB-0771DD3E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D25-EEDB-43E6-B8AF-4F8E5130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C6C-6367-4674-A9FD-944B5647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A0D-D45A-47E9-9F97-68A0B867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F57-A7BC-4DD7-9D54-585F4574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52B-F734-4015-99C1-85A88784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44B-4C8A-4997-A8D0-2F1BF24C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308-3887-45DB-A652-CBBD300E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38D-147E-45F7-B2B4-22EEB0C7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53F-0B5B-42E3-BD5C-9CDEB3D8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037-BDD2-4F10-97D4-5B33A199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D3B-6DD2-4BAD-8E63-E46F1C8C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3FC2-66C7-4743-B8B7-7F4C26236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чимся различать форму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-го лица мн.ч. и повелительную форму глаг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: скругленные углы 3"/>
          <p:cNvSpPr/>
          <p:nvPr/>
        </p:nvSpPr>
        <p:spPr>
          <a:xfrm>
            <a:off x="3203640" y="260280"/>
            <a:ext cx="3097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: скругленные углы 2"/>
          <p:cNvSpPr/>
          <p:nvPr/>
        </p:nvSpPr>
        <p:spPr>
          <a:xfrm>
            <a:off x="539640" y="1504800"/>
            <a:ext cx="3384720" cy="79236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л .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gimche.ru/_nw/5/98714125.jpg"/>
          <p:cNvPicPr/>
          <p:nvPr/>
        </p:nvPicPr>
        <p:blipFill>
          <a:blip r:embed="rId1"/>
          <a:stretch/>
        </p:blipFill>
        <p:spPr>
          <a:xfrm>
            <a:off x="7236000" y="4546440"/>
            <a:ext cx="1617480" cy="20606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: скругленные углы 5"/>
          <p:cNvSpPr/>
          <p:nvPr/>
        </p:nvSpPr>
        <p:spPr>
          <a:xfrm>
            <a:off x="539640" y="2727360"/>
            <a:ext cx="3384720" cy="13064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. 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: скругленные углы 6"/>
          <p:cNvSpPr/>
          <p:nvPr/>
        </p:nvSpPr>
        <p:spPr>
          <a:xfrm>
            <a:off x="4227480" y="1504800"/>
            <a:ext cx="4175280" cy="79236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дел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: скругленные углы 7"/>
          <p:cNvSpPr/>
          <p:nvPr/>
        </p:nvSpPr>
        <p:spPr>
          <a:xfrm>
            <a:off x="4211640" y="300816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делай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Рамка 1"/>
          <p:cNvSpPr/>
          <p:nvPr/>
        </p:nvSpPr>
        <p:spPr>
          <a:xfrm>
            <a:off x="6858000" y="1600200"/>
            <a:ext cx="873000" cy="6094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Рамка 8"/>
          <p:cNvSpPr/>
          <p:nvPr/>
        </p:nvSpPr>
        <p:spPr>
          <a:xfrm>
            <a:off x="7162920" y="3205080"/>
            <a:ext cx="609480" cy="439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 flipV="1">
            <a:off x="6858000" y="2971800"/>
            <a:ext cx="144360" cy="28728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3"/>
          <p:cNvSpPr/>
          <p:nvPr/>
        </p:nvSpPr>
        <p:spPr>
          <a:xfrm flipH="1" flipV="1">
            <a:off x="7009920" y="2971800"/>
            <a:ext cx="135000" cy="25416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: скругленные углы 3"/>
          <p:cNvSpPr/>
          <p:nvPr/>
        </p:nvSpPr>
        <p:spPr>
          <a:xfrm>
            <a:off x="3203640" y="260280"/>
            <a:ext cx="309708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: скругленные углы 2"/>
          <p:cNvSpPr/>
          <p:nvPr/>
        </p:nvSpPr>
        <p:spPr>
          <a:xfrm>
            <a:off x="539640" y="1504800"/>
            <a:ext cx="3384720" cy="79236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л . 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gimche.ru/_nw/5/98714125.jpg"/>
          <p:cNvPicPr/>
          <p:nvPr/>
        </p:nvPicPr>
        <p:blipFill>
          <a:blip r:embed="rId1"/>
          <a:stretch/>
        </p:blipFill>
        <p:spPr>
          <a:xfrm>
            <a:off x="7236000" y="4546440"/>
            <a:ext cx="1617480" cy="2060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: скругленные углы 5"/>
          <p:cNvSpPr/>
          <p:nvPr/>
        </p:nvSpPr>
        <p:spPr>
          <a:xfrm>
            <a:off x="539640" y="2727360"/>
            <a:ext cx="3384720" cy="13064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. 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: скругленные углы 6"/>
          <p:cNvSpPr/>
          <p:nvPr/>
        </p:nvSpPr>
        <p:spPr>
          <a:xfrm>
            <a:off x="4560840" y="1469880"/>
            <a:ext cx="275112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: скругленные углы 7"/>
          <p:cNvSpPr/>
          <p:nvPr/>
        </p:nvSpPr>
        <p:spPr>
          <a:xfrm>
            <a:off x="4716360" y="3008160"/>
            <a:ext cx="275112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0"/>
          <p:cNvSpPr/>
          <p:nvPr/>
        </p:nvSpPr>
        <p:spPr>
          <a:xfrm flipV="1">
            <a:off x="6461280" y="3076560"/>
            <a:ext cx="144360" cy="28728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3"/>
          <p:cNvSpPr/>
          <p:nvPr/>
        </p:nvSpPr>
        <p:spPr>
          <a:xfrm flipH="1" flipV="1">
            <a:off x="6605280" y="3111120"/>
            <a:ext cx="135000" cy="25236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1"/>
          <p:cNvSpPr/>
          <p:nvPr/>
        </p:nvSpPr>
        <p:spPr>
          <a:xfrm flipV="1">
            <a:off x="5653080" y="1263600"/>
            <a:ext cx="198360" cy="35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 flipV="1">
            <a:off x="6543720" y="2571480"/>
            <a:ext cx="196920" cy="35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лилиния: фигура 9"/>
          <p:cNvSpPr/>
          <p:nvPr/>
        </p:nvSpPr>
        <p:spPr>
          <a:xfrm>
            <a:off x="4876920" y="1681200"/>
            <a:ext cx="1487520" cy="331920"/>
          </a:xfrm>
          <a:prstGeom prst="pie">
            <a:avLst/>
          </a:prstGeom>
          <a:noFill/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мся различать глаголы 2 лица мн.ч. настоящего времени и повелительную форму глаг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лица мн.ч. настоящ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рение падает на корень или окон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ет на вопрос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ЧТО ДЕЛ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Ы теря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ЕТЕ    ВЫ и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щ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елительная форма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команду, просьбу, при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рение падает на СУФФИКС или ОКОН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ет на вопрос ЧТО ДЕЛАЙ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суффикс 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Ы ТЕРЯ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ЙТЕ     ВЫ ИЩИ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allyslide.com/thumbs_2/753e5085da7d981b8e45ec692f14ae12/img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s://allyslide.com/thumbs_2/753e5085da7d981b8e45ec692f14ae12/img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гра «Добавь недостающие части глаголов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т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у! Не бер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ё грязными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е клад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ё на грязный 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ерегиб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й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нигу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агиба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йт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её л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ы возьм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ё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нигу в библиот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не забудь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ё вернуть в с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981080" y="17524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5257800" y="17524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2666880" y="28195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200400" y="3352680"/>
            <a:ext cx="76212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743200" y="3962520"/>
            <a:ext cx="76212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3657600" y="4572000"/>
            <a:ext cx="68580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3352680" y="5181480"/>
            <a:ext cx="5335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адцать второе апрел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  ит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рег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т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нигу! Не бер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т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её грязными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гол  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АСТЬ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гол обознача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ЕЙСТВИЕ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гол име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пряжение, род, число, ли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клонение, пад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редложение глагол явля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одлежащим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казуемым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ффикс –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часть слова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часть реч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ффиксы пишу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после корня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перед корн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ффиксы нуж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для образования новых слов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для указания на форму сло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</dc:creator>
  <dc:description/>
  <dc:language>en-US</dc:language>
  <cp:lastModifiedBy>D</cp:lastModifiedBy>
  <dcterms:modified xsi:type="dcterms:W3CDTF">2020-04-12T06:00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