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EB1-038B-424A-92FB-823633C6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011-C793-42EE-BACB-376FFDF3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C1D8C-DBE1-414E-AA55-EC982088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DD94D-E029-4DAC-B7B5-9CB9179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0EA8C-7E68-41B0-8D54-284E49E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F895-9236-46A5-B69D-8021DE1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6D2B-CEF5-47BA-9089-5869C9A8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9BB5-3A68-4AC1-8534-FBD93E0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D782-6735-4BD9-AD45-EB80164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198B-65FF-47FC-A7F4-03F257F7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518D-862C-484F-80CE-DDF887CD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964AA-8F25-4D82-9C9C-F948BCF5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8E7-76D0-45B5-B425-6890EBC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0B2C2-EC34-480C-8EDD-05429B2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3DF9-7296-49DA-9B88-2CED668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F9A0A-6637-4956-97B6-04FBA966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ABFD-39D1-4A64-8DA6-B47A407C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1BDE0-B24D-41C4-92CF-F8710A5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E7FF-4019-41C3-80EC-8286B3C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CB214-9935-4421-BC9A-614DEA03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5FA36-1615-4AA6-9F05-BA04A8A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9EA5A-B419-4A27-9666-14B92A25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A075-0586-4BDF-937F-E2A33631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98B-8E33-49F7-A921-786A0603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A4A72-B01A-477B-857C-4779623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74A84-3060-451E-BA1E-CD0F25C5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B2C6D-339B-499B-8E32-EF074AB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5F28-A429-456C-B3EF-968D2661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C931-F0EE-418F-9369-57EE9EC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79F1-53AB-4C8F-9CB0-24C1EEFD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C2B1-BAB3-4496-AD45-11CF72B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606B8-7B91-445F-8681-A677693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61DD-B156-45C4-A708-8A262251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2EEAF-41B0-405C-A889-8DD522AE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CB4F-8433-40AB-8EE5-2C57512F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0008-B6C6-4333-982D-D213795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A34E-6BBB-49F5-B90D-E5C1BAB5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6AA2E-49B4-4530-AA3E-B15DEA4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63B3B-1ABC-4975-8AB7-C2F866E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1F397-1430-4469-B328-1DC575DF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91FAF-A1A3-448A-AC40-6098D88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297DF-C808-48B9-8A42-76070400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77737-7119-4843-8B34-BB43DD5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B85E5-E157-4F8D-BF99-06DF189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06FD1-3217-4381-9475-48726FA9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20F0-3260-46A4-9E50-A72EA79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0869-AAE7-467C-94DE-518FD4A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1AEAF-CC1D-483A-BE97-3F64DD7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2B6B5-F2EA-4910-8B4D-D21B322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F0BDD-CE39-42C8-A056-01AC6FDE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A2742-E5D2-4FD3-887E-AC07EE12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879-2EA9-44B3-B6B3-D233526E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840-B67C-49CF-BE64-371ABE1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5CDE-4D71-4CDD-8B93-4B22E80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F7C1-B620-4F36-B4B1-0DB12E5A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78C9-A1CE-438E-96B9-84E4597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837-10A9-4FF7-82CB-BE3C654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96C-6C8F-46BA-A9CC-B7B0D3D6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AF93-992B-4841-926E-9111F48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BAB-F85C-4CDC-BC23-17663D9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E2BD-991D-4AE3-9BCB-BC37C28F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89EE-CF8F-4F05-81ED-A385094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86FB-A371-4D6A-A509-52487382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7E88-5725-4A72-B9EF-37D75B4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4A24-7F1B-4AC6-BCAF-A4E4FF24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4CB3-2CCE-4BD4-9E86-B366056E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5B10-2F79-4700-9292-99E3D7F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441-DEEC-4882-BAE6-61DC3F9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9665-C65D-4494-AC74-A18C7C1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94DF-7F9D-4289-9B1C-9491A3B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00F0-30F7-4DA9-A005-6E97B52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0052-EAF1-440F-B2CA-F58719C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022E-52FD-409E-B817-09E6E6C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759E-17CC-4EA9-9249-961341CD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4D88-34E4-45CB-8A04-2CB35702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3DB9-BD61-44D2-88FB-7FD691A2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23EC3-A56B-4196-BFC6-B1823FC2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93BE-5BCE-4DBA-BF8C-ADDB22F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F6D-EE38-4AA8-8F14-00E51E3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306D-6AFE-4ECB-9B81-8F392DE6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884F-D239-4CFC-8559-7984EAE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12AC-5DEF-47B8-9E4E-1471F315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AACA-C8A4-4F55-9AB8-83FD1BC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AD84-D2B5-4791-9F2C-B3DC716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26A3-29CD-4107-A3F7-10ECF7F4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69C7-8EDA-4AF8-83F2-68FE964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9177-0FCE-4947-B938-27B386BF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C260-B6E1-46F9-A735-93696DBD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778F-3BB0-42A7-AE7F-205C7DC2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1A3-6C96-47D9-9698-2F987D42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7D76-2B0F-45BE-BF72-00FAC08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8867-EB3E-4024-948E-5F9C712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F90F-AEFE-48E5-8DE4-D8CA655A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2EE5-5BFB-4E7F-9588-4ACD072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446F-6ACD-4747-89B3-24C8FD0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220A-FDFF-4C9B-9905-033BF1B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5962-06A6-4711-9C3A-9E4FECB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37E07-EC6B-43EF-AB99-66ADF6C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2086-ED5F-4206-8EBF-07121C4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2CC6-86F1-445A-92FD-EA1249BD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FB1-404C-4CCC-988F-E75BC183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D4763-4A08-4A88-AC80-481944AF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C87A8-3172-4722-9936-DE0209C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C430-A768-4812-B5B8-C1DB42D8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B2E66-2811-4DB7-90C0-C34CE60D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3345-1CC0-490F-8CD3-FDE72219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BC0E-7C41-4658-820D-6BC13CC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ADCB-363F-4D61-82FF-FFE94A3B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EF2B-8D8E-4B2A-A7BC-8C8CBCF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1751-A28A-455A-B038-3EF978B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E189-B670-4EC6-B89D-045CEBC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27A-BD92-4B3E-8885-A2A1C64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DDBE-08C6-453D-AA48-BAAB508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CF07-93EC-4BF9-A885-323BF1F7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612C-63F7-4D2F-B683-487FA06B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6790-F686-4286-8FDC-4BAE532C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DFE1-3B53-485A-91FA-BE4E9DC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EAF4-9DDC-4003-A3CC-A69293F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B4AB-B889-4A7E-898F-7D0724BC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B0E00-9D85-4BCD-BB06-A116CD7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2EC0-6932-4404-A5EA-F2A4FFA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1275-24B5-4034-995E-BD093E8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D2A-4C9E-4769-8C58-67AC729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15E5-20F4-4EEA-8C88-5DFECD01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C494-5F99-4D11-B664-757B843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BF07-8524-4721-BD9D-F556B55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1BE8-3DB8-4D74-8E53-DA1C3972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2D7E-1290-485F-9AA6-035098B2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C86BD-A19C-489F-AC71-8B1266E2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F34D-0337-4756-9A66-1CE4361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30CD-2FFB-4822-B47E-FC6BC96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50958-2B7F-4D3B-8771-982967E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1741-7C8B-4092-972F-684C1CA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CB6-D5F2-472A-9E06-B0ECA4A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4D744-624A-4550-AA34-750B921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1D75-9350-409E-BFC9-5E8F8F4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EE602-73ED-4A89-A0FC-F526DEF0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7CA6-21B3-443D-A049-52B852E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7C46F-3B64-4FD2-8C44-4F36C33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1956-7B41-49FE-874C-1B16868B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CFB0-0469-4A23-842E-2746C60E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81955-2189-4EFA-A73A-C1B13214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D4794-01CF-4E3C-AB27-78F414A7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58C5-7D3B-4B01-953F-7DB33476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236-6D18-40E9-BE7F-A396502A4F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BEE-69C7-43FD-8B7F-DF0825891C5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F03-0328-47A9-8AC0-9DFBE01233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631F-D75E-4FEB-BD38-0F6B526C8E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FA74-401C-4722-BBAC-F319865A5B3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1B54-5C78-4509-8C3C-24B2CEF99D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EFE-F86D-4F43-823C-44D321C4F09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E99-507C-4474-889B-2436E38524E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C10-8F74-45EF-B709-490D0F420BC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88C-2B42-4152-A23B-CCEE7B854C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AEE-1370-47D0-9872-F12A1A6FF7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F3B-D7EB-474D-B208-E7FFCC5F8D4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sch273.edusite.ru/images/62286315.pn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2"/>
          <a:stretch/>
        </p:blipFill>
        <p:spPr>
          <a:xfrm>
            <a:off x="420840" y="3852720"/>
            <a:ext cx="8272440" cy="1816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Картинка 5 из 268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7274160" cy="4292640"/>
          </a:xfrm>
          <a:prstGeom prst="rect">
            <a:avLst/>
          </a:prstGeom>
          <a:ln w="0">
            <a:noFill/>
          </a:ln>
        </p:spPr>
      </p:pic>
      <p:sp>
        <p:nvSpPr>
          <p:cNvPr id="507" name="TextBox 4"/>
          <p:cNvSpPr/>
          <p:nvPr/>
        </p:nvSpPr>
        <p:spPr>
          <a:xfrm>
            <a:off x="684360" y="587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әлиуллина Фәрдия Раф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ББУ “Күңгәр урта гомуми белем мәктәб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 rot="21312600">
            <a:off x="3727440" y="2041560"/>
            <a:ext cx="990720" cy="3373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ffff00"/>
                </a:solidFill>
                <a:latin typeface="Constantia"/>
              </a:rPr>
              <a:t>мәктә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567000" y="60876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Һөнәрле үлмәс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521880" y="60876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һөнәрсез көн күрмә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504720" y="1751760"/>
            <a:ext cx="39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- Эшләгән тук булган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318200" y="175176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ә эшләмәгән юк булган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560520" y="281880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Вакытның кыйммәте</a:t>
            </a:r>
            <a:r>
              <a:rPr b="0" lang="tt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582800" y="281844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алтыннан артык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539280" y="403776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- Яман гадәт әрәм итәр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4582440" y="4037760"/>
            <a:ext cx="45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ahoma"/>
                <a:ea typeface="Tahoma"/>
              </a:rPr>
              <a:t>яхшы гадәт адәм итәр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515760" y="1217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3591720" y="2360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3668040" y="342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3591720" y="46468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TextBox 2"/>
          <p:cNvGrpSpPr/>
          <p:nvPr/>
        </p:nvGrpSpPr>
        <p:grpSpPr>
          <a:xfrm>
            <a:off x="5973840" y="-6480"/>
            <a:ext cx="1438200" cy="4554720"/>
            <a:chOff x="5973840" y="-6480"/>
            <a:chExt cx="1438200" cy="4554720"/>
          </a:xfrm>
        </p:grpSpPr>
        <p:pic>
          <p:nvPicPr>
            <p:cNvPr id="510" name="TextBox 2" descr=""/>
            <p:cNvPicPr/>
            <p:nvPr/>
          </p:nvPicPr>
          <p:blipFill>
            <a:blip r:embed="rId2"/>
            <a:stretch/>
          </p:blipFill>
          <p:spPr>
            <a:xfrm>
              <a:off x="5973840" y="-6480"/>
              <a:ext cx="1438200" cy="45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6227640" y="189000"/>
              <a:ext cx="9367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TextBox 3"/>
          <p:cNvGrpSpPr/>
          <p:nvPr/>
        </p:nvGrpSpPr>
        <p:grpSpPr>
          <a:xfrm>
            <a:off x="7169040" y="2077920"/>
            <a:ext cx="1498680" cy="4554720"/>
            <a:chOff x="7169040" y="2077920"/>
            <a:chExt cx="1498680" cy="4554720"/>
          </a:xfrm>
        </p:grpSpPr>
        <p:pic>
          <p:nvPicPr>
            <p:cNvPr id="513" name="TextBox 3" descr=""/>
            <p:cNvPicPr/>
            <p:nvPr/>
          </p:nvPicPr>
          <p:blipFill>
            <a:blip r:embed="rId3"/>
            <a:stretch/>
          </p:blipFill>
          <p:spPr>
            <a:xfrm>
              <a:off x="7169040" y="2077920"/>
              <a:ext cx="1498680" cy="45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640" y="2276640"/>
              <a:ext cx="9367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ы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10" descr="http://fs.nashaucheba.ru/tw_files2/urls_3/1362/d-1361059/1361059_html_m61ae52bb.jpg"/>
          <p:cNvPicPr/>
          <p:nvPr/>
        </p:nvPicPr>
        <p:blipFill>
          <a:blip r:embed="rId4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17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841320"/>
            <a:ext cx="721224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3" descr="16080990.gif"/>
          <p:cNvPicPr/>
          <p:nvPr/>
        </p:nvPicPr>
        <p:blipFill>
          <a:blip r:embed="rId3"/>
          <a:stretch/>
        </p:blipFill>
        <p:spPr>
          <a:xfrm>
            <a:off x="0" y="260280"/>
            <a:ext cx="4643280" cy="115272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3" descr="16080990.gif"/>
          <p:cNvPicPr/>
          <p:nvPr/>
        </p:nvPicPr>
        <p:blipFill>
          <a:blip r:embed="rId4"/>
          <a:stretch/>
        </p:blipFill>
        <p:spPr>
          <a:xfrm>
            <a:off x="4857840" y="285840"/>
            <a:ext cx="4286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21" name="Picture 2" descr="http://dilus1.rusedu.net/gallery/1541/Tuqay.jpg"/>
          <p:cNvPicPr/>
          <p:nvPr/>
        </p:nvPicPr>
        <p:blipFill>
          <a:blip r:embed="rId2"/>
          <a:stretch/>
        </p:blipFill>
        <p:spPr>
          <a:xfrm>
            <a:off x="180648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"/>
          <p:cNvSpPr/>
          <p:nvPr/>
        </p:nvSpPr>
        <p:spPr>
          <a:xfrm>
            <a:off x="179280" y="157032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з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һәм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реде,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лар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йөгерде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п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гала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шьл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үгел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өнн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ая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өннәр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ыска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 кайсы вакыт? Я, </a:t>
            </a:r>
            <a:r>
              <a:rPr b="0" i="1" lang="tt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әйтеп  кара</a:t>
            </a: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4"/>
          <p:cNvSpPr/>
          <p:nvPr/>
        </p:nvSpPr>
        <p:spPr>
          <a:xfrm>
            <a:off x="3348000" y="24922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6"/>
          <p:cNvSpPr/>
          <p:nvPr/>
        </p:nvSpPr>
        <p:spPr>
          <a:xfrm>
            <a:off x="6156360" y="2492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8"/>
          <p:cNvSpPr/>
          <p:nvPr/>
        </p:nvSpPr>
        <p:spPr>
          <a:xfrm>
            <a:off x="900000" y="3068640"/>
            <a:ext cx="1028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2"/>
          <p:cNvSpPr/>
          <p:nvPr/>
        </p:nvSpPr>
        <p:spPr>
          <a:xfrm>
            <a:off x="5435640" y="3068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4"/>
          <p:cNvSpPr/>
          <p:nvPr/>
        </p:nvSpPr>
        <p:spPr>
          <a:xfrm>
            <a:off x="2627280" y="3573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6"/>
          <p:cNvSpPr/>
          <p:nvPr/>
        </p:nvSpPr>
        <p:spPr>
          <a:xfrm>
            <a:off x="5364000" y="357336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18"/>
          <p:cNvSpPr/>
          <p:nvPr/>
        </p:nvSpPr>
        <p:spPr>
          <a:xfrm>
            <a:off x="5003640" y="414972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0"/>
          <p:cNvSpPr/>
          <p:nvPr/>
        </p:nvSpPr>
        <p:spPr>
          <a:xfrm>
            <a:off x="5003640" y="443700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Габдулла Ту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2000160" y="28584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Arial"/>
              </a:rPr>
              <a:t>Матур я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-11554920"/>
            <a:ext cx="227160" cy="1239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Прямоугольник 2"/>
          <p:cNvSpPr/>
          <p:nvPr/>
        </p:nvSpPr>
        <p:spPr>
          <a:xfrm>
            <a:off x="179280" y="692280"/>
            <a:ext cx="8569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Не смеш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те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(«-и-» – суффикс,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 «-те» – окончание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еня! Вы всё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ремя меня смешите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(«-ите» – окончание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форма      2–го лица мн.ч., наст. или буд.вр.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е спешите делать выводы. Вы всегда куда-нибудь спешит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Разъясните мне задачу,пожалуйста. Сначала вы разъясните, как вы решали задачу, затем напишете отве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http://img7.proshkolu.ru/content/media/pic/std/4000000/3233000/3232748-5fee342872fba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2411280" y="162864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и </a:t>
            </a:r>
            <a:r>
              <a:rPr b="1" i="1" lang="tt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ә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шма җөмләлә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2411280" y="620640"/>
            <a:ext cx="3888000" cy="17398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ем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6"/>
          <p:cNvSpPr/>
          <p:nvPr/>
        </p:nvSpPr>
        <p:spPr>
          <a:xfrm>
            <a:off x="294696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128520" y="255600"/>
            <a:ext cx="8643960" cy="620568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5" descr="16080990.gif"/>
          <p:cNvPicPr/>
          <p:nvPr/>
        </p:nvPicPr>
        <p:blipFill>
          <a:blip r:embed="rId3"/>
          <a:stretch/>
        </p:blipFill>
        <p:spPr>
          <a:xfrm>
            <a:off x="1619280" y="260280"/>
            <a:ext cx="4968720" cy="25210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7" descr="1a5b46a9738fd5fe.gif"/>
          <p:cNvPicPr/>
          <p:nvPr/>
        </p:nvPicPr>
        <p:blipFill>
          <a:blip r:embed="rId4"/>
          <a:stretch/>
        </p:blipFill>
        <p:spPr>
          <a:xfrm>
            <a:off x="6659640" y="0"/>
            <a:ext cx="2278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5003640" y="8366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 тиз килә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0" y="189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 көне агачлар бөреләр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тан яра башлас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179280" y="162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ыгач иртә килсә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http://www.playcast.ru/uploads/2015/09/20/15136275.png"/>
          <p:cNvPicPr/>
          <p:nvPr/>
        </p:nvPicPr>
        <p:blipFill>
          <a:blip r:embed="rId2"/>
          <a:stretch/>
        </p:blipFill>
        <p:spPr>
          <a:xfrm>
            <a:off x="324000" y="2924280"/>
            <a:ext cx="5976720" cy="144144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10"/>
          <p:cNvSpPr/>
          <p:nvPr/>
        </p:nvSpPr>
        <p:spPr>
          <a:xfrm>
            <a:off x="2700360" y="234936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ннәр тиз матурланы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1"/>
          <p:cNvSpPr/>
          <p:nvPr/>
        </p:nvSpPr>
        <p:spPr>
          <a:xfrm>
            <a:off x="395280" y="630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Arial"/>
              </a:rPr>
              <a:t>Көннәр тиз матурланыр,  һава җылыныр, яз тиз ки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2"/>
          <p:cNvSpPr/>
          <p:nvPr/>
        </p:nvSpPr>
        <p:spPr>
          <a:xfrm>
            <a:off x="179280" y="4292640"/>
            <a:ext cx="86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ркиләр яз көне иртә күренсәләр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716360" y="5013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һава җылын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3" descr="http://ntpc.com.au/images/midges2.gif"/>
          <p:cNvPicPr/>
          <p:nvPr/>
        </p:nvPicPr>
        <p:blipFill>
          <a:blip r:embed="rId3"/>
          <a:stretch/>
        </p:blipFill>
        <p:spPr>
          <a:xfrm>
            <a:off x="0" y="5030640"/>
            <a:ext cx="529272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2"/>
          <a:stretch/>
        </p:blipFill>
        <p:spPr>
          <a:xfrm>
            <a:off x="-23760" y="182520"/>
            <a:ext cx="89964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0:50:29Z</dcterms:created>
  <dc:creator>Admin</dc:creator>
  <dc:description/>
  <dc:language>en-US</dc:language>
  <cp:lastModifiedBy>D</cp:lastModifiedBy>
  <dcterms:modified xsi:type="dcterms:W3CDTF">2020-04-12T11:36:30Z</dcterms:modified>
  <cp:revision>282</cp:revision>
  <dc:subject/>
  <dc:title>Слайд 1</dc:title>
</cp:coreProperties>
</file>