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4.png" ContentType="image/png"/>
  <Override PartName="/ppt/media/image7.png" ContentType="image/png"/>
  <Override PartName="/ppt/media/image12.jpeg" ContentType="image/jpeg"/>
  <Override PartName="/ppt/media/image6.png" ContentType="image/png"/>
  <Override PartName="/ppt/media/image10.png" ContentType="image/png"/>
  <Override PartName="/ppt/media/image20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8.gif" ContentType="image/gif"/>
  <Override PartName="/ppt/media/image13.jpeg" ContentType="image/jpeg"/>
  <Override PartName="/ppt/media/image5.png" ContentType="image/pn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86C6-EB7E-45BB-AC51-B472D18D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2303-B712-4B54-BAC9-63177FF8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502BF-3015-43F0-BF69-49655C3A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4DEDEA-D96A-4350-A30C-F2CF709D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539AB2-5E4A-43C3-8CA3-427F7898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309B7-0DA9-4882-A704-930585C0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6A630-FE2E-4166-9C9B-26BD7E20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46B35-8DDF-45F6-8C2B-988F845B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2C4DB-0ABB-443A-AE6C-DEA894C4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99ABA-D001-4239-8FDF-00B60547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C7C27-0A72-4894-8927-5AD2C528D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C88CD-BC29-4D73-AB4F-9433A7F2C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A954-99FC-41C1-AC42-8AFA6CFA3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7F490-03D2-4007-A4C1-0B3F3321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0F594-640B-409D-B8DF-FFE6FE4D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4389C-F135-42BD-A44F-7DB7F7A2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33100B-8614-49D4-9DFC-B80CC4C6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74DBC-CD9F-4961-85A8-D01B992A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C3CF6-A222-4841-88D1-A7F17FBE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D5A08-8421-4F2C-952D-A29EC2FE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D5872-6DF7-4E6E-B432-B9517D4D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42602-BA52-4BD8-AADF-8CDC66B3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65F09-6F14-4B06-840A-5DD5C043C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718D-65EB-4152-BF08-D5E8C8B31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7763A-992F-435F-87AF-5E6DB1E96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4E6B9-B955-4B5F-9DA9-850A9FC03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8178F-3186-4E83-BFD4-A694CA81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C516F-ED49-497A-89A4-49E88456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31445-E5E2-4FEC-AA2D-2349C27A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40CEB-2018-4C65-9D19-DA1DE91E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21209-CE53-48EE-AB09-2249B387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873B4-AE42-46B2-9BC5-77060E1A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341E3-C6DB-4AC7-8EC2-59CEE7DD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8D537-8847-4C2B-921C-FCBE0946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514D-01C8-4F50-B8D5-8EDC3427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DE6C7-C0CC-42BD-AE94-9D59E2E7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F6FEA-3057-4EDC-89B2-C5DC4C73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A21CA-71CF-416C-8472-47DFD803D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A54A29-93F6-4790-B6AB-930D5E154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6E0E2E-B3A8-4E6C-823D-D699B378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EAA65C-C374-4611-9BA6-ACEE3C85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3548D-971B-46E0-BF4E-4183DEB7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6238B8-6E1B-47A7-85F9-D43F7C06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2665A2-E3B2-4032-B694-C4785AD8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1EBC4F-DB57-44FA-B6FB-1D58F6FF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86DC-EDA5-4227-BD28-BE23BAFD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CCD580-CF09-42E0-B59E-0A556D37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52031D-12A3-40C0-BB9E-113D618F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2EE969-EC49-4B49-80BE-61BDA345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EFC0CD-E149-4509-837F-A448053C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0B5CED-BD3E-4F5D-AF29-A4D1261A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3F13-734C-4997-91D3-1A5B4087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BFCC-E22D-41EB-BCFE-2A2BFC4D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9D34-A0DD-493F-9A02-6612B123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6C05-43EA-4DA7-B733-746814AF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8B69-3A9D-46AF-B0D5-D3E6D891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72AE-2F78-488A-A3AA-89CE550C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6A75-18D3-411F-8E42-3C923F26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940E-BC98-4158-B952-76EEDA21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4065-C4B0-43C8-B284-A63861A0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F830-820C-4E7D-9151-E60B8E75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BC11-4106-4DB2-B61B-F4AB19AA4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91861-191E-46BC-853B-3E6A747C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2EDD9-C9CA-4568-B7F0-1B47D74F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C4219-46E5-4E49-ACB8-BE86988D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0E7CF-E0BD-45EE-9271-05000E08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07B95-4EF1-49A1-945B-049558E0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0420-057A-40FC-AC06-A233990B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DCD69-A981-4042-A403-5336BC40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AB737-E038-400D-9C96-D2CE12EB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30635-2C35-407A-8C77-9CC346A1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751D0-52DF-4214-8B71-579CD277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BA2EB-F446-4450-B746-906DBA99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6D0F9-981D-4780-B140-6CEA818A7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3E758-3690-452E-B15C-45D80985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79C09-D260-44E3-8A26-0B2A50B4D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F3D50-F0BC-4D38-A154-FAFDD1AE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66C60-447B-4844-86BB-4A9B780B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176A-8269-40E0-9117-02B95310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AD2B7-F57A-492F-8A36-387D16FA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32368-A7E6-44DD-9A2E-DD9CE60E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7BF89-009D-4575-A198-D18DA08B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BA579-15CC-439F-9334-2E325CC3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E5735-7F63-43DC-BE09-A8487AA7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AE318-BB6C-4ADF-9E9B-7E4D4DCD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75832-6E5F-4AC4-B71F-152DAA18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316F2-5006-4701-8BD9-FF9CEE5F8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DF5C3-6E9A-4F98-8E9B-8A16472C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6ACB9-3469-4522-BD1A-8CC194885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A769-7FC0-4D56-B0DE-66073360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1D108-887D-4843-9A4B-1A5B896C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51838-6961-4C46-B5A6-BA628A8B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52AFE-766F-400A-815D-E7E75612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3A6A6-18C5-42DD-B0E7-21B84960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151B8-6B14-4DB6-86F0-0F054D7F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A0B9D-D707-4FE2-8E26-D3943A24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9ECA6-20AD-481F-A8F5-1980D0CF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B0236-AE07-43AE-BC9E-182AF608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0DFA9-4528-4785-9CCF-4066C1CB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8ACDF-5CD8-4D50-A852-7C5EC0762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2FD5-75CB-4516-B7BF-58772954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967A7-74B4-41EB-8936-11831760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274C9-040A-4988-99C5-F46E97AFF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D0685-608B-418F-9998-DFABAFA4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1180B-6FB5-49E1-8F47-825B62CB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A5B5E-43AE-4777-ABAE-523C30DD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EBA8C-7702-460C-83F6-2166DDC9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A85B9-A4B7-4EB2-85BA-7FA87F26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8DBB4-C102-4CB9-A21B-DA5066A3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628F7-62D3-4FD9-873E-85BD121A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A09C6-F875-496C-815E-7A765A66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486B-A153-4237-BC7D-0DFB3B2D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7AE5F-A0E6-420F-90FA-54E22C0E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CFA54-1014-4E04-B2C3-A2C825FBC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509F7-7727-4F46-9AFD-B8445BED0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C217C-C87D-4167-A1D1-9EA8DFB0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8FFA3-EDCC-4A0B-8D2B-111A57ED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E036C-FDFA-4F7B-9BA3-5498D50E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B0E1E-160E-403E-A4C4-1E63ADC0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CA35B-9565-4A31-AC42-9B8D6A07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1F5C2-BE37-4671-95BF-14B34131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ADC32-ACB4-433C-9C1A-041E1EE5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CCFF-E6B3-43CD-BA94-B111C64E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93CB2-01A8-48F6-ACC6-AB8E4CF5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9438C-D86A-4982-B84A-86760C41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0DE33-65C4-435A-8395-8BE513A1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08854-A5C7-4EBF-8EA3-75F31ACAF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9CF94-CC54-43DA-8641-A19ABD41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71AAE-B366-42B3-9BFE-0B422A8A6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D2146-8AE1-48C4-B030-5C3DFBB5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DDDE9-7A31-486F-B03D-E87FE197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C3FE6-55E6-487D-B4D7-D7F7E2F2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F19AD-3073-4786-9DD8-F5262EFF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D427-77DD-40C2-9857-C1AF129E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83222-E769-482D-ADEA-AD44FF42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0AEEE-9E6D-4B56-9285-662209FC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B3A51-E944-4E8D-8E8C-478134B3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E80EA-A25A-4CD1-B6E2-B4F21026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FE4C4-503C-4C97-878F-5BA43ED0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38615-C805-4BD7-88ED-911E7C082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7A496-9240-4710-BF0A-09AE54D3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D35CF-3FEF-4B54-BB2F-356C6612C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2AF97-A20C-49A5-87EF-3488E2AD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F632B-3D88-4BE3-8D47-B2125185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F627-C9E3-40E0-A4B8-6B4607B16B5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577D-31C6-4282-BFA6-82714FEC768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0245-FADB-41D2-9E6A-7C0B6962362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A2C3-7EEB-4D52-914B-392FD46D2E7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0D5D-2747-4EC0-9D7F-C4703C62174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EA4E-9274-4108-9CC2-85BB87678FC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04E4-0D1F-4771-A456-A559E380FFE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2BBB-DB07-4BD8-8368-1CD4E35FB81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0FC9-7CF7-4408-9E9C-732E84CB509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25FE-F979-4CB5-B14C-FC2AF2F33DA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A121-F10F-4393-A7F8-ED3479B0D12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C330-6D87-4120-AA40-E46968CE6B4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http://sch273.edusite.ru/images/62286315.png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image" Target="../media/image11.gi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Заголовок 1" descr=""/>
          <p:cNvPicPr/>
          <p:nvPr/>
        </p:nvPicPr>
        <p:blipFill>
          <a:blip r:embed="rId2"/>
          <a:stretch/>
        </p:blipFill>
        <p:spPr>
          <a:xfrm>
            <a:off x="420840" y="3852720"/>
            <a:ext cx="8272440" cy="18162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7" descr="Картинка 5 из 2684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42920" y="0"/>
            <a:ext cx="7274160" cy="4292640"/>
          </a:xfrm>
          <a:prstGeom prst="rect">
            <a:avLst/>
          </a:prstGeom>
          <a:ln w="0">
            <a:noFill/>
          </a:ln>
        </p:spPr>
      </p:pic>
      <p:sp>
        <p:nvSpPr>
          <p:cNvPr id="507" name="TextBox 4"/>
          <p:cNvSpPr/>
          <p:nvPr/>
        </p:nvSpPr>
        <p:spPr>
          <a:xfrm>
            <a:off x="684360" y="58770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Вәлиуллина Фәрдия Рафисо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МББУ “Күңгәр урта гомуми белем мәктәбе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4"/>
          <p:cNvSpPr/>
          <p:nvPr/>
        </p:nvSpPr>
        <p:spPr>
          <a:xfrm rot="21312600">
            <a:off x="3727440" y="2041560"/>
            <a:ext cx="990720" cy="33732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600" spc="-1" strike="noStrike">
                <a:solidFill>
                  <a:srgbClr val="ffff00"/>
                </a:solidFill>
                <a:latin typeface="Constantia"/>
              </a:rPr>
              <a:t>мәктә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4"/>
          <p:cNvSpPr/>
          <p:nvPr/>
        </p:nvSpPr>
        <p:spPr>
          <a:xfrm>
            <a:off x="567000" y="608760"/>
            <a:ext cx="31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t-RU" sz="2800" spc="-1" strike="noStrike">
                <a:solidFill>
                  <a:srgbClr val="000000"/>
                </a:solidFill>
                <a:latin typeface="Tahoma"/>
                <a:ea typeface="Tahoma"/>
              </a:rPr>
              <a:t>Һөнәрле үлмәс</a:t>
            </a: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3521880" y="608760"/>
            <a:ext cx="42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ahoma"/>
                <a:ea typeface="Tahoma"/>
              </a:rPr>
              <a:t>һөнәрсез көн күрмәс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504720" y="1751760"/>
            <a:ext cx="39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ahoma"/>
                <a:ea typeface="Tahoma"/>
              </a:rPr>
              <a:t>- Эшләгән тук булган,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4318200" y="1751760"/>
            <a:ext cx="472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ahoma"/>
                <a:ea typeface="Tahoma"/>
              </a:rPr>
              <a:t>ә эшләмәгән юк булган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8"/>
          <p:cNvSpPr/>
          <p:nvPr/>
        </p:nvSpPr>
        <p:spPr>
          <a:xfrm>
            <a:off x="560520" y="2818800"/>
            <a:ext cx="41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t-RU" sz="2800" spc="-1" strike="noStrike">
                <a:solidFill>
                  <a:srgbClr val="000000"/>
                </a:solidFill>
                <a:latin typeface="Tahoma"/>
                <a:ea typeface="Tahoma"/>
              </a:rPr>
              <a:t>Вакытның кыйммәте</a:t>
            </a:r>
            <a:r>
              <a:rPr b="0" lang="tt-RU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9"/>
          <p:cNvSpPr/>
          <p:nvPr/>
        </p:nvSpPr>
        <p:spPr>
          <a:xfrm>
            <a:off x="4582800" y="2818440"/>
            <a:ext cx="34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ahoma"/>
                <a:ea typeface="Tahoma"/>
              </a:rPr>
              <a:t>алтыннан артык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0"/>
          <p:cNvSpPr/>
          <p:nvPr/>
        </p:nvSpPr>
        <p:spPr>
          <a:xfrm>
            <a:off x="539280" y="4037760"/>
            <a:ext cx="43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ahoma"/>
                <a:ea typeface="Tahoma"/>
              </a:rPr>
              <a:t>- Яман гадәт әрәм итәр</a:t>
            </a: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4582440" y="4037760"/>
            <a:ext cx="45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ahoma"/>
                <a:ea typeface="Tahoma"/>
              </a:rPr>
              <a:t>яхшы гадәт адәм итәр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3515760" y="121788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3"/>
          <p:cNvSpPr/>
          <p:nvPr/>
        </p:nvSpPr>
        <p:spPr>
          <a:xfrm>
            <a:off x="3591720" y="236088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4"/>
          <p:cNvSpPr/>
          <p:nvPr/>
        </p:nvSpPr>
        <p:spPr>
          <a:xfrm>
            <a:off x="3668040" y="342756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5"/>
          <p:cNvSpPr/>
          <p:nvPr/>
        </p:nvSpPr>
        <p:spPr>
          <a:xfrm>
            <a:off x="3591720" y="464688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TextBox 2"/>
          <p:cNvGrpSpPr/>
          <p:nvPr/>
        </p:nvGrpSpPr>
        <p:grpSpPr>
          <a:xfrm>
            <a:off x="5973840" y="-6480"/>
            <a:ext cx="1438200" cy="4554720"/>
            <a:chOff x="5973840" y="-6480"/>
            <a:chExt cx="1438200" cy="4554720"/>
          </a:xfrm>
        </p:grpSpPr>
        <p:pic>
          <p:nvPicPr>
            <p:cNvPr id="510" name="TextBox 2" descr=""/>
            <p:cNvPicPr/>
            <p:nvPr/>
          </p:nvPicPr>
          <p:blipFill>
            <a:blip r:embed="rId2"/>
            <a:stretch/>
          </p:blipFill>
          <p:spPr>
            <a:xfrm>
              <a:off x="5973840" y="-6480"/>
              <a:ext cx="1438200" cy="45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6227640" y="189000"/>
              <a:ext cx="93672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Д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ө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р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е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TextBox 3"/>
          <p:cNvGrpSpPr/>
          <p:nvPr/>
        </p:nvGrpSpPr>
        <p:grpSpPr>
          <a:xfrm>
            <a:off x="7169040" y="2077920"/>
            <a:ext cx="1498680" cy="4554720"/>
            <a:chOff x="7169040" y="2077920"/>
            <a:chExt cx="1498680" cy="4554720"/>
          </a:xfrm>
        </p:grpSpPr>
        <p:pic>
          <p:nvPicPr>
            <p:cNvPr id="513" name="TextBox 3" descr=""/>
            <p:cNvPicPr/>
            <p:nvPr/>
          </p:nvPicPr>
          <p:blipFill>
            <a:blip r:embed="rId3"/>
            <a:stretch/>
          </p:blipFill>
          <p:spPr>
            <a:xfrm>
              <a:off x="7169040" y="2077920"/>
              <a:ext cx="1498680" cy="45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7451640" y="2276640"/>
              <a:ext cx="93672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у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тыр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!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5" name="Picture 10" descr="http://fs.nashaucheba.ru/tw_files2/urls_3/1362/d-1361059/1361059_html_m61ae52bb.jpg"/>
          <p:cNvPicPr/>
          <p:nvPr/>
        </p:nvPicPr>
        <p:blipFill>
          <a:blip r:embed="rId4"/>
          <a:stretch/>
        </p:blipFill>
        <p:spPr>
          <a:xfrm>
            <a:off x="0" y="0"/>
            <a:ext cx="453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517" name="Прямоугольник 2" descr=""/>
          <p:cNvPicPr/>
          <p:nvPr/>
        </p:nvPicPr>
        <p:blipFill>
          <a:blip r:embed="rId2"/>
          <a:stretch/>
        </p:blipFill>
        <p:spPr>
          <a:xfrm>
            <a:off x="1109520" y="841320"/>
            <a:ext cx="7212240" cy="2322720"/>
          </a:xfrm>
          <a:prstGeom prst="rect">
            <a:avLst/>
          </a:prstGeom>
          <a:ln w="0">
            <a:noFill/>
          </a:ln>
        </p:spPr>
      </p:pic>
      <p:pic>
        <p:nvPicPr>
          <p:cNvPr id="518" name="Рисунок 3" descr="16080990.gif"/>
          <p:cNvPicPr/>
          <p:nvPr/>
        </p:nvPicPr>
        <p:blipFill>
          <a:blip r:embed="rId3"/>
          <a:stretch/>
        </p:blipFill>
        <p:spPr>
          <a:xfrm>
            <a:off x="0" y="260280"/>
            <a:ext cx="4643280" cy="1152720"/>
          </a:xfrm>
          <a:prstGeom prst="rect">
            <a:avLst/>
          </a:prstGeom>
          <a:ln w="0">
            <a:noFill/>
          </a:ln>
        </p:spPr>
      </p:pic>
      <p:pic>
        <p:nvPicPr>
          <p:cNvPr id="519" name="Рисунок 3" descr="16080990.gif"/>
          <p:cNvPicPr/>
          <p:nvPr/>
        </p:nvPicPr>
        <p:blipFill>
          <a:blip r:embed="rId4"/>
          <a:stretch/>
        </p:blipFill>
        <p:spPr>
          <a:xfrm>
            <a:off x="4857840" y="285840"/>
            <a:ext cx="42861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521" name="Picture 2" descr="http://dilus1.rusedu.net/gallery/1541/Tuqay.jpg"/>
          <p:cNvPicPr/>
          <p:nvPr/>
        </p:nvPicPr>
        <p:blipFill>
          <a:blip r:embed="rId2"/>
          <a:stretch/>
        </p:blipFill>
        <p:spPr>
          <a:xfrm>
            <a:off x="1806480" y="0"/>
            <a:ext cx="527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1"/>
          <p:cNvSpPr/>
          <p:nvPr/>
        </p:nvSpPr>
        <p:spPr>
          <a:xfrm>
            <a:off x="179280" y="157032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tt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оз</a:t>
            </a:r>
            <a:r>
              <a:rPr b="0" i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һәм </a:t>
            </a:r>
            <a:r>
              <a:rPr b="0" i="1" lang="tt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р</a:t>
            </a:r>
            <a:r>
              <a:rPr b="0" i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tt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реде,</a:t>
            </a:r>
            <a:r>
              <a:rPr b="0" i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tt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лар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tt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йөгерде</a:t>
            </a:r>
            <a:r>
              <a:rPr b="0" i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tt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ап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лгалар</a:t>
            </a:r>
            <a:r>
              <a:rPr b="0" i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tt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шьләр</a:t>
            </a:r>
            <a:r>
              <a:rPr b="0" i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tt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үгелд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tt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өннәр</a:t>
            </a:r>
            <a:r>
              <a:rPr b="0" i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tt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зая</a:t>
            </a:r>
            <a:r>
              <a:rPr b="0" i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tt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өннәр</a:t>
            </a:r>
            <a:r>
              <a:rPr b="0" i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tt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ыска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tt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tt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Бу кайсы вакыт? Я, </a:t>
            </a:r>
            <a:r>
              <a:rPr b="0" i="1" lang="tt-RU" sz="3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әйтеп  кара</a:t>
            </a:r>
            <a:r>
              <a:rPr b="0" i="1" lang="tt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.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ая соединительная линия 4"/>
          <p:cNvSpPr/>
          <p:nvPr/>
        </p:nvSpPr>
        <p:spPr>
          <a:xfrm>
            <a:off x="3348000" y="249228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ая соединительная линия 6"/>
          <p:cNvSpPr/>
          <p:nvPr/>
        </p:nvSpPr>
        <p:spPr>
          <a:xfrm>
            <a:off x="6156360" y="2492280"/>
            <a:ext cx="151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Прямая соединительная линия 8"/>
          <p:cNvSpPr/>
          <p:nvPr/>
        </p:nvSpPr>
        <p:spPr>
          <a:xfrm>
            <a:off x="900000" y="3068640"/>
            <a:ext cx="102888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ая соединительная линия 12"/>
          <p:cNvSpPr/>
          <p:nvPr/>
        </p:nvSpPr>
        <p:spPr>
          <a:xfrm>
            <a:off x="5435640" y="3068640"/>
            <a:ext cx="165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ая соединительная линия 14"/>
          <p:cNvSpPr/>
          <p:nvPr/>
        </p:nvSpPr>
        <p:spPr>
          <a:xfrm>
            <a:off x="2627280" y="3573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ая соединительная линия 16"/>
          <p:cNvSpPr/>
          <p:nvPr/>
        </p:nvSpPr>
        <p:spPr>
          <a:xfrm>
            <a:off x="5364000" y="3573360"/>
            <a:ext cx="165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ая соединительная линия 18"/>
          <p:cNvSpPr/>
          <p:nvPr/>
        </p:nvSpPr>
        <p:spPr>
          <a:xfrm>
            <a:off x="5003640" y="4149720"/>
            <a:ext cx="2305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10"/>
          <p:cNvSpPr/>
          <p:nvPr/>
        </p:nvSpPr>
        <p:spPr>
          <a:xfrm>
            <a:off x="5003640" y="4437000"/>
            <a:ext cx="32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Габдулла Тук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10"/>
          <p:cNvSpPr/>
          <p:nvPr/>
        </p:nvSpPr>
        <p:spPr>
          <a:xfrm>
            <a:off x="2000160" y="285840"/>
            <a:ext cx="49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0000"/>
                </a:solidFill>
                <a:latin typeface="Arial"/>
              </a:rPr>
              <a:t>Матур яз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-11554920"/>
            <a:ext cx="227160" cy="1239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Прямоугольник 2"/>
          <p:cNvSpPr/>
          <p:nvPr/>
        </p:nvSpPr>
        <p:spPr>
          <a:xfrm>
            <a:off x="179280" y="692280"/>
            <a:ext cx="856944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Не смеш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ите </a:t>
            </a: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(«-и-» – суффикс,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 «-те» – окончание)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меня! Вы всё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время меня смешите </a:t>
            </a: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(«-ите» – окончание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-</a:t>
            </a: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форма      2–го лица мн.ч., наст. или буд.вр.)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Не спешите делать выводы. Вы всегда куда-нибудь спешите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3. 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Разъясните мне задачу,пожалуйста. Сначала вы разъясните, как вы решали задачу, затем напишете ответ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.</a:t>
            </a: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2" descr="http://img7.proshkolu.ru/content/media/pic/std/4000000/3233000/3232748-5fee342872fba0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TextBox 4"/>
          <p:cNvSpPr/>
          <p:nvPr/>
        </p:nvSpPr>
        <p:spPr>
          <a:xfrm>
            <a:off x="2411280" y="1628640"/>
            <a:ext cx="61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ди </a:t>
            </a:r>
            <a:r>
              <a:rPr b="1" i="1" lang="tt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һәм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шма җөмләлә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5"/>
          <p:cNvSpPr/>
          <p:nvPr/>
        </p:nvSpPr>
        <p:spPr>
          <a:xfrm>
            <a:off x="2411280" y="620640"/>
            <a:ext cx="3888000" cy="1739880"/>
          </a:xfrm>
          <a:prstGeom prst="rect">
            <a:avLst/>
          </a:prstGeom>
          <a:solidFill>
            <a:srgbClr val="10cf9b"/>
          </a:solidFill>
          <a:ln w="25560">
            <a:solidFill>
              <a:srgbClr val="0998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Тем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Прямоугольник 6"/>
          <p:cNvSpPr/>
          <p:nvPr/>
        </p:nvSpPr>
        <p:spPr>
          <a:xfrm>
            <a:off x="2946960" y="324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Заголовок 1" descr=""/>
          <p:cNvPicPr/>
          <p:nvPr/>
        </p:nvPicPr>
        <p:blipFill>
          <a:blip r:embed="rId2"/>
          <a:stretch/>
        </p:blipFill>
        <p:spPr>
          <a:xfrm>
            <a:off x="128520" y="255600"/>
            <a:ext cx="8643960" cy="6205680"/>
          </a:xfrm>
          <a:prstGeom prst="rect">
            <a:avLst/>
          </a:prstGeom>
          <a:ln w="0">
            <a:noFill/>
          </a:ln>
        </p:spPr>
      </p:pic>
      <p:pic>
        <p:nvPicPr>
          <p:cNvPr id="539" name="Рисунок 5" descr="16080990.gif"/>
          <p:cNvPicPr/>
          <p:nvPr/>
        </p:nvPicPr>
        <p:blipFill>
          <a:blip r:embed="rId3"/>
          <a:stretch/>
        </p:blipFill>
        <p:spPr>
          <a:xfrm>
            <a:off x="1619280" y="260280"/>
            <a:ext cx="4968720" cy="2521080"/>
          </a:xfrm>
          <a:prstGeom prst="rect">
            <a:avLst/>
          </a:prstGeom>
          <a:ln w="0">
            <a:noFill/>
          </a:ln>
        </p:spPr>
      </p:pic>
      <p:pic>
        <p:nvPicPr>
          <p:cNvPr id="540" name="Рисунок 7" descr="1a5b46a9738fd5fe.gif"/>
          <p:cNvPicPr/>
          <p:nvPr/>
        </p:nvPicPr>
        <p:blipFill>
          <a:blip r:embed="rId4"/>
          <a:stretch/>
        </p:blipFill>
        <p:spPr>
          <a:xfrm>
            <a:off x="6659640" y="0"/>
            <a:ext cx="22780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Box 3"/>
          <p:cNvSpPr/>
          <p:nvPr/>
        </p:nvSpPr>
        <p:spPr>
          <a:xfrm>
            <a:off x="5003640" y="83664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з тиз килә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5"/>
          <p:cNvSpPr/>
          <p:nvPr/>
        </p:nvSpPr>
        <p:spPr>
          <a:xfrm>
            <a:off x="0" y="18900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з көне агачлар бөреләре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стан яра башлас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ямоугольник 6"/>
          <p:cNvSpPr/>
          <p:nvPr/>
        </p:nvSpPr>
        <p:spPr>
          <a:xfrm>
            <a:off x="179280" y="1628640"/>
            <a:ext cx="59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лыгач иртә килсә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6" descr="http://www.playcast.ru/uploads/2015/09/20/15136275.png"/>
          <p:cNvPicPr/>
          <p:nvPr/>
        </p:nvPicPr>
        <p:blipFill>
          <a:blip r:embed="rId2"/>
          <a:stretch/>
        </p:blipFill>
        <p:spPr>
          <a:xfrm>
            <a:off x="324000" y="2924280"/>
            <a:ext cx="5976720" cy="1441440"/>
          </a:xfrm>
          <a:prstGeom prst="rect">
            <a:avLst/>
          </a:prstGeom>
          <a:ln w="0">
            <a:noFill/>
          </a:ln>
        </p:spPr>
      </p:pic>
      <p:sp>
        <p:nvSpPr>
          <p:cNvPr id="545" name="Прямоугольник 10"/>
          <p:cNvSpPr/>
          <p:nvPr/>
        </p:nvSpPr>
        <p:spPr>
          <a:xfrm>
            <a:off x="2700360" y="2349360"/>
            <a:ext cx="64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өннәр тиз матурланыр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11"/>
          <p:cNvSpPr/>
          <p:nvPr/>
        </p:nvSpPr>
        <p:spPr>
          <a:xfrm>
            <a:off x="395280" y="6308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0000"/>
                </a:solidFill>
                <a:latin typeface="Arial"/>
              </a:rPr>
              <a:t>Көннәр тиз матурланыр,  һава җылыныр, яз тиз кил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12"/>
          <p:cNvSpPr/>
          <p:nvPr/>
        </p:nvSpPr>
        <p:spPr>
          <a:xfrm>
            <a:off x="179280" y="4292640"/>
            <a:ext cx="86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еркиләр яз көне иртә күренсәләр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14"/>
          <p:cNvSpPr/>
          <p:nvPr/>
        </p:nvSpPr>
        <p:spPr>
          <a:xfrm>
            <a:off x="4716360" y="50133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һава җылыны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13" descr="http://ntpc.com.au/images/midges2.gif"/>
          <p:cNvPicPr/>
          <p:nvPr/>
        </p:nvPicPr>
        <p:blipFill>
          <a:blip r:embed="rId3"/>
          <a:stretch/>
        </p:blipFill>
        <p:spPr>
          <a:xfrm>
            <a:off x="0" y="5030640"/>
            <a:ext cx="5292720" cy="13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Заголовок 1" descr=""/>
          <p:cNvPicPr/>
          <p:nvPr/>
        </p:nvPicPr>
        <p:blipFill>
          <a:blip r:embed="rId2"/>
          <a:stretch/>
        </p:blipFill>
        <p:spPr>
          <a:xfrm>
            <a:off x="-23760" y="182520"/>
            <a:ext cx="8996400" cy="62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1T10:50:29Z</dcterms:created>
  <dc:creator>Admin</dc:creator>
  <dc:description/>
  <dc:language>en-US</dc:language>
  <cp:lastModifiedBy>D</cp:lastModifiedBy>
  <dcterms:modified xsi:type="dcterms:W3CDTF">2020-04-12T11:36:30Z</dcterms:modified>
  <cp:revision>282</cp:revision>
  <dc:subject/>
  <dc:title>Слайд 1</dc:title>
</cp:coreProperties>
</file>