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5.png" ContentType="image/png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0F40-2424-43F3-8EAD-A00D74E9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A4B-DC70-4413-948E-18A41590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36CCA-406B-4396-81E8-7E02986B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EC429-B3DA-4872-AC2B-94710D6C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6FC09-EF1F-4113-954F-3045403D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B7B7D-DE2A-4A71-B725-FB6DC84A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4AA2A-3B03-417B-BD35-54FAEA31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F6086-1EEA-4512-AC11-EF63A2A6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0B4D6-6F21-4C59-8436-016A0B0B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01F17-63D2-4BB9-B2A1-84F340AC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C3570-286B-456D-9433-C6A8EFA7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B7199-9C99-4C5A-8870-AFF7E41A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3B3-1C22-45DE-BB35-D3314F86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F332E-C333-474A-A199-5DFEAA9C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A2EC0-E6B6-43D9-9C8E-0D90D275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B66F4-5F85-42C2-94D5-28DAC32A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287F8-5DD6-4DDA-8A70-81B8AD52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B44A1-1604-4E00-A3DC-DB4CFA88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85CAF-EE62-4318-AF01-21E692A7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D5E5D-37BE-4110-B543-89C7DDEE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E63B4-81B9-4E3F-91D3-E24D5FB9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B267F-C303-4C8B-B410-80F0AE09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3DB7A-B508-42A9-9A61-9EF46CE2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F0C5-6E2B-45B4-9AE9-54F78E6B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6D334-E5C5-4CB2-8F4F-A6D68BE6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34240-DA9B-4035-B4E5-E52AC139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33F5D-F134-4020-9AE6-2EDD10EC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451C6-F9B3-4D7B-9F03-C22027DD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DFD8A-2EB5-40E2-ADDB-8B590E5E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20EBD-B28A-40A4-93AD-8F62BA34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1E4C1-156D-4CF9-B6C9-510837AA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C2547-F66D-4153-BC88-8524F582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A1B9E-C662-4316-BECD-B130D19A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FE7CB-5F82-4541-95D6-23617C67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2CED-B7C3-453B-AB9D-B9F9DFAB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D221A-4867-457E-9863-2F5435A7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4D0D7-A9A6-49FE-9224-191DC490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C3639-54D0-4AAE-B211-AF2E14A5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6D08-59A8-4D9A-BB38-51012D54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7B8F-2A67-4EDC-ADBC-6575BCBE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FBEF-37F8-44EA-8448-EFC0E2EE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192F-DC0A-4876-A927-5297DDB9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5910-FC61-452B-9F5E-09C71FEE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1503-FB9B-48DE-9387-7C92CE2A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707-2486-42DE-B36D-0DA72438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9FA7-4BE6-4F2E-AEFE-BFD23EB2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8135-5D89-4687-9CA5-44FDF887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DFD3-4E32-4EB1-BF2B-A3BE7403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7B8C-EB05-410E-A54C-9CDCFA02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DE49-3F33-44C9-A47F-AF948C02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C95F5-0523-44EE-9E65-368FEE2A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5DE13-7A35-4F3E-BA2E-16617B1A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6FDB9-A2FA-43B0-B87A-51B94803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452F2-FB7D-4E04-B7E2-4568A5F8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01A0C-CF62-42E3-9FF5-4F8B387F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E42-A3B0-466D-821A-F909B97A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B26AC-C2EC-4AB5-9F90-DDAEAED5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BBEC0-298A-4DCB-B1B8-93F28E9A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24849-5BA8-472B-B828-A87BC6F3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840DB-EEEB-418B-9956-192FDF3A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CCEB0-FDE1-4827-B1B9-0DB2535F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12CC4-D00F-4B36-86F2-6471FB5F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F2FA9-B9E1-426C-8424-CD2155E9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BEED8-CE6C-4E97-B74D-4AAEBAC8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6FC5F-1B6A-43B9-9750-18307392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F1FE7-A465-4B1C-AB55-87812EA4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D48A-9A65-4AE2-AA51-BF8BC1DD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884DE-986F-426C-A0C1-7CB9C5F4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80D4D-514F-458E-8654-CF7B191D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C84DA-0A67-4EAA-A1EC-8A0EFB8C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4727A-598E-45DD-A2CF-775EE7FF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95F3A-78C0-4141-A8FE-31D9B3E5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2F272-BC97-468A-A9A1-42871EDE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A24DC-48F6-4491-827E-E58E66F8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4C63A-B90E-4F8A-A2D8-FBDCF7E8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FEA4C-4A3C-48E6-8E89-C3E1C4C0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F6AD6-90EA-49DF-9B4E-142ECC54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7D58-44C8-4462-8553-DBB76053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E2336-47A1-4B67-AB6E-2FD3B1F7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CAF35-056C-4C70-B0B7-B8142A82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2316D-B8C0-45E7-B667-7FFD57A0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09CEE-DE63-476C-94CD-2A33DA36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8D266-978F-4EA0-85A6-1C6A7197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0A5B4-2647-4C12-B3B2-0BE00FD1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88863-2EAF-4C27-AD7C-BCD47F57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35D8E-AC54-457E-9197-1553C018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CE6B3-9EB8-4E20-88EA-A6B5FD05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B9E8A-4A6E-494A-801C-FA3CCAE2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FAA-E1C5-4ACE-8CE0-86E91B71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75054-18DB-4EFA-A1F7-AB26ABE4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D623F-DEA4-49D1-936A-5A894C9A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9DF3B-6205-46F5-BDE4-0B950391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95724-28D9-4114-A8E8-24CB2F35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323C5-A0EB-451F-98BF-31B65DEF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C61AE-A941-47C5-9D99-F39FE149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D3373-D61F-461D-A062-A26B41CE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A8758-D7F0-4C1B-AB15-251642A0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A3764-B73D-4419-804A-2459B4A8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B300F-7BFB-4B4E-A628-E424CE3C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DAF-8A09-4B3F-9B1A-B5669E2E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A5692-C551-48DD-BBA1-743A4ED1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11379-5C35-4C6C-8F6E-725D2FDB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C3F00-1C76-4BC5-99CC-36BF5030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F3396-6718-4D69-9317-ED0D5827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72896-7EA2-4122-8234-AEBBD6A1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9B513-9B67-4E6A-82CD-C101C126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A0777-4581-4FBB-B1D8-4B6A6D30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C2E7A-36FC-4985-B5E2-F305A8E5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8CCBB-F865-47DF-810E-5A3F45B0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FDF6C-776E-4C38-AB02-B99BBB6E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B954-6461-4BD5-9248-B30949CB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B17BF-2A63-42EB-9DB9-B0E847E1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30F28-D3CF-4471-A99C-B71759CF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F2FEC-5B95-4A48-8B60-3F5AAB4B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48C48-E4AA-42F0-B58A-2A42A9E5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95A38-5F26-42C6-A38A-3F887B11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3356B-5595-4389-8C18-745CC01B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4E785-2F15-46D4-B7E7-D8C56126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16642-70D5-494F-82D2-C45CE85F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967E2-ED0E-4F99-A147-94933AEA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CEB73-128F-4E17-A790-E016E5E2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5A0-C106-4EC2-B0E6-6EF35016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E4AC1-A510-4E4D-9140-3A2BD097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B2A03-E27A-4D22-895E-2133AAC4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7A4E1-74F2-4D13-82AA-7839F662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A9544-9D25-4B8A-8E19-CDFE898E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50DDB-6004-46B1-B158-37C3C5C1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DA618-5247-4CC3-B650-B48BF6D4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45EAC-631C-47F1-89D6-F90D12A1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A70A7-CC8D-4062-8680-4DEA04B0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83CE3-B4D1-46A6-9D10-2150913B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908AE-5742-476F-8738-43194447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2F38-5A76-4E34-B43D-71046A7A83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оугольник с двумя скругленными противолежащими углами 11"/>
          <p:cNvSpPr/>
          <p:nvPr/>
        </p:nvSpPr>
        <p:spPr>
          <a:xfrm>
            <a:off x="142920" y="142920"/>
            <a:ext cx="8858160" cy="4857840"/>
          </a:xfrm>
          <a:custGeom>
            <a:avLst/>
            <a:gdLst/>
            <a:ahLst/>
            <a:rect l="l" t="t" r="r" b="b"/>
            <a:pathLst>
              <a:path w="8858250" h="4857750">
                <a:moveTo>
                  <a:pt x="809641" y="0"/>
                </a:moveTo>
                <a:lnTo>
                  <a:pt x="8858250" y="0"/>
                </a:lnTo>
                <a:lnTo>
                  <a:pt x="8858250" y="0"/>
                </a:lnTo>
                <a:lnTo>
                  <a:pt x="8858250" y="4048109"/>
                </a:lnTo>
                <a:cubicBezTo>
                  <a:pt x="8858250" y="4495261"/>
                  <a:pt x="8495761" y="4857750"/>
                  <a:pt x="8048609" y="4857750"/>
                </a:cubicBezTo>
                <a:lnTo>
                  <a:pt x="0" y="4857750"/>
                </a:lnTo>
                <a:lnTo>
                  <a:pt x="0" y="4857750"/>
                </a:lnTo>
                <a:lnTo>
                  <a:pt x="0" y="809641"/>
                </a:lnTo>
                <a:cubicBezTo>
                  <a:pt x="0" y="362489"/>
                  <a:pt x="362489" y="0"/>
                  <a:pt x="809641" y="0"/>
                </a:cubicBezTo>
                <a:close/>
              </a:path>
            </a:pathLst>
          </a:custGeom>
          <a:noFill/>
          <a:ln w="38160">
            <a:solidFill>
              <a:srgbClr val="9d32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с двумя скругленными противолежащими углами 11"/>
          <p:cNvSpPr/>
          <p:nvPr/>
        </p:nvSpPr>
        <p:spPr>
          <a:xfrm>
            <a:off x="142920" y="142920"/>
            <a:ext cx="8858160" cy="4857840"/>
          </a:xfrm>
          <a:custGeom>
            <a:avLst/>
            <a:gdLst/>
            <a:ahLst/>
            <a:rect l="l" t="t" r="r" b="b"/>
            <a:pathLst>
              <a:path w="8858250" h="4857750">
                <a:moveTo>
                  <a:pt x="809641" y="0"/>
                </a:moveTo>
                <a:lnTo>
                  <a:pt x="8858250" y="0"/>
                </a:lnTo>
                <a:lnTo>
                  <a:pt x="8858250" y="0"/>
                </a:lnTo>
                <a:lnTo>
                  <a:pt x="8858250" y="4048109"/>
                </a:lnTo>
                <a:cubicBezTo>
                  <a:pt x="8858250" y="4495261"/>
                  <a:pt x="8495761" y="4857750"/>
                  <a:pt x="8048609" y="4857750"/>
                </a:cubicBezTo>
                <a:lnTo>
                  <a:pt x="0" y="4857750"/>
                </a:lnTo>
                <a:lnTo>
                  <a:pt x="0" y="4857750"/>
                </a:lnTo>
                <a:lnTo>
                  <a:pt x="0" y="809641"/>
                </a:lnTo>
                <a:cubicBezTo>
                  <a:pt x="0" y="362489"/>
                  <a:pt x="362489" y="0"/>
                  <a:pt x="809641" y="0"/>
                </a:cubicBezTo>
                <a:close/>
              </a:path>
            </a:pathLst>
          </a:custGeom>
          <a:noFill/>
          <a:ln w="38160">
            <a:solidFill>
              <a:srgbClr val="9d32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Рисунок 7" descr="photo.png"/>
          <p:cNvPicPr/>
          <p:nvPr/>
        </p:nvPicPr>
        <p:blipFill>
          <a:blip r:embed="rId3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3943-9A33-4F7E-8F2E-BCEDBD004A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с двумя скругленными противолежащими углами 11"/>
          <p:cNvSpPr/>
          <p:nvPr/>
        </p:nvSpPr>
        <p:spPr>
          <a:xfrm>
            <a:off x="142920" y="142920"/>
            <a:ext cx="8858160" cy="4857840"/>
          </a:xfrm>
          <a:custGeom>
            <a:avLst/>
            <a:gdLst/>
            <a:ahLst/>
            <a:rect l="l" t="t" r="r" b="b"/>
            <a:pathLst>
              <a:path w="8858250" h="4857750">
                <a:moveTo>
                  <a:pt x="809641" y="0"/>
                </a:moveTo>
                <a:lnTo>
                  <a:pt x="8858250" y="0"/>
                </a:lnTo>
                <a:lnTo>
                  <a:pt x="8858250" y="0"/>
                </a:lnTo>
                <a:lnTo>
                  <a:pt x="8858250" y="4048109"/>
                </a:lnTo>
                <a:cubicBezTo>
                  <a:pt x="8858250" y="4495261"/>
                  <a:pt x="8495761" y="4857750"/>
                  <a:pt x="8048609" y="4857750"/>
                </a:cubicBezTo>
                <a:lnTo>
                  <a:pt x="0" y="4857750"/>
                </a:lnTo>
                <a:lnTo>
                  <a:pt x="0" y="4857750"/>
                </a:lnTo>
                <a:lnTo>
                  <a:pt x="0" y="809641"/>
                </a:lnTo>
                <a:cubicBezTo>
                  <a:pt x="0" y="362489"/>
                  <a:pt x="362489" y="0"/>
                  <a:pt x="809641" y="0"/>
                </a:cubicBezTo>
                <a:close/>
              </a:path>
            </a:pathLst>
          </a:custGeom>
          <a:noFill/>
          <a:ln w="38160">
            <a:solidFill>
              <a:srgbClr val="9d32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7" descr="sciencetreelogo_for_profile.png"/>
          <p:cNvPicPr/>
          <p:nvPr/>
        </p:nvPicPr>
        <p:blipFill>
          <a:blip r:embed="rId3"/>
          <a:stretch/>
        </p:blipFill>
        <p:spPr>
          <a:xfrm>
            <a:off x="8199360" y="3970440"/>
            <a:ext cx="944640" cy="11732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6002-3027-49C6-BF2B-6F59DE10A7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с двумя скругленными противолежащими углами 11"/>
          <p:cNvSpPr/>
          <p:nvPr/>
        </p:nvSpPr>
        <p:spPr>
          <a:xfrm>
            <a:off x="142920" y="142920"/>
            <a:ext cx="8858160" cy="4857840"/>
          </a:xfrm>
          <a:custGeom>
            <a:avLst/>
            <a:gdLst/>
            <a:ahLst/>
            <a:rect l="l" t="t" r="r" b="b"/>
            <a:pathLst>
              <a:path w="8858250" h="4857750">
                <a:moveTo>
                  <a:pt x="809641" y="0"/>
                </a:moveTo>
                <a:lnTo>
                  <a:pt x="8858250" y="0"/>
                </a:lnTo>
                <a:lnTo>
                  <a:pt x="8858250" y="0"/>
                </a:lnTo>
                <a:lnTo>
                  <a:pt x="8858250" y="4048109"/>
                </a:lnTo>
                <a:cubicBezTo>
                  <a:pt x="8858250" y="4495261"/>
                  <a:pt x="8495761" y="4857750"/>
                  <a:pt x="8048609" y="4857750"/>
                </a:cubicBezTo>
                <a:lnTo>
                  <a:pt x="0" y="4857750"/>
                </a:lnTo>
                <a:lnTo>
                  <a:pt x="0" y="4857750"/>
                </a:lnTo>
                <a:lnTo>
                  <a:pt x="0" y="809641"/>
                </a:lnTo>
                <a:cubicBezTo>
                  <a:pt x="0" y="362489"/>
                  <a:pt x="362489" y="0"/>
                  <a:pt x="809641" y="0"/>
                </a:cubicBezTo>
                <a:close/>
              </a:path>
            </a:pathLst>
          </a:custGeom>
          <a:noFill/>
          <a:ln w="38160">
            <a:solidFill>
              <a:srgbClr val="9d32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uroki-a16.jpg"/>
          <p:cNvPicPr/>
          <p:nvPr/>
        </p:nvPicPr>
        <p:blipFill>
          <a:blip r:embed="rId3"/>
          <a:stretch/>
        </p:blipFill>
        <p:spPr>
          <a:xfrm>
            <a:off x="71280" y="0"/>
            <a:ext cx="1403640" cy="1285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8" descr="XMMtlMmzr-0.jpg"/>
          <p:cNvPicPr/>
          <p:nvPr/>
        </p:nvPicPr>
        <p:blipFill>
          <a:blip r:embed="rId4"/>
          <a:stretch/>
        </p:blipFill>
        <p:spPr>
          <a:xfrm>
            <a:off x="8143920" y="3960720"/>
            <a:ext cx="974520" cy="111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E46C-9B42-49A3-A0FD-2B9AA79DAB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с двумя скругленными противолежащими углами 11"/>
          <p:cNvSpPr/>
          <p:nvPr/>
        </p:nvSpPr>
        <p:spPr>
          <a:xfrm>
            <a:off x="142920" y="142920"/>
            <a:ext cx="8858160" cy="4857840"/>
          </a:xfrm>
          <a:custGeom>
            <a:avLst/>
            <a:gdLst/>
            <a:ahLst/>
            <a:rect l="l" t="t" r="r" b="b"/>
            <a:pathLst>
              <a:path w="8858250" h="4857750">
                <a:moveTo>
                  <a:pt x="809641" y="0"/>
                </a:moveTo>
                <a:lnTo>
                  <a:pt x="8858250" y="0"/>
                </a:lnTo>
                <a:lnTo>
                  <a:pt x="8858250" y="0"/>
                </a:lnTo>
                <a:lnTo>
                  <a:pt x="8858250" y="4048109"/>
                </a:lnTo>
                <a:cubicBezTo>
                  <a:pt x="8858250" y="4495261"/>
                  <a:pt x="8495761" y="4857750"/>
                  <a:pt x="8048609" y="4857750"/>
                </a:cubicBezTo>
                <a:lnTo>
                  <a:pt x="0" y="4857750"/>
                </a:lnTo>
                <a:lnTo>
                  <a:pt x="0" y="4857750"/>
                </a:lnTo>
                <a:lnTo>
                  <a:pt x="0" y="809641"/>
                </a:lnTo>
                <a:cubicBezTo>
                  <a:pt x="0" y="362489"/>
                  <a:pt x="362489" y="0"/>
                  <a:pt x="809641" y="0"/>
                </a:cubicBezTo>
                <a:close/>
              </a:path>
            </a:pathLst>
          </a:custGeom>
          <a:noFill/>
          <a:ln w="38160">
            <a:solidFill>
              <a:srgbClr val="9d32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7" descr="maxresdefault.jpg"/>
          <p:cNvPicPr/>
          <p:nvPr/>
        </p:nvPicPr>
        <p:blipFill>
          <a:blip r:embed="rId3"/>
          <a:stretch/>
        </p:blipFill>
        <p:spPr>
          <a:xfrm>
            <a:off x="0" y="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sciencetreelogo_for_profile.png"/>
          <p:cNvPicPr/>
          <p:nvPr/>
        </p:nvPicPr>
        <p:blipFill>
          <a:blip r:embed="rId4"/>
          <a:stretch/>
        </p:blipFill>
        <p:spPr>
          <a:xfrm>
            <a:off x="8215200" y="3857760"/>
            <a:ext cx="92880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B7A4-11DB-4BB2-8416-A3D4AA2EBD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с двумя скругленными противолежащими углами 11"/>
          <p:cNvSpPr/>
          <p:nvPr/>
        </p:nvSpPr>
        <p:spPr>
          <a:xfrm>
            <a:off x="142920" y="142920"/>
            <a:ext cx="8858160" cy="4857840"/>
          </a:xfrm>
          <a:custGeom>
            <a:avLst/>
            <a:gdLst/>
            <a:ahLst/>
            <a:rect l="l" t="t" r="r" b="b"/>
            <a:pathLst>
              <a:path w="8858250" h="4857750">
                <a:moveTo>
                  <a:pt x="809641" y="0"/>
                </a:moveTo>
                <a:lnTo>
                  <a:pt x="8858250" y="0"/>
                </a:lnTo>
                <a:lnTo>
                  <a:pt x="8858250" y="0"/>
                </a:lnTo>
                <a:lnTo>
                  <a:pt x="8858250" y="4048109"/>
                </a:lnTo>
                <a:cubicBezTo>
                  <a:pt x="8858250" y="4495261"/>
                  <a:pt x="8495761" y="4857750"/>
                  <a:pt x="8048609" y="4857750"/>
                </a:cubicBezTo>
                <a:lnTo>
                  <a:pt x="0" y="4857750"/>
                </a:lnTo>
                <a:lnTo>
                  <a:pt x="0" y="4857750"/>
                </a:lnTo>
                <a:lnTo>
                  <a:pt x="0" y="809641"/>
                </a:lnTo>
                <a:cubicBezTo>
                  <a:pt x="0" y="362489"/>
                  <a:pt x="362489" y="0"/>
                  <a:pt x="809641" y="0"/>
                </a:cubicBezTo>
                <a:close/>
              </a:path>
            </a:pathLst>
          </a:custGeom>
          <a:noFill/>
          <a:ln w="38160">
            <a:solidFill>
              <a:srgbClr val="9d32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7" descr="XMMtlMmzr-0.jpg"/>
          <p:cNvPicPr/>
          <p:nvPr/>
        </p:nvPicPr>
        <p:blipFill>
          <a:blip r:embed="rId3"/>
          <a:stretch/>
        </p:blipFill>
        <p:spPr>
          <a:xfrm>
            <a:off x="8250120" y="0"/>
            <a:ext cx="893880" cy="1019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56DE-B04B-4DE9-80CF-58C7214474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с двумя скругленными противолежащими углами 11"/>
          <p:cNvSpPr/>
          <p:nvPr/>
        </p:nvSpPr>
        <p:spPr>
          <a:xfrm>
            <a:off x="142920" y="142920"/>
            <a:ext cx="8858160" cy="4857840"/>
          </a:xfrm>
          <a:custGeom>
            <a:avLst/>
            <a:gdLst/>
            <a:ahLst/>
            <a:rect l="l" t="t" r="r" b="b"/>
            <a:pathLst>
              <a:path w="8858250" h="4857750">
                <a:moveTo>
                  <a:pt x="809641" y="0"/>
                </a:moveTo>
                <a:lnTo>
                  <a:pt x="8858250" y="0"/>
                </a:lnTo>
                <a:lnTo>
                  <a:pt x="8858250" y="0"/>
                </a:lnTo>
                <a:lnTo>
                  <a:pt x="8858250" y="4048109"/>
                </a:lnTo>
                <a:cubicBezTo>
                  <a:pt x="8858250" y="4495261"/>
                  <a:pt x="8495761" y="4857750"/>
                  <a:pt x="8048609" y="4857750"/>
                </a:cubicBezTo>
                <a:lnTo>
                  <a:pt x="0" y="4857750"/>
                </a:lnTo>
                <a:lnTo>
                  <a:pt x="0" y="4857750"/>
                </a:lnTo>
                <a:lnTo>
                  <a:pt x="0" y="809641"/>
                </a:lnTo>
                <a:cubicBezTo>
                  <a:pt x="0" y="362489"/>
                  <a:pt x="362489" y="0"/>
                  <a:pt x="809641" y="0"/>
                </a:cubicBezTo>
                <a:close/>
              </a:path>
            </a:pathLst>
          </a:custGeom>
          <a:noFill/>
          <a:ln w="38160">
            <a:solidFill>
              <a:srgbClr val="9d32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7" descr="uroki-a16.jpg"/>
          <p:cNvPicPr/>
          <p:nvPr/>
        </p:nvPicPr>
        <p:blipFill>
          <a:blip r:embed="rId3"/>
          <a:stretch/>
        </p:blipFill>
        <p:spPr>
          <a:xfrm>
            <a:off x="0" y="0"/>
            <a:ext cx="1143000" cy="10476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E97A-6CA2-4450-BFD8-56B01FC45C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с двумя скругленными противолежащими углами 11"/>
          <p:cNvSpPr/>
          <p:nvPr/>
        </p:nvSpPr>
        <p:spPr>
          <a:xfrm>
            <a:off x="142920" y="142920"/>
            <a:ext cx="8858160" cy="4857840"/>
          </a:xfrm>
          <a:custGeom>
            <a:avLst/>
            <a:gdLst/>
            <a:ahLst/>
            <a:rect l="l" t="t" r="r" b="b"/>
            <a:pathLst>
              <a:path w="8858250" h="4857750">
                <a:moveTo>
                  <a:pt x="809641" y="0"/>
                </a:moveTo>
                <a:lnTo>
                  <a:pt x="8858250" y="0"/>
                </a:lnTo>
                <a:lnTo>
                  <a:pt x="8858250" y="0"/>
                </a:lnTo>
                <a:lnTo>
                  <a:pt x="8858250" y="4048109"/>
                </a:lnTo>
                <a:cubicBezTo>
                  <a:pt x="8858250" y="4495261"/>
                  <a:pt x="8495761" y="4857750"/>
                  <a:pt x="8048609" y="4857750"/>
                </a:cubicBezTo>
                <a:lnTo>
                  <a:pt x="0" y="4857750"/>
                </a:lnTo>
                <a:lnTo>
                  <a:pt x="0" y="4857750"/>
                </a:lnTo>
                <a:lnTo>
                  <a:pt x="0" y="809641"/>
                </a:lnTo>
                <a:cubicBezTo>
                  <a:pt x="0" y="362489"/>
                  <a:pt x="362489" y="0"/>
                  <a:pt x="809641" y="0"/>
                </a:cubicBezTo>
                <a:close/>
              </a:path>
            </a:pathLst>
          </a:custGeom>
          <a:noFill/>
          <a:ln w="38160">
            <a:solidFill>
              <a:srgbClr val="9d32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7" descr="photo.png"/>
          <p:cNvPicPr/>
          <p:nvPr/>
        </p:nvPicPr>
        <p:blipFill>
          <a:blip r:embed="rId3"/>
          <a:stretch/>
        </p:blipFill>
        <p:spPr>
          <a:xfrm>
            <a:off x="0" y="0"/>
            <a:ext cx="1071720" cy="10717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2113-A083-4641-B64F-1C52310DDC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с двумя скругленными противолежащими углами 11"/>
          <p:cNvSpPr/>
          <p:nvPr/>
        </p:nvSpPr>
        <p:spPr>
          <a:xfrm>
            <a:off x="142920" y="142920"/>
            <a:ext cx="8858160" cy="4857840"/>
          </a:xfrm>
          <a:custGeom>
            <a:avLst/>
            <a:gdLst/>
            <a:ahLst/>
            <a:rect l="l" t="t" r="r" b="b"/>
            <a:pathLst>
              <a:path w="8858250" h="4857750">
                <a:moveTo>
                  <a:pt x="809641" y="0"/>
                </a:moveTo>
                <a:lnTo>
                  <a:pt x="8858250" y="0"/>
                </a:lnTo>
                <a:lnTo>
                  <a:pt x="8858250" y="0"/>
                </a:lnTo>
                <a:lnTo>
                  <a:pt x="8858250" y="4048109"/>
                </a:lnTo>
                <a:cubicBezTo>
                  <a:pt x="8858250" y="4495261"/>
                  <a:pt x="8495761" y="4857750"/>
                  <a:pt x="8048609" y="4857750"/>
                </a:cubicBezTo>
                <a:lnTo>
                  <a:pt x="0" y="4857750"/>
                </a:lnTo>
                <a:lnTo>
                  <a:pt x="0" y="4857750"/>
                </a:lnTo>
                <a:lnTo>
                  <a:pt x="0" y="809641"/>
                </a:lnTo>
                <a:cubicBezTo>
                  <a:pt x="0" y="362489"/>
                  <a:pt x="362489" y="0"/>
                  <a:pt x="809641" y="0"/>
                </a:cubicBezTo>
                <a:close/>
              </a:path>
            </a:pathLst>
          </a:custGeom>
          <a:noFill/>
          <a:ln w="38160">
            <a:solidFill>
              <a:srgbClr val="9d32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7" descr="XMMtlMmzr-0.jpg"/>
          <p:cNvPicPr/>
          <p:nvPr/>
        </p:nvPicPr>
        <p:blipFill>
          <a:blip r:embed="rId3"/>
          <a:stretch/>
        </p:blipFill>
        <p:spPr>
          <a:xfrm>
            <a:off x="8124840" y="3857760"/>
            <a:ext cx="1019160" cy="11620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57D1-A6C9-4B8D-8882-E76D24C66D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с двумя скругленными противолежащими углами 11"/>
          <p:cNvSpPr/>
          <p:nvPr/>
        </p:nvSpPr>
        <p:spPr>
          <a:xfrm>
            <a:off x="142920" y="142920"/>
            <a:ext cx="8858160" cy="4857840"/>
          </a:xfrm>
          <a:custGeom>
            <a:avLst/>
            <a:gdLst/>
            <a:ahLst/>
            <a:rect l="l" t="t" r="r" b="b"/>
            <a:pathLst>
              <a:path w="8858250" h="4857750">
                <a:moveTo>
                  <a:pt x="809641" y="0"/>
                </a:moveTo>
                <a:lnTo>
                  <a:pt x="8858250" y="0"/>
                </a:lnTo>
                <a:lnTo>
                  <a:pt x="8858250" y="0"/>
                </a:lnTo>
                <a:lnTo>
                  <a:pt x="8858250" y="4048109"/>
                </a:lnTo>
                <a:cubicBezTo>
                  <a:pt x="8858250" y="4495261"/>
                  <a:pt x="8495761" y="4857750"/>
                  <a:pt x="8048609" y="4857750"/>
                </a:cubicBezTo>
                <a:lnTo>
                  <a:pt x="0" y="4857750"/>
                </a:lnTo>
                <a:lnTo>
                  <a:pt x="0" y="4857750"/>
                </a:lnTo>
                <a:lnTo>
                  <a:pt x="0" y="809641"/>
                </a:lnTo>
                <a:cubicBezTo>
                  <a:pt x="0" y="362489"/>
                  <a:pt x="362489" y="0"/>
                  <a:pt x="809641" y="0"/>
                </a:cubicBezTo>
                <a:close/>
              </a:path>
            </a:pathLst>
          </a:custGeom>
          <a:noFill/>
          <a:ln w="38160">
            <a:solidFill>
              <a:srgbClr val="9d32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Рисунок 7" descr="XMMtlMmzr-0.jpg"/>
          <p:cNvPicPr/>
          <p:nvPr/>
        </p:nvPicPr>
        <p:blipFill>
          <a:blip r:embed="rId3"/>
          <a:stretch/>
        </p:blipFill>
        <p:spPr>
          <a:xfrm>
            <a:off x="0" y="0"/>
            <a:ext cx="1003320" cy="1143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1977-41B3-410D-A1A4-22B5178E18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с двумя скругленными противолежащими углами 11"/>
          <p:cNvSpPr/>
          <p:nvPr/>
        </p:nvSpPr>
        <p:spPr>
          <a:xfrm>
            <a:off x="142920" y="142920"/>
            <a:ext cx="8858160" cy="4857840"/>
          </a:xfrm>
          <a:custGeom>
            <a:avLst/>
            <a:gdLst/>
            <a:ahLst/>
            <a:rect l="l" t="t" r="r" b="b"/>
            <a:pathLst>
              <a:path w="8858250" h="4857750">
                <a:moveTo>
                  <a:pt x="809641" y="0"/>
                </a:moveTo>
                <a:lnTo>
                  <a:pt x="8858250" y="0"/>
                </a:lnTo>
                <a:lnTo>
                  <a:pt x="8858250" y="0"/>
                </a:lnTo>
                <a:lnTo>
                  <a:pt x="8858250" y="4048109"/>
                </a:lnTo>
                <a:cubicBezTo>
                  <a:pt x="8858250" y="4495261"/>
                  <a:pt x="8495761" y="4857750"/>
                  <a:pt x="8048609" y="4857750"/>
                </a:cubicBezTo>
                <a:lnTo>
                  <a:pt x="0" y="4857750"/>
                </a:lnTo>
                <a:lnTo>
                  <a:pt x="0" y="4857750"/>
                </a:lnTo>
                <a:lnTo>
                  <a:pt x="0" y="809641"/>
                </a:lnTo>
                <a:cubicBezTo>
                  <a:pt x="0" y="362489"/>
                  <a:pt x="362489" y="0"/>
                  <a:pt x="809641" y="0"/>
                </a:cubicBezTo>
                <a:close/>
              </a:path>
            </a:pathLst>
          </a:custGeom>
          <a:noFill/>
          <a:ln w="38160">
            <a:solidFill>
              <a:srgbClr val="9d32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Рисунок 7" descr="maxresdefault.jpg"/>
          <p:cNvPicPr/>
          <p:nvPr/>
        </p:nvPicPr>
        <p:blipFill>
          <a:blip r:embed="rId3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7A71-67B2-4E94-B843-3C1616C854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Грязные деньг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95280" y="1418760"/>
            <a:ext cx="4038480" cy="25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и углекислой меди (темно-зеленый цвет) удаляют 5-10% раствором лимонной кислот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кислый свинец (бледно-желтоватый налет) удаляют 10% раствором уксусной кислот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мягчения окислов на медных монетах возможно применение 5-20% раствора гексаметафосфа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Picture 6" descr=""/>
          <p:cNvPicPr/>
          <p:nvPr/>
        </p:nvPicPr>
        <p:blipFill>
          <a:blip r:embed="rId1"/>
          <a:stretch/>
        </p:blipFill>
        <p:spPr>
          <a:xfrm>
            <a:off x="7093080" y="1023840"/>
            <a:ext cx="1726920" cy="19051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" descr=""/>
          <p:cNvPicPr/>
          <p:nvPr/>
        </p:nvPicPr>
        <p:blipFill>
          <a:blip r:embed="rId2"/>
          <a:stretch/>
        </p:blipFill>
        <p:spPr>
          <a:xfrm>
            <a:off x="4716360" y="1395360"/>
            <a:ext cx="1866960" cy="26719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"/>
          <p:cNvPicPr/>
          <p:nvPr/>
        </p:nvPicPr>
        <p:blipFill>
          <a:blip r:embed="rId3"/>
          <a:stretch/>
        </p:blipFill>
        <p:spPr>
          <a:xfrm>
            <a:off x="7093080" y="3003480"/>
            <a:ext cx="1726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Щадящие способы чистки мон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418760"/>
            <a:ext cx="4038480" cy="25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пособ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ьевая сода с                  кипятк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овый раствор: на 100 г воды 30 г (примерно 2 чайных ложки) столовой соды. Монеты опускаются в раствор, держат несколько часов до полного растворения окислов. Для ускорения, можно подогреть раствор до кипения и периодически чистить окисленные места мягкой зубной щетко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5364000" y="1419120"/>
            <a:ext cx="29448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398240"/>
            <a:ext cx="4038480" cy="25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пособ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ое мыло и кипят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медленный, эффективный. В тарелку средней глубины помещаем мыльную стружку, заливаем кипятком. Перемешиваем раствор и погружаем монеты для очист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способ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10% раствора лимонной кисл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6" descr=""/>
          <p:cNvPicPr/>
          <p:nvPr/>
        </p:nvPicPr>
        <p:blipFill>
          <a:blip r:embed="rId1"/>
          <a:stretch/>
        </p:blipFill>
        <p:spPr>
          <a:xfrm>
            <a:off x="5076720" y="1079640"/>
            <a:ext cx="1963800" cy="19652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" descr=""/>
          <p:cNvPicPr/>
          <p:nvPr/>
        </p:nvPicPr>
        <p:blipFill>
          <a:blip r:embed="rId2"/>
          <a:stretch/>
        </p:blipFill>
        <p:spPr>
          <a:xfrm>
            <a:off x="7164360" y="2500200"/>
            <a:ext cx="144000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5105520" y="900000"/>
            <a:ext cx="4038480" cy="25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использова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тчу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очистки монет вместо уксуса. Заполните пластиковые чаши кетчупом, примерно на четверть и опустите в них монеты. Подождите около 10 минут, затем монету извлеките , и  хорошо промойте под теплой водой. Кислоты из помидоров и уксуса в кетчупе делают хорошую работу по очистке мон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1332000" y="987480"/>
            <a:ext cx="25574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755640" y="1347480"/>
            <a:ext cx="403848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вковое масл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 один из самых нежных способов очистки монет. Необходимо «замочить» монеты в оливковом масле, которое поместили в посуду  из стекла или пластика. Мало того, что этот метод нежный, он также очень медленный, от нескольких дней до нескольких месяце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5940360" y="771480"/>
            <a:ext cx="19051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900000"/>
            <a:ext cx="4038480" cy="25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можете также использова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с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ка-Кол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ил ласти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попробовать тоже, чтобы удалить налет. Виниловый ластик не содержит абразивных частиц, по сравнению с "нормальными" резин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5037120" y="1063800"/>
            <a:ext cx="2732040" cy="19317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" descr=""/>
          <p:cNvPicPr/>
          <p:nvPr/>
        </p:nvPicPr>
        <p:blipFill>
          <a:blip r:embed="rId2"/>
          <a:srcRect l="3590" t="6815" r="3023" b="14727"/>
          <a:stretch/>
        </p:blipFill>
        <p:spPr>
          <a:xfrm>
            <a:off x="6832440" y="3219480"/>
            <a:ext cx="18720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Возьмите загрязненную моне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Очистите любым способ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оставьте фотоотч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Текст 2"/>
          <p:cNvSpPr/>
          <p:nvPr/>
        </p:nvSpPr>
        <p:spPr>
          <a:xfrm>
            <a:off x="1314360" y="555480"/>
            <a:ext cx="3041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есть очистка                           монеты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Объект 4"/>
          <p:cNvSpPr/>
          <p:nvPr/>
        </p:nvSpPr>
        <p:spPr>
          <a:xfrm>
            <a:off x="4643280" y="1276200"/>
            <a:ext cx="410544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чистка монеты - есть процесс удаления с поверхности монеты слоя грязи и более или менее значительных следов ок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1574640" y="1768320"/>
            <a:ext cx="2808360" cy="25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Прямоугольник 4"/>
          <p:cNvSpPr/>
          <p:nvPr/>
        </p:nvSpPr>
        <p:spPr>
          <a:xfrm>
            <a:off x="1476360" y="123840"/>
            <a:ext cx="608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пытные коллекционеры вряд ли найдут здесь что-либо интересное для себя, но начинающим эта информация должна оказаться полез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5" descr="https://avatars.mds.yandex.net/get-zen_doc/1708203/pub_5d805fad43863f00ac0720cb_5d808c0fc31e4900afebc76a/scale_1200"/>
          <p:cNvPicPr/>
          <p:nvPr/>
        </p:nvPicPr>
        <p:blipFill>
          <a:blip r:embed="rId1"/>
          <a:stretch/>
        </p:blipFill>
        <p:spPr>
          <a:xfrm>
            <a:off x="2544840" y="1419120"/>
            <a:ext cx="39463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900000" y="339840"/>
            <a:ext cx="692496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ще всего удалить грязь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24000" y="12762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 можно удалить промыванием монеты в теплой мыльной воде или  использованием мягкой кисточки. Причем этот способ подходит абсолютно для всех монетных метал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6659640" y="3262320"/>
            <a:ext cx="2496960" cy="1820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755640" y="6271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аккуратно необходимо чистить железные и цинковые моне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надо промывать в разбавленной соляной кислоте, а затем чистить щёткой, которая изготовлена из латунной проволо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684360" y="6271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чистки, монеты промойте  в теплой, а затем в холодной вод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6" descr=""/>
          <p:cNvPicPr/>
          <p:nvPr/>
        </p:nvPicPr>
        <p:blipFill>
          <a:blip r:embed="rId1"/>
          <a:stretch/>
        </p:blipFill>
        <p:spPr>
          <a:xfrm>
            <a:off x="3322800" y="1995480"/>
            <a:ext cx="2952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914400" y="2682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ы чистить лучше медленно действующими реактивами. Один из них трилон 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Picture 2" descr="https://ratatum.com/wp-content/uploads/2019/01/3-17.jpg"/>
          <p:cNvPicPr/>
          <p:nvPr/>
        </p:nvPicPr>
        <p:blipFill>
          <a:blip r:embed="rId1"/>
          <a:srcRect l="17624" t="5661" r="11892" b="3757"/>
          <a:stretch/>
        </p:blipFill>
        <p:spPr>
          <a:xfrm>
            <a:off x="3708360" y="1779480"/>
            <a:ext cx="3456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504360" y="1563840"/>
            <a:ext cx="4038840" cy="25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еты, не побывавшие в земле, чистятся довольно легк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поверхность обезжиривают ацетоном, бензином или спиртом и опускают в 5-10% раствор серной, муравьиной или лимонной кислоты. После этого их тщательно промывают и просушиваю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5" descr=""/>
          <p:cNvPicPr/>
          <p:nvPr/>
        </p:nvPicPr>
        <p:blipFill>
          <a:blip r:embed="rId1"/>
          <a:stretch/>
        </p:blipFill>
        <p:spPr>
          <a:xfrm>
            <a:off x="4735440" y="2355840"/>
            <a:ext cx="3252960" cy="24336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" descr=""/>
          <p:cNvPicPr/>
          <p:nvPr/>
        </p:nvPicPr>
        <p:blipFill>
          <a:blip r:embed="rId2"/>
          <a:stretch/>
        </p:blipFill>
        <p:spPr>
          <a:xfrm>
            <a:off x="7078680" y="339840"/>
            <a:ext cx="181764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6840" y="1063440"/>
            <a:ext cx="4762440" cy="30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чистки монет можно использовать 5-15% раствор аммиака (для очистки от закиси меди - налета вишнево-красного цвета), но это вещество в соприкосновении с воздухом действует на металл разрушительно, поэтому погружать в него монету надо целик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/>
          <a:stretch/>
        </p:blipFill>
        <p:spPr>
          <a:xfrm>
            <a:off x="5724360" y="843120"/>
            <a:ext cx="31467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2T14:44:55Z</dcterms:created>
  <dc:creator>Lenovo</dc:creator>
  <dc:description/>
  <dc:language>en-US</dc:language>
  <cp:lastModifiedBy>ЛИЗА</cp:lastModifiedBy>
  <dcterms:modified xsi:type="dcterms:W3CDTF">2020-04-12T15:41:20Z</dcterms:modified>
  <cp:revision>7</cp:revision>
  <dc:subject/>
  <dc:title>Слайд 1</dc:title>
</cp:coreProperties>
</file>