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wind.wav" ContentType="audio/x-wav"/>
  <Override PartName="/ppt/media/image16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2.png" ContentType="image/png"/>
  <Override PartName="/ppt/media/image20.jpeg" ContentType="image/jpeg"/>
  <Override PartName="/ppt/media/image14.jpeg" ContentType="image/jpeg"/>
  <Override PartName="/ppt/media/image2.png" ContentType="image/png"/>
  <Override PartName="/ppt/media/image13.jpeg" ContentType="image/jpeg"/>
  <Override PartName="/ppt/media/image4.png" ContentType="image/png"/>
  <Override PartName="/ppt/media/drumroll.wav" ContentType="audio/x-wav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9AB9-1A96-4319-8C9C-B1A75A154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1F71-A46D-4E38-82D5-35715E684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510E-C41E-45CE-80BC-1CBD874FB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0B19-57F5-46B8-8E6C-B466F5D10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A247-262C-4C75-AF51-5D3BFC5BC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F1E6-9859-423E-9949-F3A5F997B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1334-2764-4284-8EC1-95AA9AC54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B6F5-6187-4456-8A51-BD0985403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8760-8227-456F-B1F9-D021D38A8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C746-220D-425B-9981-535A94DB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33E3-AEEA-4C75-82A9-0A304F6B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85C1-C03D-4430-A508-C4C65E30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2B72D3F-8C80-44C2-86A8-609041D186D3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428760"/>
            <a:ext cx="88200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троительство Санкт –Петербурга Петром 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Картинка 1 из 52922"/>
          <p:cNvPicPr/>
          <p:nvPr/>
        </p:nvPicPr>
        <p:blipFill>
          <a:blip r:embed="rId1"/>
          <a:stretch/>
        </p:blipFill>
        <p:spPr>
          <a:xfrm>
            <a:off x="3635280" y="2349360"/>
            <a:ext cx="3294000" cy="271152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2" name="drumroll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икторин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57200" y="1600200"/>
          <a:ext cx="4187880" cy="4944960"/>
        </p:xfrm>
        <a:graphic>
          <a:graphicData uri="http://schemas.openxmlformats.org/drawingml/2006/table">
            <a:tbl>
              <a:tblPr/>
              <a:tblGrid>
                <a:gridCol w="4187880"/>
              </a:tblGrid>
              <a:tr h="1212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5760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1371600"/>
                          <a:tab algn="l" pos="2286000"/>
                          <a:tab algn="l" pos="3200400"/>
                          <a:tab algn="l" pos="4114800"/>
                          <a:tab algn="l" pos="5029200"/>
                          <a:tab algn="l" pos="5943600"/>
                          <a:tab algn="l" pos="6858000"/>
                          <a:tab algn="l" pos="7772400"/>
                          <a:tab algn="l" pos="8686800"/>
                          <a:tab algn="l" pos="9601200"/>
                          <a:tab algn="l" pos="105156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 Откуда  вытекает  и  куда впадает  Нева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457200" indent="-455760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1371600"/>
                          <a:tab algn="l" pos="2286000"/>
                          <a:tab algn="l" pos="3200400"/>
                          <a:tab algn="l" pos="4114800"/>
                          <a:tab algn="l" pos="5029200"/>
                          <a:tab algn="l" pos="5943600"/>
                          <a:tab algn="l" pos="6858000"/>
                          <a:tab algn="l" pos="7772400"/>
                          <a:tab algn="l" pos="8686800"/>
                          <a:tab algn="l" pos="96012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 Как называется первый музей города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 Как называется первый сад города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 Что является главным украшением сада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 Из какого материала построен Домик Петра Первог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Rectangle 24"/>
          <p:cNvSpPr/>
          <p:nvPr/>
        </p:nvSpPr>
        <p:spPr>
          <a:xfrm>
            <a:off x="4572000" y="3786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Rectangle 25"/>
          <p:cNvSpPr/>
          <p:nvPr/>
        </p:nvSpPr>
        <p:spPr>
          <a:xfrm>
            <a:off x="4572000" y="4500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Text Box 26"/>
          <p:cNvSpPr/>
          <p:nvPr/>
        </p:nvSpPr>
        <p:spPr>
          <a:xfrm>
            <a:off x="5094360" y="2071800"/>
            <a:ext cx="40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з Ладожского озера в Финский зали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Text Box 27"/>
          <p:cNvSpPr/>
          <p:nvPr/>
        </p:nvSpPr>
        <p:spPr>
          <a:xfrm>
            <a:off x="5004360" y="3000240"/>
            <a:ext cx="14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унсткамер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Text Box 28"/>
          <p:cNvSpPr/>
          <p:nvPr/>
        </p:nvSpPr>
        <p:spPr>
          <a:xfrm>
            <a:off x="5007960" y="385776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Летний са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Text Box 29"/>
          <p:cNvSpPr/>
          <p:nvPr/>
        </p:nvSpPr>
        <p:spPr>
          <a:xfrm>
            <a:off x="5004720" y="464328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кульптур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Text Box 30"/>
          <p:cNvSpPr/>
          <p:nvPr/>
        </p:nvSpPr>
        <p:spPr>
          <a:xfrm>
            <a:off x="5004000" y="5572080"/>
            <a:ext cx="119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з дерев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0,-64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0,-64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0,-64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0,-64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0,-64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0,-64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0,-64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0,-64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0,-64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0,-64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это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285840" y="1214280"/>
            <a:ext cx="2857320" cy="2144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3357720" y="1357200"/>
            <a:ext cx="2428560" cy="2409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3"/>
          <a:stretch/>
        </p:blipFill>
        <p:spPr>
          <a:xfrm>
            <a:off x="6215040" y="2143080"/>
            <a:ext cx="2357640" cy="2425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"/>
          <p:cNvPicPr/>
          <p:nvPr/>
        </p:nvPicPr>
        <p:blipFill>
          <a:blip r:embed="rId4"/>
          <a:stretch/>
        </p:blipFill>
        <p:spPr>
          <a:xfrm>
            <a:off x="3714840" y="4416480"/>
            <a:ext cx="3286080" cy="2190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"/>
          <p:cNvPicPr/>
          <p:nvPr/>
        </p:nvPicPr>
        <p:blipFill>
          <a:blip r:embed="rId5"/>
          <a:stretch/>
        </p:blipFill>
        <p:spPr>
          <a:xfrm>
            <a:off x="428760" y="3684600"/>
            <a:ext cx="3357360" cy="20368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7"/>
          <p:cNvSpPr/>
          <p:nvPr/>
        </p:nvSpPr>
        <p:spPr>
          <a:xfrm>
            <a:off x="860400" y="78588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3240" y="421488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6647040" y="150012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3584520" y="129528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7075440" y="585792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TextBox 1"/>
          <p:cNvSpPr/>
          <p:nvPr/>
        </p:nvSpPr>
        <p:spPr>
          <a:xfrm>
            <a:off x="872640" y="269244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унсткамер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3334680" y="317484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мик Петра Первог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6217920" y="3770280"/>
            <a:ext cx="26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шетка Летнего сада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3830400" y="6093000"/>
            <a:ext cx="305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тропавловская крепост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1022760" y="5322960"/>
            <a:ext cx="138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етний са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228160" cy="7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ставь пропущенные сл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-360" y="1341000"/>
            <a:ext cx="8785080" cy="47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етропавловская крепость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находится на 1)__________________________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alibri"/>
              </a:rPr>
              <a:t>          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ятиугольные укрепления крепости получили название   2)_____________,   стены между ними  3)________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Шпиль Петропавловского собора венчает 4)________________________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н выполняет роль 5) ___________________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Главные ворота крепости получили название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6)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______________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х архитектором является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7)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___________________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ве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ячьем остров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астио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урти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нгел с крест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люгер (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тровские вор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менико Трези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1"/>
          <p:cNvSpPr/>
          <p:nvPr/>
        </p:nvSpPr>
        <p:spPr>
          <a:xfrm>
            <a:off x="142920" y="2214720"/>
            <a:ext cx="492912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И думал он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Отсель грозить мы будем шведу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Здесь будет город заложе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Назло надменному соседу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риродой здесь нам сужден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 Европу прорубить окно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Ногою твердой стать при море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юда по новым им волна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се флаги в гости будут к нам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И запируем на просторе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А. С. Пушкин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5048280" y="1755720"/>
            <a:ext cx="3290760" cy="40654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3"/>
          <p:cNvSpPr/>
          <p:nvPr/>
        </p:nvSpPr>
        <p:spPr>
          <a:xfrm>
            <a:off x="366840" y="357120"/>
            <a:ext cx="501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етр Первый – основатель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орода Санкт –Петербург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"/>
          <p:cNvPicPr/>
          <p:nvPr/>
        </p:nvPicPr>
        <p:blipFill>
          <a:blip r:embed="rId1"/>
          <a:stretch/>
        </p:blipFill>
        <p:spPr>
          <a:xfrm>
            <a:off x="3780000" y="549360"/>
            <a:ext cx="4608360" cy="40068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2"/>
          <p:cNvSpPr/>
          <p:nvPr/>
        </p:nvSpPr>
        <p:spPr>
          <a:xfrm>
            <a:off x="404640" y="4627440"/>
            <a:ext cx="8474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ород раскинулся на берегах реки Невы. В 1703 году в дельт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еки, на Заячьем острове,  Петр заложил крепость –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анкт-Питер-Бурх, которая в 1720 г. был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ереименована в Санкт-Петербург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1214280" y="714240"/>
            <a:ext cx="4429440" cy="4143600"/>
          </a:xfrm>
          <a:custGeom>
            <a:avLst/>
            <a:gdLst>
              <a:gd name="textAreaLeft" fmla="*/ 2214720 w 4429440"/>
              <a:gd name="textAreaRight" fmla="*/ 4429800 w 4429440"/>
              <a:gd name="textAreaTop" fmla="*/ 0 h 4143600"/>
              <a:gd name="textAreaBottom" fmla="*/ 2071800 h 4143600"/>
            </a:gdLst>
            <a:ahLst/>
            <a:rect l="textAreaLeft" t="textAreaTop" r="textAreaRight" b="textAreaBottom"/>
            <a:pathLst>
              <a:path stroke="0" w="4429125" h="4143375">
                <a:moveTo>
                  <a:pt x="2214565" y="0"/>
                </a:moveTo>
                <a:lnTo>
                  <a:pt x="2214564" y="0"/>
                </a:lnTo>
                <a:cubicBezTo>
                  <a:pt x="3437633" y="1"/>
                  <a:pt x="4429126" y="927527"/>
                  <a:pt x="4429126" y="2071688"/>
                </a:cubicBezTo>
                <a:cubicBezTo>
                  <a:pt x="4429126" y="2071689"/>
                  <a:pt x="4429125" y="2071691"/>
                  <a:pt x="4429125" y="2071692"/>
                </a:cubicBezTo>
                <a:lnTo>
                  <a:pt x="2214563" y="2071688"/>
                </a:lnTo>
                <a:lnTo>
                  <a:pt x="2214565" y="0"/>
                </a:lnTo>
                <a:close/>
              </a:path>
              <a:path fill="none" w="4429125" h="4143375">
                <a:moveTo>
                  <a:pt x="2214565" y="0"/>
                </a:moveTo>
                <a:lnTo>
                  <a:pt x="2214564" y="0"/>
                </a:lnTo>
                <a:cubicBezTo>
                  <a:pt x="3437633" y="1"/>
                  <a:pt x="4429126" y="927527"/>
                  <a:pt x="4429126" y="2071688"/>
                </a:cubicBezTo>
                <a:cubicBezTo>
                  <a:pt x="4429126" y="2071689"/>
                  <a:pt x="4429125" y="2071691"/>
                  <a:pt x="4429125" y="2071692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49" name="AutoShape 4"/>
          <p:cNvCxnSpPr/>
          <p:nvPr/>
        </p:nvCxnSpPr>
        <p:spPr>
          <a:xfrm>
            <a:off x="5286240" y="1714680"/>
            <a:ext cx="9151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2919240" y="719280"/>
            <a:ext cx="4224600" cy="1322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3535200" cy="234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 0.125 0.16651 C 0.125 0.25843 0.069 0.33302 0 0.33302 C -0.069 0.33302 -0.125 0.25843 -0.125 0.16651 C -0.125 0.0746 -0.069 0 0 0 Z">
                                      <p:cBhvr>
                                        <p:cTn id="10" dur="3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9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40096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00040" y="357120"/>
            <a:ext cx="8072640" cy="199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десь трудились более 20 тысяч рабочих, большое количество зарубежных архитекторов, инженеров и мастеров. 10 лет спустя из Москвы в Санкт-Петербург были перенесены главная императорская резиденция и высшие государственные органы стран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Картинка 29 из 23493"/>
          <p:cNvPicPr/>
          <p:nvPr/>
        </p:nvPicPr>
        <p:blipFill>
          <a:blip r:embed="rId1"/>
          <a:stretch/>
        </p:blipFill>
        <p:spPr>
          <a:xfrm>
            <a:off x="2124000" y="2421000"/>
            <a:ext cx="3956040" cy="2058840"/>
          </a:xfrm>
          <a:prstGeom prst="rect">
            <a:avLst/>
          </a:prstGeom>
          <a:ln w="0">
            <a:noFill/>
          </a:ln>
        </p:spPr>
      </p:pic>
    </p:spTree>
  </p:cSld>
  <p:transition>
    <p:wipe dir="r"/>
    <p:sndAc>
      <p:stSnd>
        <p:snd r:embed="rId2" name="wind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ния для внимательных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00720" y="1600200"/>
          <a:ext cx="4187520" cy="372960"/>
        </p:xfrm>
        <a:graphic>
          <a:graphicData uri="http://schemas.openxmlformats.org/drawingml/2006/table">
            <a:tbl>
              <a:tblPr/>
              <a:tblGrid>
                <a:gridCol w="1046160"/>
                <a:gridCol w="1049040"/>
                <a:gridCol w="1046160"/>
                <a:gridCol w="1046160"/>
              </a:tblGrid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4500720" y="3357720"/>
          <a:ext cx="4187520" cy="372960"/>
        </p:xfrm>
        <a:graphic>
          <a:graphicData uri="http://schemas.openxmlformats.org/drawingml/2006/table">
            <a:tbl>
              <a:tblPr/>
              <a:tblGrid>
                <a:gridCol w="1046160"/>
                <a:gridCol w="1049040"/>
                <a:gridCol w="1046160"/>
                <a:gridCol w="1046160"/>
              </a:tblGrid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4500720" y="2428920"/>
          <a:ext cx="4187520" cy="372960"/>
        </p:xfrm>
        <a:graphic>
          <a:graphicData uri="http://schemas.openxmlformats.org/drawingml/2006/table">
            <a:tbl>
              <a:tblPr/>
              <a:tblGrid>
                <a:gridCol w="1046160"/>
                <a:gridCol w="1049040"/>
                <a:gridCol w="1046160"/>
                <a:gridCol w="1046160"/>
              </a:tblGrid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4214880" y="4286160"/>
          <a:ext cx="4502160" cy="373320"/>
        </p:xfrm>
        <a:graphic>
          <a:graphicData uri="http://schemas.openxmlformats.org/drawingml/2006/table">
            <a:tbl>
              <a:tblPr/>
              <a:tblGrid>
                <a:gridCol w="750960"/>
                <a:gridCol w="749160"/>
                <a:gridCol w="752400"/>
                <a:gridCol w="749520"/>
                <a:gridCol w="750600"/>
                <a:gridCol w="749520"/>
              </a:tblGrid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2643120" y="5715000"/>
          <a:ext cx="6097680" cy="372960"/>
        </p:xfrm>
        <a:graphic>
          <a:graphicData uri="http://schemas.openxmlformats.org/drawingml/2006/table">
            <a:tbl>
              <a:tblPr/>
              <a:tblGrid>
                <a:gridCol w="871560"/>
                <a:gridCol w="870120"/>
                <a:gridCol w="871560"/>
                <a:gridCol w="871560"/>
                <a:gridCol w="871200"/>
                <a:gridCol w="870120"/>
                <a:gridCol w="871560"/>
              </a:tblGrid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Text Box 112"/>
          <p:cNvSpPr/>
          <p:nvPr/>
        </p:nvSpPr>
        <p:spPr>
          <a:xfrm>
            <a:off x="236160" y="1549440"/>
            <a:ext cx="343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 Год основания город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Text Box 113"/>
          <p:cNvSpPr/>
          <p:nvPr/>
        </p:nvSpPr>
        <p:spPr>
          <a:xfrm>
            <a:off x="299520" y="2332080"/>
            <a:ext cx="36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 Имя основателя город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Text Box 114"/>
          <p:cNvSpPr/>
          <p:nvPr/>
        </p:nvSpPr>
        <p:spPr>
          <a:xfrm>
            <a:off x="302400" y="3213000"/>
            <a:ext cx="389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. Река, на берегах которой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снован горо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Text Box 115"/>
          <p:cNvSpPr/>
          <p:nvPr/>
        </p:nvSpPr>
        <p:spPr>
          <a:xfrm>
            <a:off x="249480" y="4044960"/>
            <a:ext cx="400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 Остров в дельте реки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де началось  строительств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Text Box 116"/>
          <p:cNvSpPr/>
          <p:nvPr/>
        </p:nvSpPr>
        <p:spPr>
          <a:xfrm>
            <a:off x="230040" y="5286240"/>
            <a:ext cx="63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 Как называлось первое сооружение города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ервые постройки город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500040" y="1285920"/>
            <a:ext cx="82296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омик Петра Первог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164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Уникальный памятник Санкт-Петербурга, единственная деревянная постройка времен основания города, дошедшая до наших дней. Этот домик, ставший первой петербургской резиденцией Петра I, был сооружен солдатами Семеновского полка в рекордно короткие сроки - с 24 по 26 мая 1703 года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1042920" y="3573360"/>
            <a:ext cx="3357720" cy="2427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>
            <a:off x="4788000" y="3645000"/>
            <a:ext cx="3357360" cy="235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етний сад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0" y="1143000"/>
            <a:ext cx="4113360" cy="55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первые годы (1704-1707) работы по устройству Летнего сада вел под непосредственным руководством Петра I архитектор Иван Матвеев (Угрюмов). Он расширил границы сада и определил его первоначальную планировку, начал сооружение фонтанов, осушение территорий, создание твердой почвы и посадку деревьев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4284720" y="1628640"/>
            <a:ext cx="3564000" cy="254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1042920" y="981000"/>
            <a:ext cx="2898720" cy="3863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2"/>
          <a:stretch/>
        </p:blipFill>
        <p:spPr>
          <a:xfrm>
            <a:off x="4211640" y="1844640"/>
            <a:ext cx="337644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унсткамера – первый музей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142920" y="1125360"/>
            <a:ext cx="9001080" cy="16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1716 году по распоряжению Петра I центр Петербурга переносится на Васильевский остров. В 1718 году на стрелке началось строительство каменного здания Кунсткамеры. Официальное открытие музея состоялось в 1728 году, но строительные работы и отделка здания продолжались вплоть до 1734 год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16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2266920" y="2822400"/>
            <a:ext cx="4610160" cy="3316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2"/>
          <a:stretch/>
        </p:blipFill>
        <p:spPr>
          <a:xfrm>
            <a:off x="0" y="3300480"/>
            <a:ext cx="2570040" cy="1927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"/>
          <p:cNvPicPr/>
          <p:nvPr/>
        </p:nvPicPr>
        <p:blipFill>
          <a:blip r:embed="rId3"/>
          <a:stretch/>
        </p:blipFill>
        <p:spPr>
          <a:xfrm>
            <a:off x="6500880" y="3286080"/>
            <a:ext cx="2643120" cy="1982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"/>
          <p:cNvPicPr/>
          <p:nvPr/>
        </p:nvPicPr>
        <p:blipFill>
          <a:blip r:embed="rId4"/>
          <a:stretch/>
        </p:blipFill>
        <p:spPr>
          <a:xfrm>
            <a:off x="4000680" y="5048280"/>
            <a:ext cx="1357200" cy="1809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08:21:09Z</dcterms:created>
  <dc:creator>Admin</dc:creator>
  <dc:description/>
  <dc:language>en-US</dc:language>
  <cp:lastModifiedBy>Светлана</cp:lastModifiedBy>
  <dcterms:modified xsi:type="dcterms:W3CDTF">2020-04-12T10:37:06Z</dcterms:modified>
  <cp:revision>52</cp:revision>
  <dc:subject/>
  <dc:title>История и Культура Санкт-Петербурга</dc:title>
</cp:coreProperties>
</file>