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F6D-10FD-4D12-B556-99F95DDB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4D4-64C1-47BF-88B8-70E3659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1C3-9F91-45FB-B727-981017C6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3D8-BE1C-490B-9278-BDDF6A98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7AB-B3C7-4ED8-99F0-B0B0D3D3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4E49-549F-4F20-8B6E-73F58BE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6A6A-C12A-4102-8335-A76C3320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DD0-0049-4514-A28C-AD9C117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0015-A670-43B6-805A-3F6A33B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D70-0955-43A7-A7FB-45D840D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517-ABD3-4F1D-9ECF-37DA157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CBD-9FB5-44CD-8E17-D77FA01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5E9-69F9-4E36-9AF5-F7FA6C9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BE62-86D3-488B-8575-B2A41AC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45BD-48C6-4E0B-BBFC-093268A2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E9D-F366-4D7D-8C15-42CAFE5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468B-083E-4C6B-910F-3F47D126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FA0-E31B-4853-9D9F-1C3E28C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1DA-6E27-4809-8034-78579EEC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CE7-66FF-4BA1-9756-BDA3AAA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7FD-BA3F-4E70-AAC9-A023E62F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54F-2AC7-4626-9941-40AECC1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AD3-1330-485C-83BC-2538D25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2AF-434D-41F8-9712-A4E11CD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2A7-BCDE-43AE-89ED-CE34FB0B0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41FE-17A2-4BBE-B92F-F8E531ABB7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Мастер-класс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 «Конструирование дома для сказочных героев из коробок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77960" y="4392720"/>
            <a:ext cx="4419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1"/>
          <p:cNvPicPr/>
          <p:nvPr/>
        </p:nvPicPr>
        <p:blipFill>
          <a:blip r:embed="rId1"/>
          <a:stretch/>
        </p:blipFill>
        <p:spPr>
          <a:xfrm>
            <a:off x="3308400" y="3741840"/>
            <a:ext cx="3200400" cy="24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2"/>
          <p:cNvPicPr/>
          <p:nvPr/>
        </p:nvPicPr>
        <p:blipFill>
          <a:blip r:embed="rId2"/>
          <a:stretch/>
        </p:blipFill>
        <p:spPr>
          <a:xfrm>
            <a:off x="6076800" y="3352680"/>
            <a:ext cx="3067200" cy="2308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3"/>
          <p:cNvPicPr/>
          <p:nvPr/>
        </p:nvPicPr>
        <p:blipFill>
          <a:blip r:embed="rId3"/>
          <a:stretch/>
        </p:blipFill>
        <p:spPr>
          <a:xfrm>
            <a:off x="378000" y="4005360"/>
            <a:ext cx="34099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струирование игрушечного домик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упаковочной коробки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различные источники с идеями выполнения / конструирования домика из упаковочных короб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 Сформировать макет (проект) будущего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бить макет на составляющ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ть элементы проекта, объединить их в задуманный предмет (доми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учить: работе по алгоритму, работе с ножом для бумаги/картона, вырезать элементы по заданному чертежу. Закрепить навыки в вырезании и склеивании элементов из картона; умения формировать из элементов пред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вивать наблюдательность, внимательность, точность движений, мелкую моторику, творческое вообра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спитывать любовь к творчеству, созидательному тру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Основные критерии при подготовке работы по конструированию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домика из упаковочных коробок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6840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доступного и недорогого матер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ение работы не должно быть слишком трудоемк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ультат работы – домик из картона – может быть использован при  досуговой деятельности: игры, инсценировки, как эле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атических инсталляций,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i?id=110692908-15-72&amp;n=21"/>
          <p:cNvPicPr/>
          <p:nvPr/>
        </p:nvPicPr>
        <p:blipFill>
          <a:blip r:embed="rId1"/>
          <a:stretch/>
        </p:blipFill>
        <p:spPr>
          <a:xfrm>
            <a:off x="5943600" y="40384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b7"/>
                </a:solidFill>
                <a:latin typeface="Times New Roman"/>
              </a:rPr>
              <a:t>Необходимые материалы: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нная коробка из-под упаковки шампуня, зубной пасты (или др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ты картона  (А 4 )/ или пакеты из-под моло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ей ПВА, клеящий пистол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ж для резки картона, ножницы, кисть, краски акриловые или гу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1" descr="4"/>
          <p:cNvPicPr/>
          <p:nvPr/>
        </p:nvPicPr>
        <p:blipFill>
          <a:blip r:embed="rId1"/>
          <a:stretch/>
        </p:blipFill>
        <p:spPr>
          <a:xfrm>
            <a:off x="6019920" y="1450800"/>
            <a:ext cx="289548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5"/>
          <p:cNvPicPr/>
          <p:nvPr/>
        </p:nvPicPr>
        <p:blipFill>
          <a:blip r:embed="rId2"/>
          <a:stretch/>
        </p:blipFill>
        <p:spPr>
          <a:xfrm>
            <a:off x="5638680" y="4044960"/>
            <a:ext cx="30481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385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Шаг 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46483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готовьте коробку, очистите ее от скотча, начертите проект будущего дома (окна, двери, крышу и п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помощью ножа для резки картона вырежьте задуманные эле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6"/>
          <p:cNvPicPr/>
          <p:nvPr/>
        </p:nvPicPr>
        <p:blipFill>
          <a:blip r:embed="rId1"/>
          <a:stretch/>
        </p:blipFill>
        <p:spPr>
          <a:xfrm>
            <a:off x="5334120" y="533520"/>
            <a:ext cx="3460680" cy="259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7"/>
          <p:cNvPicPr/>
          <p:nvPr/>
        </p:nvPicPr>
        <p:blipFill>
          <a:blip r:embed="rId2"/>
          <a:stretch/>
        </p:blipFill>
        <p:spPr>
          <a:xfrm>
            <a:off x="4495680" y="3648240"/>
            <a:ext cx="3429000" cy="25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8"/>
          <p:cNvPicPr/>
          <p:nvPr/>
        </p:nvPicPr>
        <p:blipFill>
          <a:blip r:embed="rId3"/>
          <a:stretch/>
        </p:blipFill>
        <p:spPr>
          <a:xfrm>
            <a:off x="304920" y="3672000"/>
            <a:ext cx="33526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г 2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0880" y="990720"/>
            <a:ext cx="426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я листы ламинированной бумаги (пакеты из-под молока) или картона, вырежьте соответствующие размеру «пола», «потолка» и «крыши»  элементы и приклейте с помощью клея П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9"/>
          <p:cNvPicPr/>
          <p:nvPr/>
        </p:nvPicPr>
        <p:blipFill>
          <a:blip r:embed="rId1"/>
          <a:stretch/>
        </p:blipFill>
        <p:spPr>
          <a:xfrm>
            <a:off x="5105520" y="68580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11"/>
          <p:cNvPicPr/>
          <p:nvPr/>
        </p:nvPicPr>
        <p:blipFill>
          <a:blip r:embed="rId2"/>
          <a:stretch/>
        </p:blipFill>
        <p:spPr>
          <a:xfrm>
            <a:off x="2514600" y="3814920"/>
            <a:ext cx="3809880" cy="28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г 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934320" y="-1355760"/>
            <a:ext cx="4419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0" descr="12"/>
          <p:cNvPicPr/>
          <p:nvPr/>
        </p:nvPicPr>
        <p:blipFill>
          <a:blip r:embed="rId1"/>
          <a:stretch/>
        </p:blipFill>
        <p:spPr>
          <a:xfrm>
            <a:off x="4664160" y="4259160"/>
            <a:ext cx="3352680" cy="251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13"/>
          <p:cNvPicPr/>
          <p:nvPr/>
        </p:nvPicPr>
        <p:blipFill>
          <a:blip r:embed="rId2"/>
          <a:stretch/>
        </p:blipFill>
        <p:spPr>
          <a:xfrm>
            <a:off x="297000" y="1600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4800600" y="676440"/>
            <a:ext cx="4183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ступаем с раскраске до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носим грунт, после чего –слой краски (акрил или гуаш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обойтись и без грунтовки, в таком случае,  наносим два-три слоя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Шаг 4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971800" y="228600"/>
            <a:ext cx="586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7480" indent="-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шло время приклеить крыш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 помощью клеящего пистолет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чего продолжаем украшать д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легкими движениями с помощью карандаша наносим будущий рисунок, раскрашива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использовать разные техники декупажа, аппликации и пр. дек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0" descr="15"/>
          <p:cNvPicPr/>
          <p:nvPr/>
        </p:nvPicPr>
        <p:blipFill>
          <a:blip r:embed="rId1"/>
          <a:stretch/>
        </p:blipFill>
        <p:spPr>
          <a:xfrm>
            <a:off x="228600" y="1143000"/>
            <a:ext cx="2666880" cy="1995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16"/>
          <p:cNvPicPr/>
          <p:nvPr/>
        </p:nvPicPr>
        <p:blipFill>
          <a:blip r:embed="rId2"/>
          <a:stretch/>
        </p:blipFill>
        <p:spPr>
          <a:xfrm>
            <a:off x="380880" y="3886200"/>
            <a:ext cx="3200400" cy="239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17"/>
          <p:cNvPicPr/>
          <p:nvPr/>
        </p:nvPicPr>
        <p:blipFill>
          <a:blip r:embed="rId3"/>
          <a:stretch/>
        </p:blipFill>
        <p:spPr>
          <a:xfrm>
            <a:off x="4952880" y="3886200"/>
            <a:ext cx="31244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нец работ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57200" y="3733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кам - работа, душе – праздник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19"/>
          <p:cNvPicPr/>
          <p:nvPr/>
        </p:nvPicPr>
        <p:blipFill>
          <a:blip r:embed="rId1"/>
          <a:stretch/>
        </p:blipFill>
        <p:spPr>
          <a:xfrm>
            <a:off x="3354480" y="47242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1"/>
          <p:cNvPicPr/>
          <p:nvPr/>
        </p:nvPicPr>
        <p:blipFill>
          <a:blip r:embed="rId2"/>
          <a:stretch/>
        </p:blipFill>
        <p:spPr>
          <a:xfrm>
            <a:off x="1135080" y="1100160"/>
            <a:ext cx="3284640" cy="24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3"/>
          <p:cNvPicPr/>
          <p:nvPr/>
        </p:nvPicPr>
        <p:blipFill>
          <a:blip r:embed="rId3"/>
          <a:stretch/>
        </p:blipFill>
        <p:spPr>
          <a:xfrm>
            <a:off x="5353200" y="1035000"/>
            <a:ext cx="34099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бовь</cp:lastModifiedBy>
  <dcterms:modified xsi:type="dcterms:W3CDTF">2020-04-12T15:42:48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