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0A7-CFC9-4EDB-B689-C4900071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388-166C-428F-94DA-F4E78F4E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B9F-D801-4B5C-BC6F-56091AB6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5D1-8E18-46D9-BC80-4A5DAED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6E7A-16C3-41EE-BDBF-20632EEF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6DA8-1295-49BD-B5EF-D6C49EA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5A3-69B1-4F45-BFBB-DCDB083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CA58-FF10-484F-88C4-520C327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4E26-9186-4129-9224-57F95DC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282C-8BA9-4B3E-8DE1-EE9F466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679-C2FF-45EF-82E2-BDB574C3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F54-0D2F-4E11-9082-3DC69A7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626A-BE09-4CD5-823A-8146C35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95C-27F8-413C-BEFF-0D40750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4BBB-7934-4B2B-84A6-ECF3DFF0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CB5-A256-4001-B466-5ABF159F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A59-27D4-43E6-AC3A-1775E0C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371F-E593-4D2D-9A04-E7A4C866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67F4-2EEC-491D-8194-53F1831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1845-6BC2-45B5-974B-02C1653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E639-AE73-49A7-A07B-1A16E82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8516-B3ED-4692-A0C9-E37A5FC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44B-EF6F-446C-BE26-C705E26C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0C58-A42D-49B5-97F5-CD0E693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2828-5F0C-4BDA-8436-40DF17B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0E8C-3D04-4A24-9183-95FA0D4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9287-57B4-4F90-855B-73AAD05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EA2D-B75E-4AB5-BB02-B97B22B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8337-2D98-4AD1-A7F9-9DFEE7D3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9B94-91A9-4170-8B21-15867F83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E1D6-69ED-41D1-BE5D-29422E6A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65F0-A141-4F0E-A267-E3B10C7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5A97-EBC5-4E0D-8B29-9BAE02C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62E-3F18-4B92-B6AB-C308C45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6FA1-8EFD-4A1F-82D8-1CBA06B3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AF96-324B-4275-AD23-FE9361F4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6184-4A64-4EAD-8C90-50779F7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6774-C401-492E-AA24-5FB065F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5DC9-07B7-4C21-8825-1485FAD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A2AE-C069-4A6C-BCF9-5376BBF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EC51-7DA6-45FA-82F2-4758922F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8CFF-FD5D-45B5-A278-1C38570B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261C-35B6-4914-8111-FF672F7B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43E18-F1EC-45DE-A29B-82B44261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EF1-51B7-4D57-94ED-FDA44AD7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D828-5422-4C5B-8B44-E81D1D2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963B-2FF6-4836-A84C-68D6427B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DF4FD-DEC0-437E-9699-C8ADA66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6FC5-6A78-4E34-9B5A-A4732F4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4743-A090-48A8-9A56-E6B55E4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9993-1FC1-46D9-8AC8-C7BBA13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9ADF-2448-4EC9-929D-F24621B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728A-630B-46D0-A75B-EC39370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DF88-DE81-45BD-863E-C7A4DD5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F595-8347-4118-B8D1-B4B7C3B8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E2A-B1BF-42A3-96FF-65DC378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36C9-D09E-425A-87D0-772F489B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EDCC-876F-4706-94DC-AB6AA9BB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4978-CDC7-4316-88FD-F0A1B29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AECD7-FFC5-40C9-B47F-BA554A3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F4D1-93AD-4664-965E-A123EF62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E39D-C321-4E2C-9643-AE38519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0B08-6DAE-4D04-80D9-2B1633A0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C1809-972D-4626-8BE7-468D7E5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B6A2-7ABB-4013-9C48-6B23DA3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E8878-74A8-41AB-AAFD-CE856A1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F3B-E359-49BA-8441-5D4F286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A440-5A89-45ED-8791-68506E25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5DB3-EDC5-48E6-AA3D-6A4560CF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DA25-A191-4208-ABC1-E03E8E49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1B5-CB35-4732-BFBD-BAB5D68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8BC-D584-42E5-B397-3D02FA1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3B1-AEDC-407C-BD6A-045AA3F9C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45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00">
              <a:alpha val="29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7EA6-2F60-4737-A88D-86117D832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9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7" descr="14466435-happy-water-drop-cartoon-character.jpg"/>
          <p:cNvPicPr/>
          <p:nvPr/>
        </p:nvPicPr>
        <p:blipFill>
          <a:blip r:embed="rId4"/>
          <a:stretch/>
        </p:blipFill>
        <p:spPr>
          <a:xfrm rot="1317000">
            <a:off x="8503920" y="44280"/>
            <a:ext cx="3254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appy-water-drop_35422-112.jpg"/>
          <p:cNvPicPr/>
          <p:nvPr/>
        </p:nvPicPr>
        <p:blipFill>
          <a:blip r:embed="rId5"/>
          <a:stretch/>
        </p:blipFill>
        <p:spPr>
          <a:xfrm rot="1090800">
            <a:off x="8699400" y="40788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818.jpg"/>
          <p:cNvPicPr/>
          <p:nvPr/>
        </p:nvPicPr>
        <p:blipFill>
          <a:blip r:embed="rId6"/>
          <a:stretch/>
        </p:blipFill>
        <p:spPr>
          <a:xfrm>
            <a:off x="8501040" y="500040"/>
            <a:ext cx="25236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5032018116.png"/>
          <p:cNvPicPr/>
          <p:nvPr/>
        </p:nvPicPr>
        <p:blipFill>
          <a:blip r:embed="rId7"/>
          <a:stretch/>
        </p:blipFill>
        <p:spPr>
          <a:xfrm>
            <a:off x="6480" y="4138560"/>
            <a:ext cx="944280" cy="174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FD17-5ED0-4B1C-9CC0-6441BA8FB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38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7" descr="04.15_denj_ekologichnih_znanj.jpg"/>
          <p:cNvPicPr/>
          <p:nvPr/>
        </p:nvPicPr>
        <p:blipFill>
          <a:blip r:embed="rId4"/>
          <a:stretch/>
        </p:blipFill>
        <p:spPr>
          <a:xfrm>
            <a:off x="0" y="4143240"/>
            <a:ext cx="1352520" cy="890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58ecdeee36cad15b5d46d290.png"/>
          <p:cNvPicPr/>
          <p:nvPr/>
        </p:nvPicPr>
        <p:blipFill>
          <a:blip r:embed="rId5"/>
          <a:stretch/>
        </p:blipFill>
        <p:spPr>
          <a:xfrm rot="20269800">
            <a:off x="7716600" y="9000"/>
            <a:ext cx="1143000" cy="1729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B943-2247-4865-AB75-EE53FBFF5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84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7" descr="0_b9f30_2a2c8881_L.png"/>
          <p:cNvPicPr/>
          <p:nvPr/>
        </p:nvPicPr>
        <p:blipFill>
          <a:blip r:embed="rId4"/>
          <a:stretch/>
        </p:blipFill>
        <p:spPr>
          <a:xfrm>
            <a:off x="7858080" y="3929040"/>
            <a:ext cx="1523880" cy="1365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8" descr="22738248.png"/>
          <p:cNvPicPr/>
          <p:nvPr/>
        </p:nvPicPr>
        <p:blipFill>
          <a:blip r:embed="rId5"/>
          <a:stretch/>
        </p:blipFill>
        <p:spPr>
          <a:xfrm>
            <a:off x="0" y="142920"/>
            <a:ext cx="1285920" cy="1504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25F-D9A9-4371-8DC9-EE5C21010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23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Рисунок 7" descr="700_FO65189654_67c399490eb57728163401ec8d515751.jpg"/>
          <p:cNvPicPr/>
          <p:nvPr/>
        </p:nvPicPr>
        <p:blipFill>
          <a:blip r:embed="rId4"/>
          <a:stretch/>
        </p:blipFill>
        <p:spPr>
          <a:xfrm rot="19153800">
            <a:off x="7870680" y="22680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9603228-cartoon-science-chemical-flasks-and-beakers.jpg"/>
          <p:cNvPicPr/>
          <p:nvPr/>
        </p:nvPicPr>
        <p:blipFill>
          <a:blip r:embed="rId5"/>
          <a:srcRect l="42633" t="56945" r="0" b="0"/>
          <a:stretch/>
        </p:blipFill>
        <p:spPr>
          <a:xfrm>
            <a:off x="142920" y="4000680"/>
            <a:ext cx="1434960" cy="11430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image-microbe-p24640.jpg"/>
          <p:cNvPicPr/>
          <p:nvPr/>
        </p:nvPicPr>
        <p:blipFill>
          <a:blip r:embed="rId6"/>
          <a:stretch/>
        </p:blipFill>
        <p:spPr>
          <a:xfrm>
            <a:off x="8715240" y="928800"/>
            <a:ext cx="247680" cy="349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promptimage2.jpg"/>
          <p:cNvPicPr/>
          <p:nvPr/>
        </p:nvPicPr>
        <p:blipFill>
          <a:blip r:embed="rId7"/>
          <a:stretch/>
        </p:blipFill>
        <p:spPr>
          <a:xfrm rot="17899200">
            <a:off x="8055000" y="293040"/>
            <a:ext cx="1071720" cy="677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911-D7E9-4515-8ABC-A18EA471C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s://cicon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84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занятия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я Книга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1"/>
          <a:stretch/>
        </p:blipFill>
        <p:spPr>
          <a:xfrm rot="2726400">
            <a:off x="6669720" y="2207520"/>
            <a:ext cx="2392200" cy="2847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2"/>
          <a:stretch/>
        </p:blipFill>
        <p:spPr>
          <a:xfrm>
            <a:off x="5522760" y="2089080"/>
            <a:ext cx="2343240" cy="2787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read.ihunter.ru/uploads/images/00/00/01/2014/05/08/bbd5aa.jpg"/>
          <p:cNvPicPr/>
          <p:nvPr/>
        </p:nvPicPr>
        <p:blipFill>
          <a:blip r:embed="rId3"/>
          <a:srcRect l="27705" t="10751" r="27563" b="14402"/>
          <a:stretch/>
        </p:blipFill>
        <p:spPr>
          <a:xfrm rot="953400">
            <a:off x="4771800" y="2778120"/>
            <a:ext cx="155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24000" y="267840"/>
            <a:ext cx="86407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е опис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большой тюлень. Длина тела самцов не превышает 141 см, самок — 137 см, масса первых в среднем составляет 95 кг, вторых 93 кг. Окраска меха темная, на спине на серо-черном фоне хорошо заметны серые кольца размером от 3 до 1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реал подвида охватывает акваторию Балтийского моря. В Ленинградской области балтийская нерпа держится районе Кургальского рифа, у островов Сесар, Большой Тютере, Мощный, юго-западне Березовых островов. По данным авиаучётов последних лет, численность нерпы в Финском заливе — не более 300 особ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лежки нерпы образуют на каменистых грядах, где располагаются в непосредственной близости друг от друга, иногда к ним присоединяются и серые тюлени. Питается нерпа в основном морским тараканом и рыбой (килькой, корюшкой, сайрой, бельдюгой ). Начало размножения приходится на конец марта-апрель. После 11-месячной беременности в ледяной норе рождается один детеныш кремово-белого цвета так называемый белек. Лактация длится около месяца. Основное место щенки — район Березовых островов, реже бельки появляются на свет в районе Кургальского рифа. Половой зрелости достигают к 6-7 годам. Взрослые нерпы в Финском заливе держатся постоянно, концентрируясь в летнее время в его южной ч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ирующие факто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грязнение водоема и, как следствие этого, истощение кормовой ба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охра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храняется в заказниках "Березовые острова", "Кургальский". Необходима организация заповедника "Ингерманландский". Для сохранения популяции необходимы действенные меры по ее охране и борьба с загрязнением вод Финского залива промышленными отход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Задание для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проект на т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ные на грани исчезновения в Ленинградской области» 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тения на грани исчезновения в Ленинградской обла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Задание для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ссылки определите какое животное (растение) находится на грани исчезновения на территории Ленинградск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презентацию о исчезающе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auna.lenobl.ru/media/uploads/userfiles/2019/06/07/%D0%9A%D1%80%D0%B0%D1%81%D0%BD%D0%B0%D1%8F_%D0%BA%D0%BD%D0%B8%D0%B3%D0%B0_%D0%9B%D0%B5%D0%BD%D0%B8%D0%BD%D0%B3%D1%80%D0%B0%D0%B4%D1%81%D0%BA%D0%BE%D0%B9_%D0%BE%D0%B1%D0%BB%D0%B0%D1%81%D1%82%D0%B8_%D1%82%D0%BE%D0%BC_%D0%B6%D0%B8%D0%B2%D0%BE%D1%82%D0%BD%D1%8B%D0%B5_2018_dkw9Koq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cicon.ru/kk-leningradskoj-obl-zhivotnye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ecobloger.ru/krasnaya-kniga-leningradskoj-oblast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dic.academic.ru/dic.nsf/ruwiki/1636007#.D0.A7.D0.BB.D0.B5.D0.BD.D0.B8.D1.81.D1.82.D0.BE.D0.BD.D0.BE.D0.B3.D0.B8.D0.B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edbookspb.eco-lo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476360" y="62712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сная книг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это список и описание редких и находящихся под угрозой исчезновения животных, растений и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Объект 5" descr=""/>
          <p:cNvPicPr/>
          <p:nvPr/>
        </p:nvPicPr>
        <p:blipFill>
          <a:blip r:embed="rId1"/>
          <a:stretch/>
        </p:blipFill>
        <p:spPr>
          <a:xfrm>
            <a:off x="3084480" y="2066760"/>
            <a:ext cx="3767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Tahoma"/>
              </a:rPr>
              <a:t>Страницы Красной книг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655640" y="1004760"/>
          <a:ext cx="6172200" cy="38642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же вымерш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чезающ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дк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 изученны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становленны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095440" y="411120"/>
            <a:ext cx="4038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ая обла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один из интереснейших регионов с геоморфологической, зоологической и флористической точки зрения. Сочетание разнообразных лесных массивов, верховых и низинных болот, обширных водных пространств и прибрежных зон обуславливает видовое богатство растительного и животного мира, а также многообразие природных комплексов. Над Ленинградской областью пролегает одна из основных трасс пролетного пути, по которому ежегодно весной и осенью путешествуют миллионы птиц. На мелководьях Финского залива, Ладоги и многочисленных озер располагаются традиционные места их стоян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Объект 4" descr="https://pp.vk.me/c621627/v621627464/1d0f0/QFctxotHz1U.jpg"/>
          <p:cNvPicPr/>
          <p:nvPr/>
        </p:nvPicPr>
        <p:blipFill>
          <a:blip r:embed="rId1"/>
          <a:stretch/>
        </p:blipFill>
        <p:spPr>
          <a:xfrm>
            <a:off x="539640" y="1058760"/>
            <a:ext cx="4321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50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можно встретить редкие виды растений и животных - венерин башмачок, прострел обыкновенный, скопа, ладожская нерпа и многие другие, интереснейшие геологические и гидрологические объекты - обнажения древних пород, скалы, пещеры, моренные гряды, ледниковые озера. Удивительно разнообразны и ее ландшафты - моренные долины, каньоны рек, равнины с холмистыми возвышенностями, шхеры Выборгского залива и северной Ладог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ая, богатая и многоликая природа Ленинградской области требует бережного отношения. Природоохранные задачи приобретают приоритетную роль в условиях бурно развивающейся экономики области, ведь интенсивное промышленное, сельскохозяйственное и рекреационное освоение региона ведет к тому, что давление на природу возрастает с каждым годом. Для реализации стратегии устойчивого развития, позволяющей непротиворечиво совместить экономическое процветание и сохранение природных ценностей, необходим целый комплекс природоохранных мер, важнейшим компонентом которого является система особо охраняемых природных территорий, сокращенно - ООП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охраняемые природные территории - заповедники, заказники, памятники природы и т.д. - представляют собой участки с ценными природными объек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9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я книга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9" descr="красная книга"/>
          <p:cNvPicPr/>
          <p:nvPr/>
        </p:nvPicPr>
        <p:blipFill>
          <a:blip r:embed="rId1"/>
          <a:stretch/>
        </p:blipFill>
        <p:spPr>
          <a:xfrm rot="20413800">
            <a:off x="1422360" y="1709280"/>
            <a:ext cx="1730520" cy="2546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0" y="221112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602 вида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ери, подлежащие охране на территор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03480"/>
            <a:ext cx="403848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ая цап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ый аи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лтийский осет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топырь лес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рс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имород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сомах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рка европейс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тя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ня садо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54080" y="1063800"/>
            <a:ext cx="403884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 прудо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 прыт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ан-белохв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с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жская нер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ая кольчатая нер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ий си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ель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тая неясы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дяте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лу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ха болот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 обыкновен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Красная книга               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05520" y="1775880"/>
            <a:ext cx="4038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528 видов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Рисунок 7" descr=""/>
          <p:cNvPicPr/>
          <p:nvPr/>
        </p:nvPicPr>
        <p:blipFill>
          <a:blip r:embed="rId1"/>
          <a:stretch/>
        </p:blipFill>
        <p:spPr>
          <a:xfrm>
            <a:off x="1042920" y="1401840"/>
            <a:ext cx="2449440" cy="29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тийская кольчатая нер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https://www.lomolenobl.ru/wp-content/uploads/2018/02/858x540.jpg"/>
          <p:cNvPicPr/>
          <p:nvPr/>
        </p:nvPicPr>
        <p:blipFill>
          <a:blip r:embed="rId1"/>
          <a:stretch/>
        </p:blipFill>
        <p:spPr>
          <a:xfrm>
            <a:off x="2525760" y="1095480"/>
            <a:ext cx="4257720" cy="2679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896840" y="3940200"/>
            <a:ext cx="57704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. 2 - исчезающий подви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Красные книги Российской Федер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ого региона и Восточной Фенносканд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01:11:43Z</dcterms:created>
  <dc:creator>Lenovo</dc:creator>
  <dc:description/>
  <dc:language>en-US</dc:language>
  <cp:lastModifiedBy>ЛИЗА</cp:lastModifiedBy>
  <dcterms:modified xsi:type="dcterms:W3CDTF">2020-04-12T18:11:59Z</dcterms:modified>
  <cp:revision>10</cp:revision>
  <dc:subject/>
  <dc:title>Слайд 1</dc:title>
</cp:coreProperties>
</file>