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ADF-2920-40BF-BC62-12E4F217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ED3-97A8-445D-8B2B-BDE94873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BA5-D4BB-43FD-9DF2-19E84BD4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D97-F2D3-4160-9E36-F52E2712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1726-A136-421D-BF56-63DF5C02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D968-9BF1-489D-8767-09B8FAD0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41C1-B9C2-4E48-BCED-DC88C25A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23F2-8055-4D60-86A9-FA244B7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6AD2-A95D-49A1-86FA-8A7F1CC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F04B-F549-4C6F-B6BD-FC774F68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A6BC-C388-459F-9249-00D27115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C3E-192D-4408-B7DF-64F499DE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CC82-6564-42B0-815D-D88BD1F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F4CE-04EB-400F-B8ED-7CAD5E8A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B854-A538-4B12-BC70-E1083DDF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BBFE-D4F8-486D-BBAD-C058B97F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2AA7-59DC-46B5-9D21-D056D617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F9CC-2AE5-46F2-92FC-6E10CD0B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932C-EAF5-4318-9E1A-2D742E0D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1C79-1501-4BBA-AD07-059D4D3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62D9-8EA2-42D0-ADDD-8C679B3D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E1B3-0319-450B-97D2-6CA708A2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998-6516-403A-B6E6-01C97A7A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CFCD-FAC3-4629-843D-48FC582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FD12-6EAD-4F1E-9F85-B337566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1529-C740-4900-AE51-ACC0F63C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7047-E3C5-42D2-9BFA-F7CA951E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E60E-7F09-425D-8737-7AF278CF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79DF-9300-4B3C-8A98-4089570F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948D-7393-41F2-A2CC-E664445B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5ED61-9ABB-4031-8CF9-DF518503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3283-1128-4DEA-8171-C3F51231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6BF62-E003-484B-8223-689A831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07A-4A23-4B4A-B19C-FF7EDD88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DF19-BF2B-4101-A336-3B7BA85D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4AB4-A2CA-4621-AE04-67F22805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B222-6E48-47F9-947F-27C73E9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E98E-D539-408A-817A-36362288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9C76-0B7D-43AC-841E-EF2B8F8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4456-80D1-47C8-A474-F54AB83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CD45-685A-41D0-91AE-95F7EB89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FBDB-B017-4798-B67F-E95D10E5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E2A1-3053-416E-ADB9-96D3F4BD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B656-B541-4DD2-8C78-2ADC61D2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A12-C4C7-4C3B-8927-B46E5D35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3C75-80E5-4A99-97A7-523BACE3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A2F7-4F4E-4AAF-ACE7-4E1B3833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B7AB1-EA87-41E1-A827-ECDCDBF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EE4B-7481-494D-883A-FE6B2588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9E90D-A49A-4C33-86DC-D1E58033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611E2-97EF-4602-BC0B-D05804E2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AB96-B2D9-4496-A091-6DD1485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0D1C-E2E1-44C4-80AF-11A08EE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9D03-4148-4FCA-A0C6-AB3C1A4F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76BB-C9CA-467F-B477-57A782FA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D48-CCF0-4B35-A48A-9F71E1A3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99BAD-BE90-49F9-94EF-87973F75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4FB54-C4F3-4EC8-8412-DBF6E055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B945-57C6-4FF8-9585-5EE38A1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9C74-5FC3-4494-A37F-06C5A546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97C17-884E-427E-99BC-656ADA81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7A225-E3AA-4FCC-8C6E-C07B6B91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28CB9-25BC-4E80-A23A-50671444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7295B-A7D2-4872-A1E8-39357CA1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CAF3-192B-496D-B796-FC3919AD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A96E3-B90F-44AB-A7EE-35083D5A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A64-A448-47ED-82F3-E10A68E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FEFB1-4530-47F9-B53C-8E16B84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2EB65-6152-4E35-8A34-38C0B890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A586-B7FA-4233-9F99-4CDA7B0B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B74-02E9-4F37-AA92-13F7C48B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13C-3367-4A95-A751-5BD8149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9A2-2A08-4D4B-A4C8-89107B743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6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45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оугольник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00">
              <a:alpha val="29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454-F3A5-4D63-A9C0-B7CB323A7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90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Рисунок 7" descr="14466435-happy-water-drop-cartoon-character.jpg"/>
          <p:cNvPicPr/>
          <p:nvPr/>
        </p:nvPicPr>
        <p:blipFill>
          <a:blip r:embed="rId4"/>
          <a:stretch/>
        </p:blipFill>
        <p:spPr>
          <a:xfrm rot="1317000">
            <a:off x="8503920" y="44280"/>
            <a:ext cx="32544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happy-water-drop_35422-112.jpg"/>
          <p:cNvPicPr/>
          <p:nvPr/>
        </p:nvPicPr>
        <p:blipFill>
          <a:blip r:embed="rId5"/>
          <a:stretch/>
        </p:blipFill>
        <p:spPr>
          <a:xfrm rot="1090800">
            <a:off x="8699400" y="407880"/>
            <a:ext cx="393840" cy="393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818.jpg"/>
          <p:cNvPicPr/>
          <p:nvPr/>
        </p:nvPicPr>
        <p:blipFill>
          <a:blip r:embed="rId6"/>
          <a:stretch/>
        </p:blipFill>
        <p:spPr>
          <a:xfrm>
            <a:off x="8501040" y="500040"/>
            <a:ext cx="25236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15032018116.png"/>
          <p:cNvPicPr/>
          <p:nvPr/>
        </p:nvPicPr>
        <p:blipFill>
          <a:blip r:embed="rId7"/>
          <a:stretch/>
        </p:blipFill>
        <p:spPr>
          <a:xfrm>
            <a:off x="6480" y="4138560"/>
            <a:ext cx="944280" cy="1749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12E3-017B-45EA-A4F0-EF7910116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138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Рисунок 7" descr="04.15_denj_ekologichnih_znanj.jpg"/>
          <p:cNvPicPr/>
          <p:nvPr/>
        </p:nvPicPr>
        <p:blipFill>
          <a:blip r:embed="rId4"/>
          <a:stretch/>
        </p:blipFill>
        <p:spPr>
          <a:xfrm>
            <a:off x="0" y="4143240"/>
            <a:ext cx="1352520" cy="890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58ecdeee36cad15b5d46d290.png"/>
          <p:cNvPicPr/>
          <p:nvPr/>
        </p:nvPicPr>
        <p:blipFill>
          <a:blip r:embed="rId5"/>
          <a:stretch/>
        </p:blipFill>
        <p:spPr>
          <a:xfrm rot="20269800">
            <a:off x="7716600" y="9000"/>
            <a:ext cx="1143000" cy="1729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E8F8-1F2B-45F9-9EBC-3CED80C73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184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Рисунок 7" descr="0_b9f30_2a2c8881_L.png"/>
          <p:cNvPicPr/>
          <p:nvPr/>
        </p:nvPicPr>
        <p:blipFill>
          <a:blip r:embed="rId4"/>
          <a:stretch/>
        </p:blipFill>
        <p:spPr>
          <a:xfrm>
            <a:off x="7858080" y="3929040"/>
            <a:ext cx="1523880" cy="1365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8" descr="22738248.png"/>
          <p:cNvPicPr/>
          <p:nvPr/>
        </p:nvPicPr>
        <p:blipFill>
          <a:blip r:embed="rId5"/>
          <a:stretch/>
        </p:blipFill>
        <p:spPr>
          <a:xfrm>
            <a:off x="0" y="142920"/>
            <a:ext cx="1285920" cy="1504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03A0-DDA0-4953-BD8A-D70DA80B4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230" name="Рамка 6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4240" y="84240"/>
              <a:ext cx="8975520" cy="49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Рисунок 7" descr="700_FO65189654_67c399490eb57728163401ec8d515751.jpg"/>
          <p:cNvPicPr/>
          <p:nvPr/>
        </p:nvPicPr>
        <p:blipFill>
          <a:blip r:embed="rId4"/>
          <a:stretch/>
        </p:blipFill>
        <p:spPr>
          <a:xfrm rot="19153800">
            <a:off x="7870680" y="22680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9603228-cartoon-science-chemical-flasks-and-beakers.jpg"/>
          <p:cNvPicPr/>
          <p:nvPr/>
        </p:nvPicPr>
        <p:blipFill>
          <a:blip r:embed="rId5"/>
          <a:srcRect l="42633" t="56945" r="0" b="0"/>
          <a:stretch/>
        </p:blipFill>
        <p:spPr>
          <a:xfrm>
            <a:off x="142920" y="4000680"/>
            <a:ext cx="1434960" cy="11430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image-microbe-p24640.jpg"/>
          <p:cNvPicPr/>
          <p:nvPr/>
        </p:nvPicPr>
        <p:blipFill>
          <a:blip r:embed="rId6"/>
          <a:stretch/>
        </p:blipFill>
        <p:spPr>
          <a:xfrm>
            <a:off x="8715240" y="928800"/>
            <a:ext cx="247680" cy="349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promptimage2.jpg"/>
          <p:cNvPicPr/>
          <p:nvPr/>
        </p:nvPicPr>
        <p:blipFill>
          <a:blip r:embed="rId7"/>
          <a:stretch/>
        </p:blipFill>
        <p:spPr>
          <a:xfrm rot="17899200">
            <a:off x="8055000" y="293040"/>
            <a:ext cx="1071720" cy="677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624-678A-4A3F-8CEE-FBA5A7A14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s://cicon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8420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занятия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ая Книга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нинград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1"/>
          <a:stretch/>
        </p:blipFill>
        <p:spPr>
          <a:xfrm rot="2726400">
            <a:off x="6669720" y="2207520"/>
            <a:ext cx="2392200" cy="28479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2"/>
          <a:stretch/>
        </p:blipFill>
        <p:spPr>
          <a:xfrm>
            <a:off x="5522760" y="2089080"/>
            <a:ext cx="2343240" cy="2787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http://read.ihunter.ru/uploads/images/00/00/01/2014/05/08/bbd5aa.jpg"/>
          <p:cNvPicPr/>
          <p:nvPr/>
        </p:nvPicPr>
        <p:blipFill>
          <a:blip r:embed="rId3"/>
          <a:srcRect l="27705" t="10751" r="27563" b="14402"/>
          <a:stretch/>
        </p:blipFill>
        <p:spPr>
          <a:xfrm rot="953400">
            <a:off x="4771800" y="2778120"/>
            <a:ext cx="1558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24000" y="267840"/>
            <a:ext cx="86407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е опис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большой тюлень. Длина тела самцов не превышает 141 см, самок — 137 см, масса первых в среднем составляет 95 кг, вторых 93 кг. Окраска меха темная, на спине на серо-черном фоне хорошо заметны серые кольца размером от 3 до 1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реал подвида охватывает акваторию Балтийского моря. В Ленинградской области балтийская нерпа держится районе Кургальского рифа, у островов Сесар, Большой Тютере, Мощный, юго-западне Березовых островов. По данным авиаучётов последних лет, численность нерпы в Финском заливе — не более 300 особ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лежки нерпы образуют на каменистых грядах, где располагаются в непосредственной близости друг от друга, иногда к ним присоединяются и серые тюлени. Питается нерпа в основном морским тараканом и рыбой (килькой, корюшкой, сайрой, бельдюгой ). Начало размножения приходится на конец марта-апрель. После 11-месячной беременности в ледяной норе рождается один детеныш кремово-белого цвета так называемый белек. Лактация длится около месяца. Основное место щенки — район Березовых островов, реже бельки появляются на свет в районе Кургальского рифа. Половой зрелости достигают к 6-7 годам. Взрослые нерпы в Финском заливе держатся постоянно, концентрируясь в летнее время в его южной ча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итирующие фактор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грязнение водоема и, как следствие этого, истощение кормовой баз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охран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храняется в заказниках "Березовые острова", "Кургальский". Необходима организация заповедника "Ингерманландский". Для сохранения популяции необходимы действенные меры по ее охране и борьба с загрязнением вод Финского залива промышленными отход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Задание для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ьте проект на т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отные на грани исчезновения в Ленинградской области» 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тения на грани исчезновения в Ленинградской обла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Задание для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ссылки определите какое животное (растение) находится на грани исчезновения на территории Ленинградской об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те презентацию о исчезающе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fauna.lenobl.ru/media/uploads/userfiles/2019/06/07/%D0%9A%D1%80%D0%B0%D1%81%D0%BD%D0%B0%D1%8F_%D0%BA%D0%BD%D0%B8%D0%B3%D0%B0_%D0%9B%D0%B5%D0%BD%D0%B8%D0%BD%D0%B3%D1%80%D0%B0%D0%B4%D1%81%D0%BA%D0%BE%D0%B9_%D0%BE%D0%B1%D0%BB%D0%B0%D1%81%D1%82%D0%B8_%D1%82%D0%BE%D0%BC_%D0%B6%D0%B8%D0%B2%D0%BE%D1%82%D0%BD%D1%8B%D0%B5_2018_dkw9Koq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cicon.ru/kk-leningradskoj-obl-zhivotnye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ecobloger.ru/krasnaya-kniga-leningradskoj-oblasti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dic.academic.ru/dic.nsf/ruwiki/1636007#.D0.A7.D0.BB.D0.B5.D0.BD.D0.B8.D1.81.D1.82.D0.BE.D0.BD.D0.BE.D0.B3.D0.B8.D0.B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edbookspb.eco-lo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1476360" y="62712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асная книг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это список и описание редких и находящихся под угрозой исчезновения животных, растений и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Объект 5" descr=""/>
          <p:cNvPicPr/>
          <p:nvPr/>
        </p:nvPicPr>
        <p:blipFill>
          <a:blip r:embed="rId1"/>
          <a:stretch/>
        </p:blipFill>
        <p:spPr>
          <a:xfrm>
            <a:off x="3084480" y="2066760"/>
            <a:ext cx="3767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Tahoma"/>
              </a:rPr>
              <a:t>Страницы Красной книг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655640" y="1004760"/>
          <a:ext cx="6172200" cy="386424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</a:t>
                      </a: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же вымерши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</a:t>
                      </a: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чезающи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дки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ло изученны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544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</a:t>
                      </a:r>
                      <a:r>
                        <a:rPr b="0" lang="ru-RU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становленные 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095440" y="411120"/>
            <a:ext cx="4038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градская обла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один из интереснейших регионов с геоморфологической, зоологической и флористической точки зрения. Сочетание разнообразных лесных массивов, верховых и низинных болот, обширных водных пространств и прибрежных зон обуславливает видовое богатство растительного и животного мира, а также многообразие природных комплексов. Над Ленинградской областью пролегает одна из основных трасс пролетного пути, по которому ежегодно весной и осенью путешествуют миллионы птиц. На мелководьях Финского залива, Ладоги и многочисленных озер располагаются традиционные места их стоян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Объект 4" descr="https://pp.vk.me/c621627/v621627464/1d0f0/QFctxotHz1U.jpg"/>
          <p:cNvPicPr/>
          <p:nvPr/>
        </p:nvPicPr>
        <p:blipFill>
          <a:blip r:embed="rId1"/>
          <a:stretch/>
        </p:blipFill>
        <p:spPr>
          <a:xfrm>
            <a:off x="539640" y="1058760"/>
            <a:ext cx="4321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14400" y="50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можно встретить редкие виды растений и животных - венерин башмачок, прострел обыкновенный, скопа, ладожская нерпа и многие другие, интереснейшие геологические и гидрологические объекты - обнажения древних пород, скалы, пещеры, моренные гряды, ледниковые озера. Удивительно разнообразны и ее ландшафты - моренные долины, каньоны рек, равнины с холмистыми возвышенностями, шхеры Выборгского залива и северной Ладог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ая, богатая и многоликая природа Ленинградской области требует бережного отношения. Природоохранные задачи приобретают приоритетную роль в условиях бурно развивающейся экономики области, ведь интенсивное промышленное, сельскохозяйственное и рекреационное освоение региона ведет к тому, что давление на природу возрастает с каждым годом. Для реализации стратегии устойчивого развития, позволяющей непротиворечиво совместить экономическое процветание и сохранение природных ценностей, необходим целый комплекс природоохранных мер, важнейшим компонентом которого является система особо охраняемых природных территорий, сокращенно - ООП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охраняемые природные территории - заповедники, заказники, памятники природы и т.д. - представляют собой участки с ценными природными объек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9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ая книга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нинград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9" descr="красная книга"/>
          <p:cNvPicPr/>
          <p:nvPr/>
        </p:nvPicPr>
        <p:blipFill>
          <a:blip r:embed="rId1"/>
          <a:stretch/>
        </p:blipFill>
        <p:spPr>
          <a:xfrm rot="20413800">
            <a:off x="1422360" y="1709280"/>
            <a:ext cx="1730520" cy="2546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0" y="2211120"/>
            <a:ext cx="403848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602 вида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ери, подлежащие охране на территори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нинград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203480"/>
            <a:ext cx="4038480" cy="29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рая цап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ый аи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лтийский осет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етопырь лес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рсу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п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имород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осомах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рка европейск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етя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ня садов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54080" y="1063800"/>
            <a:ext cx="403884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 прудов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 прытк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лан-белохв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с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ожская нер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тийская кольчатая нер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тийский си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ку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ель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атая неясы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дяте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лу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ха болот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 обыкновен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Красная книга               Ленинград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105520" y="1775880"/>
            <a:ext cx="4038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528 видов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Рисунок 7" descr=""/>
          <p:cNvPicPr/>
          <p:nvPr/>
        </p:nvPicPr>
        <p:blipFill>
          <a:blip r:embed="rId1"/>
          <a:stretch/>
        </p:blipFill>
        <p:spPr>
          <a:xfrm>
            <a:off x="1042920" y="1401840"/>
            <a:ext cx="2449440" cy="29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лтийская кольчатая нер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https://www.lomolenobl.ru/wp-content/uploads/2018/02/858x540.jpg"/>
          <p:cNvPicPr/>
          <p:nvPr/>
        </p:nvPicPr>
        <p:blipFill>
          <a:blip r:embed="rId1"/>
          <a:stretch/>
        </p:blipFill>
        <p:spPr>
          <a:xfrm>
            <a:off x="2525760" y="1095480"/>
            <a:ext cx="4257720" cy="2679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896840" y="3940200"/>
            <a:ext cx="57704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. 2 - исчезающий подви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 в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Красные книги Российской Федерац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тийского региона и Восточной Фенносканд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2T01:11:43Z</dcterms:created>
  <dc:creator>Lenovo</dc:creator>
  <dc:description/>
  <dc:language>en-US</dc:language>
  <cp:lastModifiedBy>ЛИЗА</cp:lastModifiedBy>
  <dcterms:modified xsi:type="dcterms:W3CDTF">2020-04-12T18:11:59Z</dcterms:modified>
  <cp:revision>10</cp:revision>
  <dc:subject/>
  <dc:title>Слайд 1</dc:title>
</cp:coreProperties>
</file>