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0F8-EC3C-4768-B302-3B8A6A55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3B2-6D24-46A2-9900-326BDFF8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4E8-B899-4DFE-9696-7DDEAC86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6A1-160F-4D81-9D08-538B5555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3F4B-9E7D-45AC-890B-C4E5DC50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C767-1E49-4CB6-8EA5-321851FC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F40A-F218-4303-9305-5D2C0571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FF40-F3D9-4E3B-946B-9F9937B5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7692-C7E6-47AE-8CEB-7D9EEA04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8D36-7C1C-4176-B068-88C331B2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B2E9-0746-4A66-8A23-AB2C6AD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8E5-448A-4A1F-A30A-DF91BB6E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D8B1-44C5-427A-9D48-43C02992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F6ED-82AB-4A74-8697-C6D87F95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479B-D1B9-40F4-B0F7-6EBDC59B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F62E-15C0-4EC1-B9D8-B4349CCA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2AC5-97BC-4BE4-B926-9742073D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0BDF6-2182-42B9-BCD0-CE7D2365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ED0B-45E9-47BE-A4D5-F3A8003F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1331-3DE6-42E4-A3B4-B99A9FD0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F925-E737-454E-9D52-AE778042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F72D9-E7FF-488F-B0BF-46387B75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782-C3FB-422E-99DD-BB19D072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20E2-4218-40CC-A2D4-AAB337B3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E947-55E4-4EE4-9C77-A55B42F6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C6C6-1452-41C2-9D65-1CD6CA2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7599-9E33-4927-9384-0424B569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7D2B-5742-438B-87D4-3964A084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D09C-E866-4677-9CB0-940BDE69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33EB-AB96-43AF-B1DB-5ACA63BA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5206-669D-423B-9A90-132BFCE6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D96EA-AB59-4200-9E8C-49DA1CB9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F5BB-B5D9-4B1C-989C-6051C644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722-B887-46F8-9F09-34C32A12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F087-0B2E-47D0-96EE-6727F9C1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1443C-7770-49A8-8D53-CCCCAD5A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A37A-D36F-4B3A-8443-FB5AC610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C91C-2497-43B7-BB53-6F408697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B629-744F-402F-9879-F3911F3A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2A875-BFE5-4000-9433-2831D480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DAC4-F985-428B-86D6-D45CB2DC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D09B-1DF2-4517-9A13-445BAD44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CEBA-D917-4468-8948-2CBD0B46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D343-C227-4E67-9106-6F0E0A60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8FB-EFE7-4C60-A927-4D0D4152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E279-8087-45A4-A3EF-AD2507C4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383F8-53AA-40CD-9ED1-5FD54973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A9BE9-5661-4266-863B-33550113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22824-5B27-4A1F-B55E-13858F07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DDBAB-B639-494E-84D1-8AA35DFE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BDE3-3D2D-4454-90E4-8589A9D8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0FE48-4982-4B41-ADB7-55519F89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10A03-D26F-4BB3-A6C2-8486F36A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1CD05-F6EF-47D0-9A7D-0C6EB2C7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A5D0E-207B-4AEC-8998-26B7CDFB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39C-29BE-4E39-9588-7E19DD26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86BD5-0032-4951-98EE-CC03E99C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2F3-DBEC-4306-860F-20332091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039-C023-4B62-8F85-CE149AAC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113-E725-449A-93CE-321BF3E6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C77C-9949-4B95-BFDA-44295127AC7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2680-AED8-423C-AEA2-C73B375F1DB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DD15-9588-4493-9370-263E23C461D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9013-65F4-4140-BE99-C54B148942D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62EA-0E8C-4C8F-A9D2-230A95CEADD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pletnik.ru/img/2008/08/bru/18-22/19/andron19008-yustas.jpg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cdn1.rudb.org/img/2011_02/04/ad2d2012-302d-441c-8488-30254f7dc003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f017p29-1"/>
          <p:cNvPicPr/>
          <p:nvPr/>
        </p:nvPicPr>
        <p:blipFill>
          <a:blip r:embed="rId1"/>
          <a:stretch/>
        </p:blipFill>
        <p:spPr>
          <a:xfrm>
            <a:off x="4859280" y="260280"/>
            <a:ext cx="4143600" cy="6381720"/>
          </a:xfrm>
          <a:prstGeom prst="rect">
            <a:avLst/>
          </a:prstGeom>
          <a:ln w="0">
            <a:noFill/>
          </a:ln>
        </p:spPr>
      </p:pic>
      <p:sp>
        <p:nvSpPr>
          <p:cNvPr id="221" name="WordArt 5"/>
          <p:cNvSpPr txBox="1"/>
          <p:nvPr/>
        </p:nvSpPr>
        <p:spPr>
          <a:xfrm>
            <a:off x="539640" y="620640"/>
            <a:ext cx="403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Сергей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Владимирович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Михалков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Файл:Vladimir Putin 13 March 2003-4.jpg"/>
          <p:cNvPicPr/>
          <p:nvPr/>
        </p:nvPicPr>
        <p:blipFill>
          <a:blip r:embed="rId1"/>
          <a:stretch/>
        </p:blipFill>
        <p:spPr>
          <a:xfrm>
            <a:off x="1785960" y="285840"/>
            <a:ext cx="5560920" cy="37148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2786040" y="4357800"/>
            <a:ext cx="3382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Владимир Путин награждает Сергея Михалкова орд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«За заслуги перед Отечеством» II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296900"/>
          <p:cNvPicPr/>
          <p:nvPr/>
        </p:nvPicPr>
        <p:blipFill>
          <a:blip r:embed="rId1"/>
          <a:stretch/>
        </p:blipFill>
        <p:spPr>
          <a:xfrm>
            <a:off x="5724360" y="476280"/>
            <a:ext cx="2810160" cy="23716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4824360" y="292428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ем Михалкова названа одна из малых планет Солнечной Системы (199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планета"/>
          <p:cNvPicPr/>
          <p:nvPr/>
        </p:nvPicPr>
        <p:blipFill>
          <a:blip r:embed="rId2"/>
          <a:stretch/>
        </p:blipFill>
        <p:spPr>
          <a:xfrm>
            <a:off x="179280" y="260280"/>
            <a:ext cx="4587840" cy="6337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1000333092"/>
          <p:cNvPicPr/>
          <p:nvPr/>
        </p:nvPicPr>
        <p:blipFill>
          <a:blip r:embed="rId3"/>
          <a:stretch/>
        </p:blipFill>
        <p:spPr>
          <a:xfrm>
            <a:off x="6012000" y="3933720"/>
            <a:ext cx="222408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20"/>
                            </p:stCondLst>
                            <p:childTnLst>
                              <p:par>
                                <p:cTn id="2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i-main-pic" descr="Картинка 1 из 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0280" y="1225440"/>
            <a:ext cx="2016360" cy="2840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C:\Documents and Settings\User\Мои документы\Мои рисунки\191923_thumb.jpg"/>
          <p:cNvPicPr/>
          <p:nvPr/>
        </p:nvPicPr>
        <p:blipFill>
          <a:blip r:embed="rId3"/>
          <a:stretch/>
        </p:blipFill>
        <p:spPr>
          <a:xfrm>
            <a:off x="2655720" y="1252440"/>
            <a:ext cx="2105280" cy="2808360"/>
          </a:xfrm>
          <a:prstGeom prst="rect">
            <a:avLst/>
          </a:prstGeom>
          <a:ln w="0">
            <a:noFill/>
          </a:ln>
        </p:spPr>
      </p:pic>
      <p:pic>
        <p:nvPicPr>
          <p:cNvPr id="270" name="i-main-pic" descr="Картинка 8 из 194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19280" y="4191120"/>
            <a:ext cx="1944720" cy="2666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643040" y="579600"/>
            <a:ext cx="5214960" cy="79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Потомки Сергея Михалк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00760" y="1447560"/>
            <a:ext cx="3714480" cy="4552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47840" indent="-382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Сергей Михалков оставил после себя не мене знаменитых сыновей, которые стали великими кинорежиссерам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 algn="ctr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а Михалк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 algn="ctr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Михалков-Кончаловский и внук – актер Артем Михал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78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285840" y="4065480"/>
            <a:ext cx="13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70836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3"/>
          <p:cNvSpPr/>
          <p:nvPr/>
        </p:nvSpPr>
        <p:spPr>
          <a:xfrm>
            <a:off x="3714840" y="6199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6" descr="C:\Users\Нина\Desktop\презентации\михалков\230_2872523784605112.jpg"/>
          <p:cNvPicPr/>
          <p:nvPr/>
        </p:nvPicPr>
        <p:blipFill>
          <a:blip r:embed="rId1"/>
          <a:stretch/>
        </p:blipFill>
        <p:spPr>
          <a:xfrm>
            <a:off x="900000" y="476280"/>
            <a:ext cx="3726000" cy="49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8" name="TextBox 2"/>
          <p:cNvSpPr/>
          <p:nvPr/>
        </p:nvSpPr>
        <p:spPr>
          <a:xfrm>
            <a:off x="5072040" y="114300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Умер Сергей Владимирович       Михал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27 августа 2009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395280" y="59500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5732640"/>
            <a:ext cx="8183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осчитай сколько лет было бы сейчас Михалкову. Запиши в тетрадь, рядом с его фамилией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478-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24000" y="333360"/>
            <a:ext cx="2349360" cy="38052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2916360" y="333360"/>
            <a:ext cx="59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лся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13 марта 1913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Москве в семье Владимира Александровича и Ольги Михайловны Михалк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700360" y="1557360"/>
            <a:ext cx="604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к поэзии у Сергея обнаружились уже в девять лет. В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192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семья переезжает в Ставропольский край и тогда Сергей начинает печататься. В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19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публикуется первое стихотворение «Дорога» в журнале «На подъёме». После окончания школы Сергей Михалков возвращается в Москву и работает на ткацкой фабрике, в геологоразведочной экспедиции. В это же время в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193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становится внештатным сотрудником отдела писем газеты «Известия». Публикуется в журналах: «Огонёк», «Пионер», «Прожектор», в газетах: «Комсомольская правда», «Известия», «Правда». Выходит первый сборник стих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9164440"/>
          <p:cNvPicPr/>
          <p:nvPr/>
        </p:nvPicPr>
        <p:blipFill>
          <a:blip r:embed="rId2"/>
          <a:stretch/>
        </p:blipFill>
        <p:spPr>
          <a:xfrm>
            <a:off x="539640" y="4265640"/>
            <a:ext cx="1652760" cy="2403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i"/>
          <p:cNvPicPr/>
          <p:nvPr/>
        </p:nvPicPr>
        <p:blipFill>
          <a:blip r:embed="rId3"/>
          <a:stretch/>
        </p:blipFill>
        <p:spPr>
          <a:xfrm>
            <a:off x="3995640" y="5229360"/>
            <a:ext cx="1013040" cy="1439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1000533105"/>
          <p:cNvPicPr/>
          <p:nvPr/>
        </p:nvPicPr>
        <p:blipFill>
          <a:blip r:embed="rId4"/>
          <a:stretch/>
        </p:blipFill>
        <p:spPr>
          <a:xfrm>
            <a:off x="5796000" y="5229360"/>
            <a:ext cx="1000080" cy="1439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_990828004"/>
          <p:cNvPicPr/>
          <p:nvPr/>
        </p:nvPicPr>
        <p:blipFill>
          <a:blip r:embed="rId5"/>
          <a:stretch/>
        </p:blipFill>
        <p:spPr>
          <a:xfrm>
            <a:off x="7667640" y="5229360"/>
            <a:ext cx="957240" cy="1465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179280" y="333360"/>
            <a:ext cx="856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193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выходит первое известное произведение, ставшее классикой русской и советской детской литературы — поэм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Дядя Стёпа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79280" y="1052640"/>
            <a:ext cx="66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193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, поступает в Литературный инсти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193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Михалков получает первый орден Л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Og10_058_Page_1_Image_0001"/>
          <p:cNvPicPr/>
          <p:nvPr/>
        </p:nvPicPr>
        <p:blipFill>
          <a:blip r:embed="rId1"/>
          <a:stretch/>
        </p:blipFill>
        <p:spPr>
          <a:xfrm>
            <a:off x="971640" y="1916280"/>
            <a:ext cx="3456000" cy="2598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0"/>
          <p:cNvSpPr/>
          <p:nvPr/>
        </p:nvSpPr>
        <p:spPr>
          <a:xfrm>
            <a:off x="395280" y="4653000"/>
            <a:ext cx="49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о время Великой Отечественной Войны Михалков корреспондент газет «Во славу Родины», «Сталинский сокол». Вместе с войсками отступал до Сталинграда, был контужен. Награждён боевыми орденами и медалями. Был отмечен Государственной премией СССР в 194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Сергей Владимирович Михалков. В годы Великой Отечественной войны.  "/>
          <p:cNvPicPr/>
          <p:nvPr/>
        </p:nvPicPr>
        <p:blipFill>
          <a:blip r:embed="rId2"/>
          <a:stretch/>
        </p:blipFill>
        <p:spPr>
          <a:xfrm>
            <a:off x="5429160" y="1857240"/>
            <a:ext cx="321948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2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92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920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92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79280" y="1890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войны Михалков продолжает литературную деятельность, работает в разных жанрах детской литературы, создаёт пьесы для детских театров, сценарии для мультфиль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471069096170302401"/>
          <p:cNvPicPr/>
          <p:nvPr/>
        </p:nvPicPr>
        <p:blipFill>
          <a:blip r:embed="rId1"/>
          <a:stretch/>
        </p:blipFill>
        <p:spPr>
          <a:xfrm>
            <a:off x="3851280" y="907920"/>
            <a:ext cx="5029200" cy="3353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1000268527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23920" y="1484280"/>
            <a:ext cx="2979720" cy="4753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3419640" y="4508640"/>
            <a:ext cx="54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492360" y="4724280"/>
            <a:ext cx="547236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 2008 году суммарный тираж книг Сергея Михалкова насчитывает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300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ллионов экземпляров</a:t>
            </a:r>
            <a:r>
              <a:rPr b="1" lang="ru-RU" sz="2800" spc="-1" strike="noStrike">
                <a:solidFill>
                  <a:srgbClr val="9f293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88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880"/>
                            </p:stCondLst>
                            <p:childTnLst>
                              <p:par>
                                <p:cTn id="1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395280" y="40464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1944 году правительство СССР принимает решение о смене старого гимна «Интернационал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ихалков и его соавтор Г. Эль-Регистан стали авторами текста нового гимна, победив на всенародном конкур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Нина\Desktop\презентации\михалков\6c9a060a-ce86-9548-1e40-dd861d4c5de6.jpg"/>
          <p:cNvPicPr/>
          <p:nvPr/>
        </p:nvPicPr>
        <p:blipFill>
          <a:blip r:embed="rId1"/>
          <a:stretch/>
        </p:blipFill>
        <p:spPr>
          <a:xfrm>
            <a:off x="3203640" y="2421000"/>
            <a:ext cx="5113440" cy="388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1" name="TextBox 3"/>
          <p:cNvSpPr/>
          <p:nvPr/>
        </p:nvSpPr>
        <p:spPr>
          <a:xfrm>
            <a:off x="179280" y="4581360"/>
            <a:ext cx="27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mbria"/>
              </a:rPr>
              <a:t>Г. Эль-Регистан,          А. Александров,          С. Миха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mbria"/>
              </a:rPr>
              <a:t>Фото 194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8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Нина\Desktop\презентации\михалков\3 (1).jpg"/>
          <p:cNvPicPr/>
          <p:nvPr/>
        </p:nvPicPr>
        <p:blipFill>
          <a:blip r:embed="rId1"/>
          <a:stretch/>
        </p:blipFill>
        <p:spPr>
          <a:xfrm>
            <a:off x="324000" y="189000"/>
            <a:ext cx="4049640" cy="6480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4857840" y="1643040"/>
            <a:ext cx="414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В 1943 году Михалков совместно с военным журналистом Георгием Эль-Регистаном (Габриэль Аркадьевич Уреклян) написал текст к Государственному гимну СССР, который впервые был исполнен в Новогоднюю ночь 1944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Краснознаменный ансамбль п_у А. В. Александрова - Гимн СССР 1944 года (mp3ostrov.com).mp3" descr=""/>
          <p:cNvPicPr/>
          <p:nvPr/>
        </p:nvPicPr>
        <p:blipFill>
          <a:blip r:embed="rId2"/>
          <a:stretch/>
        </p:blipFill>
        <p:spPr>
          <a:xfrm>
            <a:off x="8429760" y="6357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4857840" y="52149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Текст гимна СССР 1943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89347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611280" y="189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1977 году Михалков создал вторую редакцию государственного гимна С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http://www.vmireinteresnogo.com/Content/ArticleImages/919/1.jpg?5245949783437819593"/>
          <p:cNvPicPr/>
          <p:nvPr/>
        </p:nvPicPr>
        <p:blipFill>
          <a:blip r:embed="rId1"/>
          <a:stretch/>
        </p:blipFill>
        <p:spPr>
          <a:xfrm>
            <a:off x="2050920" y="907920"/>
            <a:ext cx="599292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TextBox 4"/>
          <p:cNvSpPr/>
          <p:nvPr/>
        </p:nvSpPr>
        <p:spPr>
          <a:xfrm>
            <a:off x="250920" y="40766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Текст гимна ССС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1977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гимн СССР 1977.mp3" descr=""/>
          <p:cNvPicPr/>
          <p:nvPr/>
        </p:nvPicPr>
        <p:blipFill>
          <a:blip r:embed="rId2"/>
          <a:stretch/>
        </p:blipFill>
        <p:spPr>
          <a:xfrm>
            <a:off x="785880" y="564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22517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324000" y="404640"/>
            <a:ext cx="32400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1993 году постановлением правительства РФ писатель Сергей Михалков был введен в состав Комиссии (сопредседатель) по созданию гимна Российской Федер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2001 году он в третий раз стал автором текста государственного гимна, теперь уже Российской Федерации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Users\Нина\Desktop\презентации\михалков\082010e03ae56ebc4a033e099e7c50d6.jpg"/>
          <p:cNvPicPr/>
          <p:nvPr/>
        </p:nvPicPr>
        <p:blipFill>
          <a:blip r:embed="rId1"/>
          <a:stretch/>
        </p:blipFill>
        <p:spPr>
          <a:xfrm>
            <a:off x="3924360" y="189000"/>
            <a:ext cx="4735440" cy="650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2" name="TextBox 4"/>
          <p:cNvSpPr/>
          <p:nvPr/>
        </p:nvSpPr>
        <p:spPr>
          <a:xfrm>
            <a:off x="642960" y="51436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Текст гимн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200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гимн России.mp3" descr=""/>
          <p:cNvPicPr/>
          <p:nvPr/>
        </p:nvPicPr>
        <p:blipFill>
          <a:blip r:embed="rId2"/>
          <a:stretch/>
        </p:blipFill>
        <p:spPr>
          <a:xfrm>
            <a:off x="1500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222932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189000"/>
            <a:ext cx="864216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200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 — С.В.Михалков один из ав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«Самой большой в мире книги для малыше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1233592497_4aecbea42679"/>
          <p:cNvPicPr/>
          <p:nvPr/>
        </p:nvPicPr>
        <p:blipFill>
          <a:blip r:embed="rId1"/>
          <a:stretch/>
        </p:blipFill>
        <p:spPr>
          <a:xfrm>
            <a:off x="2979720" y="1781280"/>
            <a:ext cx="2849760" cy="3735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dvd093"/>
          <p:cNvPicPr/>
          <p:nvPr/>
        </p:nvPicPr>
        <p:blipFill>
          <a:blip r:embed="rId2"/>
          <a:stretch/>
        </p:blipFill>
        <p:spPr>
          <a:xfrm>
            <a:off x="2843280" y="1557360"/>
            <a:ext cx="2911320" cy="4211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002_23"/>
          <p:cNvPicPr/>
          <p:nvPr/>
        </p:nvPicPr>
        <p:blipFill>
          <a:blip r:embed="rId3"/>
          <a:stretch/>
        </p:blipFill>
        <p:spPr>
          <a:xfrm>
            <a:off x="2771640" y="1413000"/>
            <a:ext cx="3449880" cy="4794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cardim887"/>
          <p:cNvPicPr/>
          <p:nvPr/>
        </p:nvPicPr>
        <p:blipFill>
          <a:blip r:embed="rId4"/>
          <a:stretch/>
        </p:blipFill>
        <p:spPr>
          <a:xfrm>
            <a:off x="2627280" y="1341360"/>
            <a:ext cx="3791160" cy="5334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ac4c96db7063"/>
          <p:cNvPicPr/>
          <p:nvPr/>
        </p:nvPicPr>
        <p:blipFill>
          <a:blip r:embed="rId5"/>
          <a:stretch/>
        </p:blipFill>
        <p:spPr>
          <a:xfrm>
            <a:off x="2627280" y="1268280"/>
            <a:ext cx="3890880" cy="5446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2758"/>
          <p:cNvPicPr/>
          <p:nvPr/>
        </p:nvPicPr>
        <p:blipFill>
          <a:blip r:embed="rId6"/>
          <a:stretch/>
        </p:blipFill>
        <p:spPr>
          <a:xfrm>
            <a:off x="2627280" y="1268280"/>
            <a:ext cx="3956040" cy="5400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54000002020"/>
          <p:cNvPicPr/>
          <p:nvPr/>
        </p:nvPicPr>
        <p:blipFill>
          <a:blip r:embed="rId7">
            <a:lum contrast="12000"/>
          </a:blip>
          <a:stretch/>
        </p:blipFill>
        <p:spPr>
          <a:xfrm>
            <a:off x="2627280" y="1197000"/>
            <a:ext cx="403848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5:50:38Z</dcterms:created>
  <dc:creator>Admin</dc:creator>
  <dc:description/>
  <dc:language>en-US</dc:language>
  <cp:lastModifiedBy>User</cp:lastModifiedBy>
  <dcterms:modified xsi:type="dcterms:W3CDTF">2020-04-12T11:03:30Z</dcterms:modified>
  <cp:revision>25</cp:revision>
  <dc:subject/>
  <dc:title>Слайд 1</dc:title>
</cp:coreProperties>
</file>