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396-3BFE-4F2F-AD52-15C7279C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14E-3227-472A-A478-12F75D10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CE7-C5ED-4CB5-9133-F9EF0072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6AE-DB02-4F67-87CB-C5EBE1CC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A9E2-BCA4-450A-83A1-F0D346CA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A4A2-8939-4984-AE75-7EA14F31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20F2-B052-4943-8F91-ED429026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D792-0484-402F-86BA-72B94773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01DC-2A5D-4EA0-B6EE-FD8EE6E6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2C13-0067-454B-91D4-B647ED4C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8F46-EB45-447E-92B2-437E828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DFE-72BC-487B-9BAE-14C4D397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9119-8CC6-4B59-B436-08FE63D2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1950-AC59-4320-8FC3-B481227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A197-B11A-4457-BF3D-71EF70B7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DC80-BA39-4363-B4DA-E82326F7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39D4-D3B1-4DF0-9B0E-53D961BC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0146-8E93-4149-A025-9DB70B91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7715-0467-4F39-A80B-E30D7EBE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C28F-FA56-4DDE-8B70-6A0FE148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CB37-EC15-40D2-9D0F-4EE214F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0159-183D-4B47-BA55-41DA4EB9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D20-0B50-4E64-8D10-40D2EBD2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13A7-C8A6-460F-AE8E-843743D9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4941-82CF-47B4-A1B9-FA35B971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D017-D617-4DBB-9C46-DA6296E8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31CA-9213-4FC3-997E-3A7DD425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9190-1D00-4137-B2F0-FB0C21DB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1A33-7D35-40E0-B9BE-F8EC32FC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D93C-36AA-44D4-AF65-812F95AC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2AF6-91F0-4B7A-ABEF-16211C42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B6BF6-8F0C-47F1-A8B6-2F6B376D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1E85-95CE-4F2D-BFF7-4C45A947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E3D-9914-484F-8FEC-B6D2BC27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0058-3D55-4551-9F42-90D08CC2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F7AB-D327-4503-A6B5-0FDD9987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E590-ABB9-4340-972D-4AF10231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4D67C-FEEA-4A7F-BFAA-D459E296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714C-408F-4D26-B1FD-8448FF4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476D-A363-47EB-B9E1-56BB5F0F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AEEAF-C77A-4847-8256-A65458FE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7B9F-9AF8-4BFF-8A6B-22DCD37B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EBF1-9B7F-49FE-87C8-797F71A3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FE968-E3F2-47C6-A625-38370BEC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55C-C94A-4E08-9422-93FBB287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7232-3AF1-4D53-AA16-50C7C3BE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0F87-711A-4B9A-B8D7-2AE56259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082E9-3B40-4C98-88A4-2FE30A81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1FC9B-7982-4F0B-8A89-0D6478F2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850B-5FC3-48B3-9A61-59C7DF15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2FC0-7EA0-4658-B8A1-B3213F9A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FEEC-C23A-4572-9D3D-29990E6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4C56-F7B7-4137-85A1-68A15E42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0A95-20C1-4A79-A0DD-F76C0AF9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7C71D-31BB-47CE-96B8-E45CFB56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AB4-F3C3-4B3D-B2CF-CACF8644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6AB03-F6EF-4F23-8B6C-627F3962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A0B-F8AE-480C-9C5D-7BB81CA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1CD-E444-4305-B2A1-D56A0F6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62F-6FD8-440F-9C79-BD0BB757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0C465-74FE-419D-A2AE-4B2506EB9AEF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44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CA2C6-42E1-4F5F-807C-AF571F053B0A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B72AA-7316-42A0-9CA0-0D4674CCBF05}" type="slidenum">
              <a:rPr b="0" lang="ru-RU" sz="1000" spc="-1" strike="noStrike">
                <a:solidFill>
                  <a:srgbClr val="efede3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C3E90-AC32-45B8-9B2C-F0CCB69B52A1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5028B-4A10-4DB5-B37C-DF1E9CA74B20}" type="slidenum">
              <a:rPr b="0" lang="ru-RU" sz="10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324000" y="2205000"/>
            <a:ext cx="87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ир профессий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539640" y="185904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етерина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гроном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идролог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вощевод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еханизато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ракторис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мет труда –      животные и растения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чва и воздушная среда – природа!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115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" descr=""/>
          <p:cNvPicPr/>
          <p:nvPr/>
        </p:nvPicPr>
        <p:blipFill>
          <a:blip r:embed="rId2"/>
          <a:stretch/>
        </p:blipFill>
        <p:spPr>
          <a:xfrm>
            <a:off x="3865680" y="1352520"/>
            <a:ext cx="43146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8099280" cy="122544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3"/>
          <p:cNvSpPr/>
          <p:nvPr/>
        </p:nvSpPr>
        <p:spPr>
          <a:xfrm>
            <a:off x="684360" y="1557360"/>
            <a:ext cx="453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илот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дител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атрос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Электромонтёр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лесар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мет труда –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хнические устройств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2"/>
          <a:stretch/>
        </p:blipFill>
        <p:spPr>
          <a:xfrm>
            <a:off x="4896000" y="1195560"/>
            <a:ext cx="36194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684360" y="1490760"/>
            <a:ext cx="610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рач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Журналис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давец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сихолог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мет труда- другой челове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собенность- необходимость воздействия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 других людей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450720" y="333360"/>
            <a:ext cx="8242560" cy="11574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" descr=""/>
          <p:cNvPicPr/>
          <p:nvPr/>
        </p:nvPicPr>
        <p:blipFill>
          <a:blip r:embed="rId2"/>
          <a:stretch/>
        </p:blipFill>
        <p:spPr>
          <a:xfrm>
            <a:off x="6083280" y="1195560"/>
            <a:ext cx="245736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395280" y="1052640"/>
            <a:ext cx="525636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ные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ператоры ЭВМ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граммист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аборант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Экономист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ухгалтер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мет труда- цифры и знаковые систем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Широкий кругозо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мение оперировать абстрактными понятиями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632720" cy="14270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"/>
          <p:cNvPicPr/>
          <p:nvPr/>
        </p:nvPicPr>
        <p:blipFill>
          <a:blip r:embed="rId2"/>
          <a:stretch/>
        </p:blipFill>
        <p:spPr>
          <a:xfrm>
            <a:off x="5357880" y="1079640"/>
            <a:ext cx="2884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324000" y="1484280"/>
            <a:ext cx="653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узыкант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Художник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изайнер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рхитектор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ктер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исател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юдей этого типа отличает живое образное мышление, художественная фантазия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алан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1081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"/>
          <p:cNvPicPr/>
          <p:nvPr/>
        </p:nvPicPr>
        <p:blipFill>
          <a:blip r:embed="rId2"/>
          <a:stretch/>
        </p:blipFill>
        <p:spPr>
          <a:xfrm>
            <a:off x="4857840" y="1341360"/>
            <a:ext cx="330516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4"/>
          <p:cNvSpPr/>
          <p:nvPr/>
        </p:nvSpPr>
        <p:spPr>
          <a:xfrm>
            <a:off x="1258920" y="1125360"/>
            <a:ext cx="756108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Логист  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1) Занимается логикой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2) специалист по управлению транспортировкой продукции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3) организует конференции и научные саммиты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1619280" y="907920"/>
            <a:ext cx="52387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Веб – мастер 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1) Работает на компьютер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2) разрабатывает программы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3) работает с сетями, разрабатывает проекты сайтов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4"/>
          <p:cNvSpPr/>
          <p:nvPr/>
        </p:nvSpPr>
        <p:spPr>
          <a:xfrm>
            <a:off x="1258920" y="112536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1403280" y="765000"/>
            <a:ext cx="698508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PR- агент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1) Связан с политикой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2) специалист по рекламе и связям с общественностью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3) выполняет посреднические услуги между организациями и людьми. 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7:04:12Z</dcterms:created>
  <dc:creator>User</dc:creator>
  <dc:description/>
  <dc:language>en-US</dc:language>
  <cp:lastModifiedBy>Елена</cp:lastModifiedBy>
  <dcterms:modified xsi:type="dcterms:W3CDTF">2020-04-12T04:33:17Z</dcterms:modified>
  <cp:revision>53</cp:revision>
  <dc:subject/>
  <dc:title>Слайд 1</dc:title>
</cp:coreProperties>
</file>