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E4B4-917C-4DF4-A603-A8991566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6C5F-1CE6-4428-9352-40EDF0B6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FF49A-8769-4E9C-96F6-A49AD60D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774A4-454F-4586-92F1-88FE5A09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A18DC-2BB3-4C8B-BDF3-2AB8FE29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D9212-54FD-4833-A639-4E22EA9D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E27EE-5F56-48DD-92FD-F5FA46CB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C4FFE-1757-48EF-BE74-C508FCEB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AD7B8-1F14-4070-ACEF-6FEF3E04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6D392-B48B-4054-B300-8223895F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46444-9C0B-4305-B9D1-830775AD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5DD56-2513-4A21-813D-D8A0EB9A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6281-84F2-45BE-9D58-7E3F04D8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DF732-08A6-415F-9061-3E693951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96214-A822-4338-9783-178DBE6B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B1DC1-45EA-4616-AF1E-40C614C5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6939B-BAAE-4F63-9817-3556ED78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1B8CD-19A0-4CD4-8F96-293E816F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0679D-5B3E-42D9-98BB-059375DE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A13B6-8E2F-4B16-8A5D-82142C3B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21670-F906-4B06-A35B-F230D3D7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3947C-8A3F-4D32-A876-0BBB6BD9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1E18B-B73A-46F0-AA78-76D6E92C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0A4-C356-4097-AB6D-DC430F2F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B81A2-BDC1-4F3A-AB2A-BD787CA6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57FB8-E0C3-4A5C-8C6F-6A546994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247CE-D9ED-4934-84AB-6AF34536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2CF2D-0101-4647-A305-A806EA2A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48399-4BAE-420C-880A-8B484F90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AEF1E-09B7-4F53-99E6-ADEF0CE8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B32C1-3CC1-4D38-AC36-BF1BEF81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54FF5-DA95-4DAE-83FF-2FD423F0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4786B-A3D8-492D-AB68-0962C2ED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88E56-D59D-477E-B200-7F420582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CDA7-817A-484C-B177-F3A2F341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47DD0-1E42-412B-B4EC-B01EDB01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11012-31D4-4684-B1D5-CDF74C90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24C1C-72AE-495F-858B-0FF01CF4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4561-0CFA-45AA-9D44-E4EADDA5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C756-0066-4E13-BF80-C218DA05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9209-954C-4172-A13F-0E3F84B1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F182-4039-4FC4-8E4E-1A9CDC0F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A9CC-C615-4950-BA6F-58E800AC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114C-7673-4CC9-9070-692E0B6F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7A0-6576-426B-AD4B-A269DF47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0E19-2500-43F7-9D9A-57727650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33E2-4CD3-49DF-B6CE-28135AB8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ACB8-56AD-406C-89A7-498E2A55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8972-41D9-4BFD-AD62-DDEADCED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3AEE-3708-42C7-9B6C-326CD39C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5A773-2CFB-418A-BA33-7B74BEEA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7953F-77DD-4479-9CE9-BA7FF681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4F93D-CF4C-4B7A-A088-379257E5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6626D-FEDE-4347-8C3E-D4D92793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14FCE-9225-474C-80A0-0C1C6048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536-FDDF-4EC0-BBA0-BC6E8F36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A1047-702D-468B-B828-53898B3E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69425-5649-4F6D-8528-BB9AB0CA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D8D4A-12FB-4451-BBF7-CDCECD5C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C41FA-4C82-454E-BE63-C66988BC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F0F6D-0EEC-4B45-98E0-288A6175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0409A-EAC4-4546-A97F-DC60344D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CD333-2582-4627-A6FB-A2D667B7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9DEA0-560B-49C4-944E-FA78C4F6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863B4-73B9-4603-8825-E6B88BB0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1CDDB-7F06-477E-A539-BFA6AE7D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029C-B843-4475-8587-0B883D6A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28E22-8878-4FBF-A5F7-AECCDCEB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05C14-EEA3-4028-95AB-07A70DDA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F21CF-B90F-4883-B89B-BDC53F79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D2FAF-DBA3-45E4-868D-C7EF5FBD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9C920-FA7A-4088-BBF4-4FA7C64A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027FB-921F-4E63-8E42-1FFC0A00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D98E5-7589-46E1-9CF6-801DE711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6312D-A740-4826-8FA4-976DFEBC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DE98D-EF4A-415E-9ECC-9F6C521F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90E36-9DD4-4381-A1FA-1EDEE48B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802-C820-48EE-9B44-BBAF4BD5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C4E05-D7B3-41AB-9479-FE2597FF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6E7B1-4040-484A-8D75-4C839889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CF8A9-4633-407B-B922-C2DB3D27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521BC-149A-4523-B6A6-69003B12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F5151-7CD9-486F-8135-FE4BBB20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9A25B-8891-4C37-A553-F4F7C5C1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86B82-3F46-4875-BBEE-8FCB6D8A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38C2C-7206-4528-8AE9-397459E6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64A36-F70F-4E09-B6DD-5A9BDB92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C037D-DB5E-42D2-ADFE-D76B0327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F716-CF20-4436-A819-1DC26A25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32134-F05C-4856-8377-EA848FDF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1E595-6CE6-45A6-9D70-474B23A8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6B33B-69E1-44CE-ABE5-CCF61FD1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62B70-9B84-43B2-8896-B4AB86B6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10C86-9D5C-4320-AA9E-3E7680FB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5806A-DD6D-4C4E-B904-31D668CC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48B0E-6D23-47E4-93C9-7BF71B3A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91976-C4C9-4588-8C3B-E6095B91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698BC-DC34-498B-9CC4-A7C5494E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3C962-1119-4130-BA10-3587D623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AC8-C3DC-4B78-87FF-80E41A37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B06A7-CA14-4E5B-A44B-D8B20A07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E792C-E60C-4DF0-BBF5-ECFBD47E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704ED-6F4F-4F10-BB0D-06144458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5A7D9-6418-488E-80BD-DA2E0EAB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B8CB4-D63C-4AED-9B59-4239C02F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85AD5-793A-4083-B294-64E7CC15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87FAC-1A9C-4D16-9F35-7564D453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715BA-9DB8-4338-BD8E-77FE29CD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2A00D-F613-4FDA-BD76-D9C3D6C5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2B719-1A0C-4539-B4DF-545E02EA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03A-2479-49F4-8B2A-6C480B4F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640FE-F4F1-4B51-9F5E-78BDE741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CB93F-D3EB-4CC7-9C45-39EDBDF7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3F8AE-FC42-4A2F-9E46-DB41A814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D725A-28B1-41C9-83C9-5EBFDD2B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61452-1F3A-4CA1-86D7-474C2D6A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22E26-B8F7-44AC-B7A8-0201EB67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D9A76-41BA-4BEC-A29D-334398EC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9E9D5-9C80-4AB2-8726-4190FC65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76AC7-C798-42A3-B246-EFAAC02C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1046A-C00F-4C33-B940-FC097316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AEC6-4657-4BF7-A28A-14B281F5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CC722-60C6-4CA7-A629-0DEA56E6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75D35-E4AD-4278-9858-D7727196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6CD81-B5D2-49F0-B682-1C114B5E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C5E8F-9C5D-4ABC-A1E3-A9D73E90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7FEEE-062A-4BD9-8869-B09A2D58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6E684-FA41-4C68-9EF5-BFFC0CF0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71884-D649-479C-9A50-A23B09B6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54BA9-A4C3-4C48-A759-82F4FE4C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8080D-D2C4-4050-B142-B1CEA2CA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48CED-B7A4-45DD-B9A1-A6438ECB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B1CCE9-C0A8-4881-987B-37BD062088F2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842A3C-7A8C-43E0-9F93-57754A266B57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B2D2B-13E6-4329-BAAB-B66D38178FEB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97CE4-522F-42FA-929C-B8C7E675806A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552E8-DC8B-40D3-A997-EC3F6677B124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B8F41-24CB-4ECA-9A38-3DBD315850D1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EF446-D426-48D0-943B-2B34545B9467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4344A-422F-47A7-BACE-87505108DA80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B6592-FECC-470E-B998-2434EC8C9C09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8D2A0F-8216-45D9-9F8B-770857DDE68E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5360" y="494640"/>
                <a:ext cx="3310920" cy="48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3080" y="807840"/>
                <a:ext cx="2718720" cy="425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BE176-5DC6-46F4-A03A-F5ADD9BA04D2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Box 1"/>
          <p:cNvSpPr/>
          <p:nvPr/>
        </p:nvSpPr>
        <p:spPr>
          <a:xfrm>
            <a:off x="324000" y="2205000"/>
            <a:ext cx="87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ир профессий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WordArt 6"/>
          <p:cNvSpPr txBox="1"/>
          <p:nvPr/>
        </p:nvSpPr>
        <p:spPr>
          <a:xfrm>
            <a:off x="0" y="333360"/>
            <a:ext cx="9144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3421080" y="1359360"/>
            <a:ext cx="572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) почти или совершенно исчезли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Б) появились только в XX веке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) появятся в будущем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TextBox 1"/>
          <p:cNvSpPr/>
          <p:nvPr/>
        </p:nvSpPr>
        <p:spPr>
          <a:xfrm>
            <a:off x="1908000" y="333360"/>
            <a:ext cx="66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чера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егодня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Завтра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2" name="Рисунок 1" descr=""/>
          <p:cNvPicPr/>
          <p:nvPr/>
        </p:nvPicPr>
        <p:blipFill>
          <a:blip r:embed="rId1"/>
          <a:stretch/>
        </p:blipFill>
        <p:spPr>
          <a:xfrm>
            <a:off x="800280" y="2852640"/>
            <a:ext cx="21222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Прямоугольник 4"/>
          <p:cNvSpPr/>
          <p:nvPr/>
        </p:nvSpPr>
        <p:spPr>
          <a:xfrm>
            <a:off x="1258920" y="1125360"/>
            <a:ext cx="7561080" cy="32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Calibri"/>
              </a:rPr>
              <a:t>Логист  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Calibri"/>
              </a:rPr>
              <a:t>1) Занимается логикой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Calibri"/>
              </a:rPr>
              <a:t>2) специалист по управлению транспортировкой продукции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Calibri"/>
              </a:rPr>
              <a:t>3) организует конференции и научные саммиты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Прямоугольник 1"/>
          <p:cNvSpPr/>
          <p:nvPr/>
        </p:nvSpPr>
        <p:spPr>
          <a:xfrm>
            <a:off x="1619280" y="907920"/>
            <a:ext cx="523872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Calibri"/>
              </a:rPr>
              <a:t>Веб – мастер 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Calibri"/>
              </a:rPr>
              <a:t>1) Работает на компьютере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Calibri"/>
              </a:rPr>
              <a:t>2) разрабатывает программы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Calibri"/>
              </a:rPr>
              <a:t>3) работает с сетями, разрабатывает проекты сайтов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Прямоугольник 4"/>
          <p:cNvSpPr/>
          <p:nvPr/>
        </p:nvSpPr>
        <p:spPr>
          <a:xfrm>
            <a:off x="1258920" y="112536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Прямоугольник 1"/>
          <p:cNvSpPr/>
          <p:nvPr/>
        </p:nvSpPr>
        <p:spPr>
          <a:xfrm>
            <a:off x="1403280" y="765000"/>
            <a:ext cx="6985080" cy="32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Calibri"/>
              </a:rPr>
              <a:t>PR- агент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Calibri"/>
              </a:rPr>
              <a:t>1) Связан с политикой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Calibri"/>
              </a:rPr>
              <a:t>2) специалист по рекламе и связям с общественностью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Calibri"/>
              </a:rPr>
              <a:t>3) выполняет посреднические услуги между организациями и людьми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WordArt 5"/>
          <p:cNvSpPr txBox="1"/>
          <p:nvPr/>
        </p:nvSpPr>
        <p:spPr>
          <a:xfrm>
            <a:off x="1763640" y="549360"/>
            <a:ext cx="6481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6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фессионал</a:t>
            </a:r>
            <a:endParaRPr b="1" lang="en-US" sz="1800" spc="1" strike="noStrike">
              <a:ln w="0">
                <a:noFill/>
              </a:ln>
              <a:solidFill>
                <a:srgbClr val="66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324000" y="227664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человек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, сделавший определённое занятие своей профессией; человек, ставший в какой-либо области деятельности специалистом высокого класса, имеющий навыки, квалификацию, а при необходимости и допуск к выполнению обязанностей по своей специальности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Box 1"/>
          <p:cNvSpPr/>
          <p:nvPr/>
        </p:nvSpPr>
        <p:spPr>
          <a:xfrm>
            <a:off x="1116000" y="328464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пасибо за участие!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4" descr="грамота"/>
          <p:cNvPicPr/>
          <p:nvPr/>
        </p:nvPicPr>
        <p:blipFill>
          <a:blip r:embed="rId1"/>
          <a:stretch/>
        </p:blipFill>
        <p:spPr>
          <a:xfrm>
            <a:off x="250920" y="331920"/>
            <a:ext cx="3995640" cy="518472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19"/>
          <p:cNvSpPr/>
          <p:nvPr/>
        </p:nvSpPr>
        <p:spPr>
          <a:xfrm>
            <a:off x="1770120" y="1014480"/>
            <a:ext cx="280836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Bickham Script Three"/>
              </a:rPr>
              <a:t>Кем я      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Bickham Script Three"/>
              </a:rPr>
              <a:t>хочу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Bickham Script Three"/>
              </a:rPr>
              <a:t>стать?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Text Box 20"/>
          <p:cNvSpPr/>
          <p:nvPr/>
        </p:nvSpPr>
        <p:spPr>
          <a:xfrm>
            <a:off x="4356000" y="333360"/>
            <a:ext cx="4537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 современном мире насчитывается 40 тыс. профессий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ажно суметь разобраться в этом многообразии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знать, чем занимаются люди данной профессии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знакомиться какие качества необходимо вырабатывать для своей будущей профессии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аучиться учитывать собственные интересы и способност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Прямоугольник 1"/>
          <p:cNvSpPr/>
          <p:nvPr/>
        </p:nvSpPr>
        <p:spPr>
          <a:xfrm>
            <a:off x="539640" y="1268280"/>
            <a:ext cx="842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Правила работы на игре: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buClr>
                <a:srgbClr val="6633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Calibri"/>
              </a:rPr>
              <a:t>Искренность в общении;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buClr>
                <a:srgbClr val="6633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Calibri"/>
              </a:rPr>
              <a:t>Активное участие в происходящем;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buClr>
                <a:srgbClr val="6633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Calibri"/>
              </a:rPr>
              <a:t>Уважение друг к другу;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buClr>
                <a:srgbClr val="6633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Calibri"/>
              </a:rPr>
              <a:t>Не перебивать говорящего;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buClr>
                <a:srgbClr val="6633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Calibri"/>
              </a:rPr>
              <a:t>С места не выкрикивать.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3"/>
          <p:cNvSpPr/>
          <p:nvPr/>
        </p:nvSpPr>
        <p:spPr>
          <a:xfrm>
            <a:off x="539640" y="1859040"/>
            <a:ext cx="83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етеринар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гроном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Гидролог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вощевод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еханизатор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ракторис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едмет труда –      животные и растения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чва и воздушная среда – природа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7" name="Rectangl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78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Rectangle 2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8099280" cy="1225440"/>
          </a:xfrm>
          <a:prstGeom prst="rect">
            <a:avLst/>
          </a:prstGeom>
          <a:ln w="0">
            <a:noFill/>
          </a:ln>
        </p:spPr>
      </p:pic>
      <p:sp>
        <p:nvSpPr>
          <p:cNvPr id="509" name="Прямоугольник 3"/>
          <p:cNvSpPr/>
          <p:nvPr/>
        </p:nvSpPr>
        <p:spPr>
          <a:xfrm>
            <a:off x="684360" y="1557360"/>
            <a:ext cx="4535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илот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одител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атрос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Электромонтёр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лесар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buClr>
                <a:srgbClr val="000000"/>
              </a:buClr>
              <a:buFont typeface="Wingdings 2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едмет труда –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ехнические устройств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рямоугольник 1"/>
          <p:cNvSpPr/>
          <p:nvPr/>
        </p:nvSpPr>
        <p:spPr>
          <a:xfrm>
            <a:off x="684360" y="1490760"/>
            <a:ext cx="610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читель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рач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Журналис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одавец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сихолог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едмет труда- другой человек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собенность- необходимость воздействия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а других людей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1" name="Рисунок 2" descr=""/>
          <p:cNvPicPr/>
          <p:nvPr/>
        </p:nvPicPr>
        <p:blipFill>
          <a:blip r:embed="rId1"/>
          <a:stretch/>
        </p:blipFill>
        <p:spPr>
          <a:xfrm>
            <a:off x="450720" y="333360"/>
            <a:ext cx="824256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Прямоугольник 1"/>
          <p:cNvSpPr/>
          <p:nvPr/>
        </p:nvSpPr>
        <p:spPr>
          <a:xfrm>
            <a:off x="395280" y="1052640"/>
            <a:ext cx="525636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ченые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ператоры ЭВМ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ограммист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Лаборант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Экономист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Бухгалтер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едмет труда- цифры и знаковые систем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Широкий кругозор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мение оперировать абстрактными понятиями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3" name="Rectangl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63272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Прямоугольник 1"/>
          <p:cNvSpPr/>
          <p:nvPr/>
        </p:nvSpPr>
        <p:spPr>
          <a:xfrm>
            <a:off x="324000" y="1484280"/>
            <a:ext cx="653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узыкант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Художник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изайнер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рхитектор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ктер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исател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Людей этого типа отличает живое образное мышление, художественная фантазия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64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алан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5" name="Рисунок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820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611280" y="98064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Люди работают ради…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астоящий труд – это…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и выборе профессии люди часто не учитывают….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 любом профессиональном труде самое важное……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частье – это….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1T17:04:12Z</dcterms:created>
  <dc:creator>User</dc:creator>
  <dc:description/>
  <dc:language>en-US</dc:language>
  <cp:lastModifiedBy>Елена</cp:lastModifiedBy>
  <dcterms:modified xsi:type="dcterms:W3CDTF">2020-04-12T04:30:28Z</dcterms:modified>
  <cp:revision>44</cp:revision>
  <dc:subject/>
  <dc:title>Слайд 1</dc:title>
</cp:coreProperties>
</file>