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317-DB6A-4C75-BA37-C9A767B8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A4A-0D62-4454-92FE-C7AE2DB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B3410-4181-48DC-8825-D298BFC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92FF4-CBD5-48C1-900A-9BE76BB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9C53E-CBC5-44F2-9C97-AA2ACD1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1579B-1E09-4133-98D3-E23933F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91DFB-5767-43D0-9F7E-25E9874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52CDC-6214-4425-A8C0-FCD2AF0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3F9F6-5398-4EF6-9C78-28BDCA0F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1898-E338-49BF-99F4-1A0C479D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62329-5190-4E1F-95ED-4156D040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CCC-DACE-4699-81C8-21D2FA4E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7F2-80F9-4CFA-9352-F0D0D6B5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D3F-7086-4C01-92F0-95E52A52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6DC-31FE-40BE-9999-4D069D3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12D7-F19B-40C8-86C9-5D679BE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A8B3-3F69-416E-90A3-52793E8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5E8D-3DBA-44C4-9D60-72DBE019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F739-2A02-49F3-AFEE-EEAABE2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2CB2-08F3-484A-9382-2B1771D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F42-B1C1-4AF9-AD64-D097EDE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8C11-75B6-4F7F-99E3-4327FEC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BA1E-C5DA-49EF-BD00-48BBB58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B3B2-65C7-4B7D-8FA9-DDA5793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92E2-413C-4154-8CB1-491C3526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884-497B-427F-AFBD-03F4E0F1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17CB-D091-4495-A836-519D5A58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9E9D-BBD0-4EDC-B6B6-79A5F96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D228-1F91-478C-BC02-27D37DC0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5147-AA8D-40FA-B773-3306502C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CCEA-8113-433F-8027-A61B71CB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356-BDEB-4A9A-8E07-3AA59DD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0785-0908-4E07-9E79-74B43F0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8280-6B91-40C9-A684-A8F0B05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A0EF-F163-4B01-B4B3-256D7F6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8761-63F6-4CAA-8126-1499D351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0FD8-9DF9-437F-A43B-9C923FC9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50B0-9C74-42B9-B32B-C21285B1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9481-574B-4473-BF5A-EA678E71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8643-A049-4503-9EE5-ED5FBDA1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59AB-00D6-4DDB-BAB4-C97D2D7C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CB46-12E3-476A-91A0-E7259FD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0C0-718D-4C7A-882E-84C15AD1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BF7D0-A031-42F0-B919-F9CD812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5FC6-C64D-400C-B558-F702A51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EC0E-FD5E-4871-89FD-B820FA7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A7A4-D610-45ED-B921-1B65690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0D59-DDDE-477D-99FE-8E11370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AB19D-23F1-4155-92BC-FED72A2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59C0-6A41-4F07-878D-4695C94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35D2-0E2E-4ED1-930C-BBD2D49A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92DD-6920-4E72-84CD-71E9CC06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31E0-56E5-475A-9FAE-C4726507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32C-1584-42C9-BD9C-67DCA8A8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9ACE-C931-4DD6-8213-CFCCDA21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6AF4-1613-4987-A986-A4172AC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E4C0-7626-4334-A027-27997F28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412B-2613-48D1-8C8D-EE9B68B1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AD1D9-7F4F-410D-ADE9-8B3211BC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25CB-03AE-4493-A380-9B2B961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3FA7-45D6-4212-A4A5-DCD30C7A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0042-B144-4CC3-952B-03F7974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33CC-BA37-4639-B575-C47C922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0DA8-C424-4F3F-B188-F128A706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090-31C5-4596-B46A-8C95899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2A33-1EC9-4D11-BFD2-67F308FA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A7BF-8620-4C15-90A7-8637F52B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459F-9564-461A-8107-37D54C84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7BBA-8867-49D8-A99C-AC6A912E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DCEE-C4B8-4BAD-AF36-28324D3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F49D-59C7-4F6B-ADD9-330037A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38757-69D2-41E2-90B2-8287F1A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D7EC-048B-4F69-9064-BAFACA3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922D-CC1F-4947-8A94-B9E8921D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2533-4309-42F4-A622-D25652C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E58-040F-4917-8FF7-0540BC5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3E70-1EEE-4B4C-8A91-6C9DF1CC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8FCC-A146-4080-A380-5AB2784D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CD6B-5C9A-40C5-8696-441F509A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E484-DF4D-48BC-BC89-271646D0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8737-018C-434D-A309-7A3D1775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1654-8649-4866-A911-64E5616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9E9D-634C-4EAC-9C8C-BF73AB61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4782-9E2C-43F9-89A4-DA3ED504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2AA70-F7F9-454C-8518-41AFD77B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CA7D-735D-4080-9F94-4641BEB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691-89FF-40BF-9F65-E20A88E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9F48-ADF2-4185-B87E-E6BF49A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7863-2033-45B7-9079-2FA6D30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789B-B93F-47AD-A9E4-E3125FD6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B772-83E2-44DE-9203-66D8DB05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0C39-0744-4142-B064-84037928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CC41-532A-4171-9E96-35A66542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B7D1-90E1-4374-8733-535B7BD1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E8B2-69C2-4DF3-8071-16CC6AD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47B7-8C8B-430B-B51E-4697FBA7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37A74-4530-44A7-858B-1DF5F21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A47-860B-4D01-BFE9-FBCB90C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2125-8FDC-4EDD-9947-EF95C2AC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00CB-F015-4DCD-912E-242982F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DB9C-3E99-401B-8628-0A42631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7298-002D-4181-857D-50B02B3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2D02-B167-43FC-B184-5B6A951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7673-3970-4016-B7B3-E8E61FAF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B1C4-F696-46D9-8E7B-9F3349BF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E800B-3274-47A0-B8A8-91CF279E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8A3B3-82AA-4477-B3F3-02A3E18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4CA87-1122-44F6-B0DC-D067D5A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571-1540-4992-B8FA-554670D0AE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806-9E87-48D7-847D-8FF4963BBC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921D-0D5D-481C-81C8-C8D858071C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39A-DC3B-401B-BA51-C579A6E767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3F97-1481-4010-9A96-A92FCC82C8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8DA-58F1-4C27-815B-FD7292F7F8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6BF-19DC-4122-8EA0-BDE0DE308B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5C0-2D9D-4339-98B0-58B042BE94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910B-42B7-462D-B6B8-E01FF4195D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чинение-рассуждение по теме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нига – наш друг и советчик»</a:t>
            </a:r>
            <a:r>
              <a:rPr b="1" lang="ru-RU" sz="3200" spc="-1" strike="noStrike">
                <a:solidFill>
                  <a:srgbClr val="cb2a0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                                           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ad1f1f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4" descr="F:\Дист. обуч. апрель 2020\7 кл. рус. яз\kisspng-book-library-five-flat-books-5aa8db1ab2db29.0375989615210155787326.jpg"/>
          <p:cNvPicPr/>
          <p:nvPr/>
        </p:nvPicPr>
        <p:blipFill>
          <a:blip r:embed="rId1"/>
          <a:stretch/>
        </p:blipFill>
        <p:spPr>
          <a:xfrm>
            <a:off x="4638600" y="2889360"/>
            <a:ext cx="394488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тупление. Кого мы называем друг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Того, кого любим, к кому прислушиваемся, у кого ищем совета, к кому доверяем, с чьим мнением считаемся. Того, кто посочувствует,  поможет выйти из трудного положения, научит, порадуется, поделится своими знаниями, помечтает, пофантазирует с тобой вме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назвать другом книгу? (Тезис рассуждения. Антитезис – к упр. 38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46160" y="-12600"/>
            <a:ext cx="8778600" cy="2000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28240" y="1828440"/>
            <a:ext cx="8915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и когда эти книги помогли мне? (Уроки жизн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и надежду, веру… (А. Грин. «Алые паруса»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ли человеколюбию… (А. Платонов «Юшка»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авили думать о чести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8699400" cy="1365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8052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ирая материал к докладу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в поразить товарищей по классу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е и энциклопедические словари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по механике. Рассказы о металлах…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о манерах поведения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ad1f1f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ение с книгой – высшая и незаменимая форма интеллектуального развития человека». (А. Т. Твардовский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ите книгу, она облегчит вам жизнь, дружески поможет разобраться в пестрой и бурной путанице мыслей, чувств, событий, она научит вас уважать человека в самих себя, она окрыляет ум и сердце чувством любви к миру, к человеку». (М. Горький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овек перестает мыслить, когда перестает читать». (Французский просветитель Дидр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вижение основного тезиса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у научила книга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книга заставил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ться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книга помогла оценить сво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ки и поступки окружающих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чему именно об этой книг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телось рассказать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67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, классик детской литературы, мастер слова, писатель, поэт, прозаик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ействий (описывает, изображает, рисует, показывает, рассказывает о…, знакомит с…,  вводит в…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(произведение, повесть, рассказ, роман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ке какого-либо эпизода (интересный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й, занимательный, любопытный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оценки (нравится, производит неизгладимое впечатление, запоминается. остается в памяти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7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F:\Дист. обуч. апрель 2020\7 кл. рус. яз\s1200.jpg"/>
          <p:cNvPicPr/>
          <p:nvPr/>
        </p:nvPicPr>
        <p:blipFill>
          <a:blip r:embed="rId2"/>
          <a:stretch/>
        </p:blipFill>
        <p:spPr>
          <a:xfrm>
            <a:off x="5410080" y="19051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35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0" y="13716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очинение-рассужде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Это тип текста, в котором выдвигается и доказывается тези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м структуру этого типа речи?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Тези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Доказательства (аргументы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(Вводить аргументы можно вводными словами во- первых…, во- вторых…,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Приме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Выво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(можно подчеркнуть словом следовательн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8570880" cy="1768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60020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В сочинении должно быть два и более доказатель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590920"/>
            <a:ext cx="883908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йте доказательства с пример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а – это ответ на вопрос, почему. В качестве примеров могут выступать  личный опыт, материалы СМИ, из художественной литературы, из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9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5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тек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он стил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йте содержание 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ихалкова, выдвинув основную мысль и вводя аргументы словами  во- первых…, во-вторых….  Подчеркните вывод словом следователь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носился к чтению Илья Иванович, отец главного героя романа «Обломов»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ы ли вы с его мнением, что чтение -  роскошь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могли начать сочинение на тему «Книга – наш друг и советчик», используя отрывок из романа И.А. Гончарова «Обломов»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44600" y="-49320"/>
            <a:ext cx="8334360" cy="1517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для обогащения знаний о мире, о жизни в прошлом, о  других странах, о космосе, о научных открытия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в воспитании человека,  правильной оценке поступков люд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чтения в развитии эстетического вкуса и совершенствовании речи читающег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394840" cy="2249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-36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рассуждение строится на опровержении какого – либо тезиса. При этом переход к доказательству начинается словам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м, что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…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удь в нашей жизни… и по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455320" cy="1396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8088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една была бы наша жизнь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ы ничего бы не знали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то не помог бы нам правильно оценить характер и поступки людей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а речь не могла бы  обогащаться… и др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85680" y="1749600"/>
            <a:ext cx="8839080" cy="27000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7"/>
          <p:cNvSpPr/>
          <p:nvPr/>
        </p:nvSpPr>
        <p:spPr>
          <a:xfrm>
            <a:off x="385560" y="304920"/>
            <a:ext cx="36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9" descr="F:\Дист. обуч. апрель 2020\7 кл. рус. яз\3-2.png"/>
          <p:cNvPicPr/>
          <p:nvPr/>
        </p:nvPicPr>
        <p:blipFill>
          <a:blip r:embed="rId2"/>
          <a:stretch/>
        </p:blipFill>
        <p:spPr>
          <a:xfrm>
            <a:off x="5791320" y="3886200"/>
            <a:ext cx="292572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4:07:26Z</dcterms:created>
  <dc:creator>Тейхреб Л.Н.</dc:creator>
  <dc:description/>
  <dc:language>en-US</dc:language>
  <cp:lastModifiedBy>хозяин</cp:lastModifiedBy>
  <dcterms:modified xsi:type="dcterms:W3CDTF">2020-04-12T20:16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2e0000000000010290110207f7000400038000</vt:lpwstr>
  </property>
  <property fmtid="{D5CDD505-2E9C-101B-9397-08002B2CF9AE}" pid="3" name="Version">
    <vt:r8>1</vt:r8>
  </property>
</Properties>
</file>