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1B6-7AE7-4CA1-A655-2D7054F1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6C9-E11F-440B-A7E2-18C1083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3E71F-C7B7-4D90-BA1E-7B621DF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7C460-070D-477F-916E-DBE1B4E7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78E5E-12F4-4A87-8454-151A81A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3077-BC85-4246-8375-0BF16A3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462EA-A1CA-4FCC-B26C-602EEB5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DA25-51B3-45E7-AB1C-3BA70ABE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E574-A5C6-4B06-BAE7-FCA08075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E71A6-DBAE-4C82-A025-50E0662E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8212-77E9-45AD-AD93-9B48D008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0DB-E5A3-4888-B891-C45B9DC0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2CD-7A83-4C8E-8DE5-E378937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0B72-9B82-49F3-B79C-0D7F8956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44B-5530-4B61-98C2-C0016CB1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BC3-0A3B-4E7A-A7E9-09CD81F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CC21-A22E-4680-A22D-BE263E7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3EDC-CA24-4EF0-B36D-5C072DD9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F0E9-66ED-40D9-91C7-8AB7B02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AE8A-DE16-43A4-9149-9383E87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149-7A1B-4464-A7E3-AAA3F2BA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8A3D-F77F-4624-9BA4-082B5FE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867-5847-4812-A83D-5826270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7C9-5A15-48BA-99A9-A4423F64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0622-7F4B-47B0-802C-1FB33A78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238D-011E-4A1C-86A4-A18E180F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1F24-81AA-4E16-B8D6-507E287D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69AA-6E58-4519-B5C8-03EC663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BD62-F972-465D-8FDA-50B2AEE8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7257-657D-4B76-A293-2166F34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8EBF-4C23-4B44-88B4-2347D07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8AD-E29C-40CF-BF5B-B417A507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119D-D02C-443C-894B-E70EF80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DEF1-C1CB-4FE5-BC66-E679187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08E0-53E3-4EB4-A190-9445732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8C2F-C0E3-49B7-862E-EA03C25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E267-E896-4902-B047-339624C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9287-61C5-41C2-AC11-5E708559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F85A-E1D4-4564-8E12-FC57FAC3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45A6-137E-4480-88E3-AC72BF55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F713-A3F0-42E6-89CE-900160DE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92A0-9144-408B-BAA1-3D9C7C9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A36-AD0C-444A-986E-A0F31BF5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742B-B521-4ED7-A9D5-2DDBA35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B3EB-9571-448F-854B-30AA5F90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484E-08A7-4E01-848B-E941084D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45FD-0A49-4F19-A5BB-63FDAC6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AAFC-D446-4FE9-9966-4327766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536B-BF44-4685-8931-C14B183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898C-C921-41F7-8F60-16C3138A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FC15-2144-4494-BCBB-77E52284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03F8-9A67-4D41-AFFA-98D15C4D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F758-D96E-4B5B-A399-02A2A8E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950-4E76-418B-B235-1B741C8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A160-C1C5-46B3-AD9A-0EB0285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6FA9-B280-46FB-AC15-E1D814E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E110-1280-4A6B-A6D1-11B3362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7E76-ADD2-4C06-9FAD-6F635F2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CABE-039A-4274-9DFD-AA043CD2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82B2-6E59-4311-BAE4-FBFF157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BD34-07A1-4E57-8DB7-F9B5B17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430D6-BA60-4713-931A-780FEE9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77AA-5624-4012-8C54-22FF5017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8BCD5-EBF3-4E91-9BF5-DD44C731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9C5-7D2D-4861-B92E-E72468EE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EAF6-430C-4896-85F3-735B2DF8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84E65-9616-49AA-B0BB-44FB2D85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C77C-BF52-4FAA-90C2-3F137FC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7FA5-6921-414A-B027-D234C58A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73DC-2B28-4644-949C-1743EE47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18EE1-8EBE-4271-872D-9AB24D90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613F-743B-447E-9799-A6B38EF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B9CD9-7995-40C6-9325-0907C4D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1BF0-BE29-4BB3-86C8-FE411C8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8254-4313-4764-A557-28A2642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B6B-6EA7-4074-9D2F-C8421E7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D9D4-89FD-4AFC-9EFB-535FE0D0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17ED-C241-4FAA-ACB2-260EBA29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DA2B-DE10-4FBF-B610-9E868341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EDF1-517C-4913-A734-106359C4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370E-EB93-44E8-9E0B-2F8FDAD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09F2F-6C91-4FDA-B030-D3A17F8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EC7E-A576-47E7-BCA5-8295820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E46B-F389-4682-88EB-A362EF6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CFFBB-9A31-4766-A854-8BC2885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AC8E-434D-4983-AB6C-FF66989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C05-A6A5-4F19-8A22-1C39777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D504-F1B6-447A-B6A4-6D51762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9AC0-FAC1-42E9-8330-908DAE3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52B7-1C1A-4374-B337-3BC7690E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4293F-70EB-410B-BFBB-EF2985A9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7C7A-8F81-4038-A204-5A20D0B3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5E1A-B30C-4913-8EC7-E848D76D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4E0C-520E-41EE-85EF-40050664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8AD1-04FF-4F15-ACBE-25D64D93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00B3-4B35-4945-A5FB-9BC3CE4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689E-1526-4678-8ED4-948863F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6B2-9F87-42BD-AC16-F4D76B08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5E00-5FF0-4943-B4C8-092823EC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322F-B9B6-44B5-987F-B05873A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31304-D2AB-4C78-BEE5-C9983F7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B213-6B6F-429C-B7DB-49771A4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811CF-14C3-40CC-BDC8-E18AD4B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EE7F-2B99-4033-9F20-EA44B399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7A63-3E8A-4F50-AAD9-7777827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979C0-F406-40FE-860F-9DDB2274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2C728-EAD2-4A5C-8E96-0069F42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64925-DB5E-4F21-B57D-B47F61A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561-F5C7-45CF-A574-E0622A3B47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533-C25E-4874-B038-139CE9CDB9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5DF-1524-4A15-A220-B9BE7E0528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C56-7DCA-4C36-B148-BD9A25E34E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663-87FE-42E5-AB2A-6C5AC5639A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F0C-DB49-4746-8696-B1814ADC32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FEF-AA35-4EC8-9612-454523C085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E19-2E6D-498D-A239-974511799D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3594-C3BC-4D98-B16F-347615006D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чинение-рассуждение по теме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нига – наш друг и советчик»</a:t>
            </a:r>
            <a:r>
              <a:rPr b="1" lang="ru-RU" sz="3200" spc="-1" strike="noStrike">
                <a:solidFill>
                  <a:srgbClr val="cb2a0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                                           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4" descr="F:\Дист. обуч. апрель 2020\7 кл. рус. яз\kisspng-book-library-five-flat-books-5aa8db1ab2db29.0375989615210155787326.jpg"/>
          <p:cNvPicPr/>
          <p:nvPr/>
        </p:nvPicPr>
        <p:blipFill>
          <a:blip r:embed="rId1"/>
          <a:stretch/>
        </p:blipFill>
        <p:spPr>
          <a:xfrm>
            <a:off x="4638600" y="2889360"/>
            <a:ext cx="394488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тупление. Кого мы называем друг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Того, кого любим, к кому прислушиваемся, у кого ищем совета, к кому доверяем, с чьим мнением считаемся. Того, кто посочувствует,  поможет выйти из трудного положения, научит, порадуется, поделится своими знаниями, помечтает, пофантазирует с тобой вме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назвать другом книгу? (Тезис рассуждения. Антитезис – к упр. 38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46160" y="-12600"/>
            <a:ext cx="8778600" cy="2000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28240" y="1828440"/>
            <a:ext cx="8915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и когда эти книги помогли мне? (Уроки жизн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и надежду, веру… (А. Грин. «Алые паруса»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человеколюбию… (А. Платонов «Юшка»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авили думать о чести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8699400" cy="1365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8052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я материал к докладу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в поразить товарищей по классу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е и энциклопедические словари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по механике. Рассказы о металлах…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о манерах поведения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ad1f1f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ение с книгой – высшая и незаменимая форма интеллектуального развития человека». (А. Т. Твардовский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ите книгу, она облегчит вам жизнь, дружески поможет разобраться в пестрой и бурной путанице мыслей, чувств, событий, она научит вас уважать человека в самих себя, она окрыляет ум и сердце чувством любви к миру, к человеку». (М. Горький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перестает мыслить, когда перестает читать». (Французский просветитель Дидр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вижение основного тезис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у научила книга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книга заставил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ться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книга помогла оценить сво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ки и поступки окружающих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чему именно об этой книг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телось рассказать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67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, классик детской литературы, мастер слова, писатель, поэт, прозаик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ействий (описывает, изображает, рисует, показывает, рассказывает о…, знакомит с…,  вводит в…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(произведение, повесть, рассказ, роман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ке какого-либо эпизода (интересный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й, занимательный, любопытный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оценки (нравится, производит неизгладимое впечатление, запоминается. остается в памяти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7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F:\Дист. обуч. апрель 2020\7 кл. рус. яз\s1200.jpg"/>
          <p:cNvPicPr/>
          <p:nvPr/>
        </p:nvPicPr>
        <p:blipFill>
          <a:blip r:embed="rId2"/>
          <a:stretch/>
        </p:blipFill>
        <p:spPr>
          <a:xfrm>
            <a:off x="5410080" y="19051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35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0" y="13716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очинение-рассужде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Это тип текста, в котором выдвигается и доказывается тези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м структуру этого типа речи?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Тези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Доказательства (аргументы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(Вводить аргументы можно вводными словами во- первых…, во- вторых…,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Приме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Выво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(можно подчеркнуть словом следовательн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570880" cy="1768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60020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В сочинении должно быть два и более доказатель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590920"/>
            <a:ext cx="883908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йте доказательства с пример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а – это ответ на вопрос, почему. В качестве примеров могут выступать  личный опыт, материалы СМИ, из художественной литературы, из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9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5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тек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он стил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йте содержание 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ихалкова, выдвинув основную мысль и вводя аргументы словами  во- первых…, во-вторых….  Подчеркните вывод словом следователь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носился к чтению Илья Иванович, отец главного героя романа «Обломов»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 ли вы с его мнением, что чтение -  роскошь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могли начать сочинение на тему «Книга – наш друг и советчик», используя отрывок из романа И.А. Гончарова «Обломов»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44600" y="-49320"/>
            <a:ext cx="8334360" cy="1517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для обогащения знаний о мире, о жизни в прошлом, о  других странах, о космосе, о научных открытия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в воспитании человека,  правильной оценке поступков люд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в развитии эстетического вкуса и совершенствовании речи читающег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394840" cy="2249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-36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рассуждение строится на опровержении какого – либо тезиса. При этом переход к доказательству начинается словам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удь в нашей жизни… и по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455320" cy="1396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8088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една была бы наша жизнь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ы ничего бы не знали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то не помог бы нам правильно оценить характер и поступки людей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а речь не могла бы  обогащаться… и др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85680" y="1749600"/>
            <a:ext cx="8839080" cy="27000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7"/>
          <p:cNvSpPr/>
          <p:nvPr/>
        </p:nvSpPr>
        <p:spPr>
          <a:xfrm>
            <a:off x="385560" y="304920"/>
            <a:ext cx="36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9" descr="F:\Дист. обуч. апрель 2020\7 кл. рус. яз\3-2.png"/>
          <p:cNvPicPr/>
          <p:nvPr/>
        </p:nvPicPr>
        <p:blipFill>
          <a:blip r:embed="rId2"/>
          <a:stretch/>
        </p:blipFill>
        <p:spPr>
          <a:xfrm>
            <a:off x="5791320" y="3886200"/>
            <a:ext cx="292572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4:07:26Z</dcterms:created>
  <dc:creator>Тейхреб Л.Н.</dc:creator>
  <dc:description/>
  <dc:language>en-US</dc:language>
  <cp:lastModifiedBy>хозяин</cp:lastModifiedBy>
  <dcterms:modified xsi:type="dcterms:W3CDTF">2020-04-12T20:16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2e0000000000010290110207f7000400038000</vt:lpwstr>
  </property>
  <property fmtid="{D5CDD505-2E9C-101B-9397-08002B2CF9AE}" pid="3" name="Version">
    <vt:r8>1</vt:r8>
  </property>
</Properties>
</file>