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996-AF52-4D2F-8D2B-43268463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1AD-BF5A-4D1D-A6AC-2BD31AB2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F1B-7722-4744-B11B-53097313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6B6C-EEF3-4823-A48A-F7637B56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B441-28A0-46B7-AF61-A29103D2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DD6A-3640-4DE6-9D3A-8F794B4C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22CF-990B-4C3D-BC8E-DC44C60F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D3FA-6090-431D-85BF-FE6D727D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C685-17F4-4AD9-A593-D4ADE93E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59EC-8FE1-4D4B-8F80-D74A1D61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3076-83B4-4621-ACBC-F1CAD55C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984-FB80-445B-B362-E6913DC1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5F9F-5D07-42FE-9B1A-8EE043BD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9D0E-F35B-4D02-A400-AEBC07B3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E89D-3298-43C2-9835-D9A3C82B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C27F-0F6B-4565-AAFE-587E8267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50F6-4C0A-4C24-9BEC-5E75B721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01A-30EA-4EF5-BE32-CA966DDC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1A72-0EB2-449E-A103-1369B6EF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195-68FB-4F59-8675-30902188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0D5-5CEE-4F6E-B39F-998752C8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B77-CEDF-4028-88B8-64CCCA30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7BC-ACBA-4878-B6CD-2DFBCCD8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D17-77B6-4CD8-BD42-07B7DDD9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7730-7EBC-4516-9B67-BC5D961B4F0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7FFC-C965-4DED-AC86-CC3AE7B8298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53360" cy="283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ект по</a:t>
            </a:r>
            <a:br>
              <a:rPr sz="4400"/>
            </a:b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южетно-ролевой игре</a:t>
            </a:r>
            <a:br>
              <a:rPr sz="4400"/>
            </a:b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Больница»</a:t>
            </a:r>
            <a:br>
              <a:rPr sz="4400"/>
            </a:b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о второй группе раннего возраста «Кузнечики»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0560" y="3860280"/>
            <a:ext cx="6683400" cy="16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Воспитатель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акова О.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395280" y="3429000"/>
            <a:ext cx="374508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000" y="301680"/>
            <a:ext cx="806436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тих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болезнь победим, позвонив по 03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тогда врач на помощь прид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, как быстро, в окошечко ты посмотр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уже прям у наших воро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брый день! Что болит? Что-то съели не т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дравствуй, доктор! Болит гол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е мне вдруг холодно, то вновь тепл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се понятно по этим слов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 простуда видать навестила опять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страшно, ее устрани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лекарство- его надо пить в день раз пять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гда мы болезнь победи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е соблюдайте постельный режи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йте морсы, чаек и компо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микробам отпор мы с вами дади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збавим себя от хлопо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й, спасибо за помощь Вам, доктор, скажу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долг мой – лечить всех всег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же клятву давал, медицине служу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сти не смогу никогда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*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84360" y="393372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Кто делает уколы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Кто с ночи до ут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Спокойный и веселы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нечно, медсестра!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Кто вечным позитивом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радует больных?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Будь счастлива, красива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Будь солнышком для них!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9992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гадк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а ты не бой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олнуйся, успокойс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конечно же, не плач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осто детский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*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болезни встрети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асково привети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ит всем и рост и вес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нает, кто, как спит и ес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сли у ребенка заболит вдруг голов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зу поспешит на помощь. Кто же это? (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сест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*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особенное царств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 живут одни лекарств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о ваты, йода, шпр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ходит как цараца.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текарь, фармацев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ешит больной задач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больных полечит…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* 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вут его, когда боль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ы так его нужны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ренно он в дом войде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больному близко подойде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щупает: горяч ли лоб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нет свой фонендоскоп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ушает, заглянет в ро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 оставит и уйд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ному легче станет вдру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те, кто же этот друг?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301680"/>
            <a:ext cx="82882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ценка про врач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ходит женщина- врач, ребенок лежит на диване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ctr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аша заболе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таши кашель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оловка горяч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вызвала Наташ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м детского врач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скажите, что стряслось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л врач простой вопро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пчет девочка несмело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мороженое съел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ого и заболел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рло красное на вид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ес доктор свой вердик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ай с малиновым варенье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рекрасное лечень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больше витаминов, свежих ягод, мандарин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807228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еседа о врач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Ребята, посмотрите внимательно на врач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на нем одет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за прибор на шее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находится в чемоданчике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чего нужны эти предметы? (градусник, шпатель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врач должен относиться к людям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ем же занимается врач на работе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- Молодцы! Давайте посмотрим, какие части тела может лечить врач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минут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на пальцах наших ног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уках – запястья, лок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я, шея, плечи, груд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ивотик не забуд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ра, пятки, двое стоп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колени и спин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на всего од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3595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у нас на голов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а два и мочки дв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ви, скулы и вис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лаза, что так близ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ки, нос и две ноздри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ы, зубы – посмотри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одок под губ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что знаем мы с тобой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мы сегодня говорили о профессиях. С какой профессией мы познакомились подробнее? (Врач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называется детский врач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чего нужен фонендоскоп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чего необходим градусник, шпатель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ой по характеру должен быть врач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9840" y="0"/>
            <a:ext cx="8713800" cy="125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ОД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Врач в гостях у детей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звивать познавательный интерес у детей младшего возрас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ть представление о профессии врача, с некоторыми профессиональными действиями: ставит уколы, смотрит горло, меряет температуру, слушает больног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в речи предметы- помощники в труде врача, активизировать словарь детей ( градусник, фонендоскоп, шприц, вата, бинт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наблюдательность, логическое мышление, зрительно- слуховое восприятие. Воспитывать в детях уважение к людям разных професс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ая работ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с детьми о профессиях .Рассматривание картин, иллюстраций на тему «Профессии». Чтение худ. литературы: К.И.Чуковский «Айболит», С.Михалков «А что у вас?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ишки, картинки с мед. Инструментами, белый халат, чемоданчик, музыкальные инструменты, ширма, сундучо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дактическая игра «Кто больше назовет профессий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росит детей назвать профессии, которые они знают. За каждый правильный ответ фишка. В конце игры дети считают фиш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обращает внимание детей на ребенка, который сидит на стульчике в сторонке. Что с тобой Артем? Почему ты плачешь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: У меня сильно болит ушк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Как же помочь Артему? К кому мы можем обратиться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казываю картинки с мед. инструментами). Кто догадался, человеку какой профессии необходимы эти инструменты? (Врачу). Правильно, врачу. Я сейчас позвоню в больниц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лло, здравствуйте. Вам звонит воспитатель из детского дома ребенка из группы «Кузнечики». У меня в группе заболел мальчик, нужен врач, который лечит ушки. Помогите пожалуйста нам. Я не могу прийти с ним к вам. Пригласите пожалуйста к нам врача в детский дом ребенка. Спасибо будем жд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ук в дверь, входит врач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: Здравствуйте, дети! Вы меня вызывал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: Да, вызыва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: Меня зовут Алла  . Я работаю врачом, лечу детям больные ушки, горлышко и носик. Кто у вас заболел? Артем? Сейчас я тебя осмотр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инесла с собой чемоданчик (показывает детям чемоданчик, обращает их внимание на медицинск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ст) А как вы думаете, Что у меня в чемоданчике? Правильно, там у меня мои помощники- инструмен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казывает каждый инструмент, называет его и объясняет как с ним работать). Теперь давайте вы расскажите, как называется каждый инструмент и для чего он нужен. (Полные ответы детей). После осмотра- рекомендуется Артему с мамой прийти в больницу для леч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«Определи на слух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: А больше ни у кого не болят ушки? Вот сейчас проверим ваши ушки и слух. Взрослый производит различные звуки за ширмой, а дети отгадывают инструмент( Бубен, погремушка, свисток, металлофон, гармошка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: Вы угадали все звуки и инструменты правильно, молодцы. Чтобы ваши ушки никогда не болели нужно соблюдать несколько правил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ковырять в ушах,        - не допускать попадания воды в уш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слушать громко музыку,    - защищать уши от холода и вет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«Чудесный сундучок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оказывает детям сундучок и говорит, что он чудесный, потому, что в нем лежит много интересного. Каждый сможет узнать, что там лежит, только надо сказать такие слова: «Сундучок, сундучок, приоткрой свой бочок!» Дети по очереди вынимают предметы, показывают, называют их и говорят человеку, какой профессии нужны те или иные предметы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ект: 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реднесрочный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ид проекта: 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ворческий, игровой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должительность: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5 месяцев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частники: 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и второй группы раннего возраста, воспитатели.</a:t>
            </a:r>
            <a:r>
              <a:rPr b="1" lang="ru-RU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: Берегите, ребята, свои ушки, свой организм, укрепляйте свое здоровье: закаляйтесь, ешьте, пейте витамины и будете здоровыми, не болейте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Что вам понравилось сегодня? Что мы интересного делал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были молодцы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 благодарит всех детей и угощает витамин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еседа о медицинской сест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сестра- это помощник врача, который ухаживает за больными людьми, помогает их леч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сестра должна обладать необходимыми знаниями и умениями в различных областях медицины: уметь правильно обработать рану, наложить повязку, сделать укол, провести другие лечебные процедуры. Медсестра должна четко выполнять указания врач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м ребенке медсестра следит за здоровьем детей: осматривает их, взвешивает и измеряет рост, ставит прививки. Она составляет меню на каждый день, чтобы повар приготовил вкусную и полезную пищ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бинете медсестры имеется необходимое оборудование: ростометр, в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, шприцы, различные лекарства, витам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сестра ходит в белом халате и белом колпаке. Она должна быть терпеливой, доброй, дисциплинированной и наблюдательн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ная работ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сестра, ростометр, весы, меню, шприцы, прививки, процедуры, медицина, витам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я действий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, ставит, взвешивает, измеряет, проверяет, осматривает…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я качеств личност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брая, внимательная, терпеливая, заботливая, наблюдательная, ласковая, дисциплинированна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6565"/>
                </a:solidFill>
                <a:latin typeface="Times New Roman"/>
                <a:ea typeface="Times New Roman"/>
              </a:rPr>
              <a:t>Экскурсия в медицинский кабинет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мы с вами отправимся на экскурсию в медицинский кабинет. Здесь работают врачи, а также  люди, которые им помогают. Людей, которые работают в медицинском кабинете  называют медицинскими работниками. Врачи – очень умные и добрые люди, они много знают про каждую болезнь. Про каждое лекарство. Они помогают людям, которые заболе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еще один медработник- это медсестра. У каждого врача есть медсестра. Это главный помощник любого врача. Она помогает врачу. Берет анализы, ставит уколы, делает прививки, Выполняет все распоряжения врача. Ну вот и закончилась наша экскурсия в медицинский кабинет. Давайте вспомним с вами с какими медицинскими сестрами и врачом мы сегодня познакомились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называется врач, который лечит детей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называется медицинский работник, который берет анализы. Делает уколы и прививк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все хорошо отвечали, молодцы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ru-RU" sz="3600" spc="-1" strike="noStrike">
                <a:solidFill>
                  <a:srgbClr val="3c6565"/>
                </a:solidFill>
                <a:latin typeface="Times New Roman"/>
                <a:ea typeface="Times New Roman"/>
              </a:rPr>
              <a:t>Сюжетно-ролевая игр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c6565"/>
                </a:solidFill>
                <a:latin typeface="Times New Roman"/>
                <a:ea typeface="Times New Roman"/>
              </a:rPr>
              <a:t>«Больница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закрепить раннее полученные знания о труде врача; обогащать словарь, развивать речь  детей, стимулировать творческую активность детей в игре; обучить новым игровым действиям;  формировать дружеские  взаимоотношения в игре, активности, ответственности. Поддерживать интерес к участию  девочек  и мальчиков выполняя определенные роли (девочки – мама, мальчики- водители и таксисты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  группу заходит почтальон: «Здравствуйте. Это  пятая группа?  (да) Вам посылка. – отдает и уходи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«Ребята, давайте посмотрим, что в посылке? (достает игрушки: руль, шприц, касса, ложку, витамины. Дети перечисляют предметы). В какие игры можно играть с этими игрушками?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Больница», «Аптека», «Семья», «Такси», «Магазин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Кто хочет стать доктором? ( таксистом, мамой….) Дети начинают играть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Семь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и папа на кухн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Ма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 Папа, что ты хочешь , чтобы я на обед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Жаренную картошку»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Хорошо, пока я готовлю, ты посмотри пожалуйста за дочкой»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ейчас мы с ней поиграем и почитаем книги» (берет  куклу. Мама берет крупную мозайку – картошку приготовила, , чистит ножиком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очкой ,ставит на плиту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, сейчас все будет готово, ты накрывай на стол. (накрывают, папа кормит дочку и обращает внимание на то, что у нее горячая голова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Надо ехать в больницу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 берет телефон: «Здравствуйте, а такси можно?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й ребенок берет сотовый – лего и говорит: «Здравствуйте, куда приехат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Микрорайон Д дом 61»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сист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Ждите, через 5 минут буду». Такси приехал, гудок: «Куда едем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»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В больницу.» (дети встают за таксистом, «едут», приехали)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олько мы должны?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сис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80 рубле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пасибо» (расплачивается), такси уезжа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 с мамой заходят в больницу, подходя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гистратуру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Здравствуйте, а доктор принимает?»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то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Здравствуйте, да доктор принимает. Что случилось?»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У дочки горячая голов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85480" y="214200"/>
            <a:ext cx="8643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т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Как зовут вашу дочку? Где живете?» .( берет карточку, пишет, дает талон, папа садится на стул и « читает» журналы)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стучи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Доктор, разрешите войт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»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Да, заходите. Здравствуйте. Садитесь. Что болит у вашей дочки?»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У нее голова горячая»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«Давайте я ее послушаю. Дыши, не дыши. А теперь померим температуру (ставит градусник). Да, у нее температура. Ей надо будет попить лекарства.  Сейчас я вам выпишу  рецепт (пишет). Купите в аптеке. До свидания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подает «рецепт» пап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«Сходи пожалуйста в аптеку и купи лекарство для дочки». Мама вызывает такси и едут домой. Дома она укладывает дочку, убирается, моет посуду… Папа приходит 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тек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дравствуйте. У вас есть вот такие лекарства? (дает «рецепт» аптекарю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дравствуйте. Сейчас посмотрим ваш рецепт («читает»). Да, есть. Вот вам от температуры, а это микстура от кашля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олько я вам должен?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вас 30 рубл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асибо.   (берет пакетик с лекарствами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 свида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1428840" y="571680"/>
            <a:ext cx="6000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дполагаемый результат: реализация проекта позволит детям младшего дошкольного возраста приобрести зна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 профессии врача и медсестры. Проект позволит развить умение детей самостоятельно организовывать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сюжетно-ролевую игру «Больница». Данный проект научит детей действовать согласованно, объединяться в подгруппы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для проведения игры, по желанию расширять понравившийся сюжет.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2286000" y="2612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07280" cy="575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ЦЕЛЬ: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сформировать у детей умение играть в сюжетно-ролевую игру «Больница»;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формировать у детей заинтересованность и умение играть в сюжетно-ролевые игры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дачи:</a:t>
            </a:r>
            <a:br>
              <a:rPr sz="2800"/>
            </a:b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развивать и обогащать сюжет игры в «Больницу» и подводить к самостоятельному созданию игровых замыслов;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учить выполнять игровые действия в соответствии с общим игровым замыслом;</a:t>
            </a:r>
            <a:br>
              <a:rPr sz="2400"/>
            </a:b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учить подбирать предметы и атрибуты для игры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3137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Этапы работы над проекто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6835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пределение цели и задач проекта; подбор художественной литературы (стихи, загадки, пальчиковые игры); настольные игры, дидактические игр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водятся запланированные мероприятия для реализации проекта (беседы, рассматривание иллюстраций, чтение художественной литературы, творческая деятельность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-ролевая игра «Больница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8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ешение поставленных задач с детьми:</a:t>
            </a:r>
            <a:br>
              <a:rPr sz="24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помочь создать игровую обстановку, наладить взаимодействие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ежду теми, кто выбрал определенные роли;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формировать дружеское взаимоотношение в игре, чувство гуманизма, активности, ответственности, дружелюбия;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формировать у детей умение играть по собственному замыслу, стимулировать творческую активность детей в игре;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закреплять ранее полученные знания о труде врача. </a:t>
            </a: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жидаемый результат: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. Знание детьми информации о профессии врача.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. Понимание детьми значимости данной профессии.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3. Умение организовать сюжетно- ролевые игры на основе имеющихся знаний.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4. Проявление признательности и уважение к труду взрослых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овместная деятельность воспитателя с детьми:</a:t>
            </a:r>
            <a:br>
              <a:rPr sz="24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Экскурсия в медицинский кабинет.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- Беседа о работе медсестры.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Рассматривание картин и иллюстраций.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Настольные и дидактические игры: «Профессии», «У кого что?», «Кто что делает?», «Чудесный мешочек», «Поможем доктору Айболиту», «На приеме у врача», «Кому нужна помощь?», «Валеология или здоровый малыш», «Я берегу здоровье» и т.д.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Сюжетно-ролевые игры: «Вызываем врача», «Лечим зубы», «На приеме у врача», «Отвезем мишку в больницу», «Вылечим Катю», «Кукла Таня заболела», «Помогите доктор» и т.д.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Пальчиковые игры.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Разучивание стихотворений о враче, медсестре.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Отгадывание загадок о враче, медсестре.</a:t>
            </a: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амостоятельная деятельность детей: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Рассматривание картин, иллюстраций.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Театрализованная деятельность: инсценировка «Звери болеют», «Сценка про врача». 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посредственно- образовательная деятельность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Чтение художественной литературы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: 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А.Крылов «Заболел петух ангиной», К.Чуковский «Доктор Айболит», «Бармалей», «Айболит и воробей», В.Сутеев «Про бегемота, который боялся прививок», Б.Заходер «Все работы хороши», Я.Райнис «Кукла заболела», В.Маяковский «Кем быть?», В.Берестов «Больная кукла», А.Барто «Мы с Тамарой», П.Образцова «Лечу куклу», А.Карандашова «Наш доктор», Джанни Родари «Чем пахнут ремесла?»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Музыка: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слушивание песни «Кукла заболела» муз. А.Филлипенко, сл. Т.Волгиной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Коммуникация (Развитие речи):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еседа с детими на темы: «Нас лечат врач и медсестра», «Как нужно вести себя в кабинете у врача?», «Врач в гостях у детей». Знакомство с профессией врача, медсестры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432640" cy="56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Аппликация: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Колпак доктора Айболита»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ь: учить навыку наклеивания двух красных полосок бумаги крест – накрест,  развивать творчество, фантаз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Художественное творчество (рисование):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Зонтик для зайчика»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ствовать овладению приемами рисования красками полукруглых форм , безостановочным движением кисти рук. Следить за правильным положением рук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епка: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Витамины для зайчика»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ить детей лепить шарики разного размера, используя прием раскатывания пластилина кругообразными движениями. Закрепить умение лепить аккуратно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онструирование: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троительство здания «Больница для зверюшек» из крупного строительного материала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иложение</a:t>
            </a:r>
            <a:br>
              <a:rPr sz="2000"/>
            </a:b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южетно-ролевая иг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8072280" cy="23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иложение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Прямоугольник 1"/>
          <p:cNvSpPr/>
          <p:nvPr/>
        </p:nvSpPr>
        <p:spPr>
          <a:xfrm>
            <a:off x="2360520" y="350028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«Игра – это огромное светлое окно,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через которое в духовный мир ребенка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вливается живительный поток представлений, понятий об окружающем мире»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В.А. Сухомлински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6:09:04Z</dcterms:created>
  <dc:creator>admin</dc:creator>
  <dc:description/>
  <dc:language>en-US</dc:language>
  <cp:lastModifiedBy>1169764</cp:lastModifiedBy>
  <dcterms:modified xsi:type="dcterms:W3CDTF">2020-04-01T13:21:48Z</dcterms:modified>
  <cp:revision>66</cp:revision>
  <dc:subject/>
  <dc:title>Проект по сюжетно-ролевой игре «Больница» во второй младшей групп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