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C6AC-DD14-4EF8-9DCE-E4CE598CF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72AE-16EA-4F52-A55F-51B2A90E311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795-E6F9-4268-B868-80A7CDCCB19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C4F2-30E3-40FE-89D7-148AB13A04F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7C4-7126-47E5-9933-9AB8B78AC55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EB06-BB45-4FB0-B187-07ADA800171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7E0-15F1-4BA5-9F25-20482C0C43E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31F-1583-47C3-9CAA-809B2543E8E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4B79-00C9-460C-8EF4-80A34E80FBA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732-8E8E-4FEC-89E1-DB3CC199102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ED1-6A54-488D-9650-163F6B55E1A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D3D-0AC9-42B0-9956-C0CE9E82023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4C1F-C23D-4D0B-8DC1-8C8B42B0971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606-0E4F-4525-A4F5-9F9F7883741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19C-927F-4753-9B6A-7E4CFAD3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FB7-2FA7-4140-B542-4D1AA46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BDF-53DA-400A-A287-F9A84FE0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718-C14D-4EBD-97F6-700ECC15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392-137E-49FF-AB64-516B348D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4942-A359-42FB-A952-BF5DC260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7B99-5DA2-49C3-A278-8F3C0BD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5485-3DE5-4FB5-AA46-18DDF39F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F99-EE01-4C3B-8A78-10BA2D75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BEA9-7BDB-4B3E-8EE6-A2627DF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32F6-7E0B-4581-B02C-69C53ED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792-3A8F-44F0-A300-CFF6B6D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4876-3315-4BEB-9CC0-EA3BCA3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FC0-1792-4EAF-8A20-7F705EC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47A9-7EC6-4273-AA42-D409E204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BB14-C9B9-45F2-87F4-742C8EA9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CCD6-CD4A-4D74-8DA5-F2938438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792-0A94-484E-8041-D9BD4083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95A-0F2E-4C91-A93D-23D4144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2CD-79FC-4C9E-9370-6827A20B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9C2-9ACA-4D95-AECF-44ECB23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D55-23DB-401E-82B0-DB55BE2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9DF-9899-40A7-97AA-B80D48D9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E4F-0901-4D78-8112-A0115BE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E9D-72E4-4132-9487-7914EB6925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4FD7-F24C-4143-9758-7B1564FF0168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« ЭТОТ ДЕНЬ ПОБЕДЫ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0786680" y="3571560"/>
            <a:ext cx="297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КДО БГ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СКИЙ САД №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УРОВА И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ЕРАСИНА М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isCAKYH7XQ"/>
          <p:cNvPicPr/>
          <p:nvPr/>
        </p:nvPicPr>
        <p:blipFill>
          <a:blip r:embed="rId1"/>
          <a:stretch/>
        </p:blipFill>
        <p:spPr>
          <a:xfrm>
            <a:off x="5572080" y="314316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539640" y="785880"/>
            <a:ext cx="77724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6.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слушивание музыкальных произведений: «Священная война», «День      Победы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7.  Рассматривание иллюстраций в книгах о вой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8.  Чтение энциклопедии «Военная техник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9.  Рассматривание открыток «Наш город». Памятники и мемориал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0. Работа с родителями. Оформление стенда «9 Мая»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1.  Консультация: «Воспитание патриотических чувств у ребенк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2.  Рекомендации. Прочитайте детям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аруздин С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Шел по улице солда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сеева В. Андрейка. (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О семилетнем Андрейке, помогающем матери в тяжелые военные год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аустовский К.</a:t>
            </a: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альное колечко.(Сказка о девочке и волшебном колечке, которое подарил ей боец.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475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езультативный этап (срок реализации– 1 день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оведение конкурса чтецов и исполнителей  песен о Великой Отечественной войне « Этих дней не смолкнет слав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12" descr="1"/>
          <p:cNvPicPr/>
          <p:nvPr/>
        </p:nvPicPr>
        <p:blipFill>
          <a:blip r:embed="rId1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нформационные ресурс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етохина А.Я.  Нравственно-патриотическое воспитание детей дошкольного возрас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Журнал «Ребенок в детском саду» №2 2007г., №2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 Днем Победы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is[6]"/>
          <p:cNvPicPr/>
          <p:nvPr/>
        </p:nvPicPr>
        <p:blipFill>
          <a:blip r:embed="rId1"/>
          <a:stretch/>
        </p:blipFill>
        <p:spPr>
          <a:xfrm>
            <a:off x="2556000" y="2924280"/>
            <a:ext cx="403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раткосрочный проект группы «Семицветик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вторы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оспитател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КДО БГО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СКИЙ САД №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УРОВА И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ЕРАСИНА М.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ти, начиная с дошкольного возраста, страдают дефицитом знаний о родном крае, стране, особенностях русских традиций, мало знают о подвиге русского народа в борьбе с фашизмом в годы Великой Отечественной вой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авнодушное отношение к близким людям, товарищам, недостаток сочувствия и сострадания к  чужому горю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достаточно сформирована система  работы с родителями по проблеме нравственного и героико-патриотического воспитания в семь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612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314136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формировать у детей чувства исторической сопричастности к своему роду, восстановление утраченных связей между поколениями, способствовать формированию убеждения о недопустимости повторения вой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isCACKC0PE"/>
          <p:cNvPicPr/>
          <p:nvPr/>
        </p:nvPicPr>
        <p:blipFill>
          <a:blip r:embed="rId1"/>
          <a:stretch/>
        </p:blipFill>
        <p:spPr>
          <a:xfrm>
            <a:off x="900000" y="1125360"/>
            <a:ext cx="2000520" cy="1717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sCANEUK1X"/>
          <p:cNvPicPr/>
          <p:nvPr/>
        </p:nvPicPr>
        <p:blipFill>
          <a:blip r:embed="rId2"/>
          <a:stretch/>
        </p:blipFill>
        <p:spPr>
          <a:xfrm>
            <a:off x="3348000" y="1052640"/>
            <a:ext cx="201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Сообщить элементарные сведения о Великой Отечественной Вой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. Расширение знаний о защитниках отечества, о функциях арм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3. Воспитывать гордость и уважение к ветеранам В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4. Развивать речь детей, обогащать словарный запас через песни, стихотворения, монологи, диалоги о войн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. Формировать чувство гордости за Родину, за наш наро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редполагаемы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езультаты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9898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ти получат элементарные знания о Великой Отечественной войн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лучат  представления о военных профессиях, о родах войск армии РФ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ширят  знания о российской армии - надежной защитнице нашей Роди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знакомятся  с произведениями поэтов, писателей  на военную тематик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полнят словарный  запас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зработанные рекомендации для родителей (какие книги читать детям, какие экспозиции в музеях доступны пониманию дошкольников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8" descr="isCA1COQIA"/>
          <p:cNvPicPr/>
          <p:nvPr/>
        </p:nvPicPr>
        <p:blipFill>
          <a:blip r:embed="rId1"/>
          <a:stretch/>
        </p:blipFill>
        <p:spPr>
          <a:xfrm>
            <a:off x="6786720" y="5357880"/>
            <a:ext cx="2357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одержание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428760"/>
            <a:ext cx="7772400" cy="56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акопительны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срок реализации – 3 дня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пределение темы проекта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ормулировка цели и разбивка на веер задач.</a:t>
            </a:r>
            <a:br>
              <a:rPr sz="2000"/>
            </a:b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ставление плана основного этапа проект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нтервьюирование дет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ссматривание иллюстраций о В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одборка художественной литературы – рассказов, стихов, пословиц и поговорок о войне, празднике 9 мая,  о мире. Оформление книжного угол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4" descr="isCAUJWDPI"/>
          <p:cNvPicPr/>
          <p:nvPr/>
        </p:nvPicPr>
        <p:blipFill>
          <a:blip r:embed="rId1"/>
          <a:stretch/>
        </p:blipFill>
        <p:spPr>
          <a:xfrm>
            <a:off x="1187280" y="4724280"/>
            <a:ext cx="1440000" cy="1844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isCA304JDS"/>
          <p:cNvPicPr/>
          <p:nvPr/>
        </p:nvPicPr>
        <p:blipFill>
          <a:blip r:embed="rId2"/>
          <a:stretch/>
        </p:blipFill>
        <p:spPr>
          <a:xfrm>
            <a:off x="6877080" y="4653000"/>
            <a:ext cx="165564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13840" y="260280"/>
            <a:ext cx="66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сновной этап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(срок реализации – 6 дней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 Проведение НОД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еседа. «Наша армия родная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.  Художественное творчество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исование «Шаги победной весны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Лепка «Цветы ветеранам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.  Выставка художественной литературы о ВО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4. Знакомство с художественной литературой (Е. Благинина «Шинель»;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. Митяев «Мешок овсянки»; «Почему армия родная?» Л. Кассиль из книги «Твои защитники»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.  Беседа «Этих дней не смолкнет слава»; «Русские богатыри»; «Жить –        Родине служить»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17" descr="isCAD8JVTP"/>
          <p:cNvPicPr/>
          <p:nvPr/>
        </p:nvPicPr>
        <p:blipFill>
          <a:blip r:embed="rId1"/>
          <a:stretch/>
        </p:blipFill>
        <p:spPr>
          <a:xfrm>
            <a:off x="7000920" y="1857240"/>
            <a:ext cx="1942920" cy="1636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isCAL82XDA"/>
          <p:cNvPicPr/>
          <p:nvPr/>
        </p:nvPicPr>
        <p:blipFill>
          <a:blip r:embed="rId2"/>
          <a:stretch/>
        </p:blipFill>
        <p:spPr>
          <a:xfrm>
            <a:off x="7286760" y="4429080"/>
            <a:ext cx="185724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0:23:14Z</dcterms:created>
  <dc:creator>Ирина</dc:creator>
  <dc:description/>
  <dc:language>en-US</dc:language>
  <cp:lastModifiedBy>User</cp:lastModifiedBy>
  <dcterms:modified xsi:type="dcterms:W3CDTF">2013-05-12T13:23:47Z</dcterms:modified>
  <cp:revision>33</cp:revision>
  <dc:subject/>
  <dc:title>«Этих дней не смолкнет слава»</dc:title>
</cp:coreProperties>
</file>