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776A-B031-4F79-9ABC-0555950CF9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A047-C465-4A12-BBE5-E0F775AA351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EB02-C9FB-4475-A5BA-ADF8175721F9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E390-9E99-495C-A38A-DB957F2800F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3D10-EC80-4A40-ABE4-FA2D25B5E396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77D1-E54F-43B9-A46B-C16471C5B36D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DB6A-81D2-4D70-AC39-C90813DB825E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97BA-5734-42B3-82B6-A60044B8B902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CFFE-1784-4B52-8AAD-93EF1BCF36B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D3D2-A372-40E7-ACD3-F5AC03FCF0A6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2355-C901-48B4-83CD-B68366B6B71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3503-C6EF-4125-BBC9-36FECFAD660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22C1-AD77-48C1-8CCE-78E90938CE51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0048-86C6-4550-BA7D-3D05075FBE1F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2A7-2F00-4C0C-A146-BEC91338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679-5FA5-4CF5-9932-2FC30412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9EA-9AFD-44DA-97C9-4D843398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23E-A4E9-4CB2-9195-670D760F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A746-D424-45E2-9FE8-1324567F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11D3-E90C-44F4-BA64-215777CF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671C-9E4B-4CB7-8F1B-973F8904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BFB2-0699-4BDF-ABA5-3B1E689A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790C-0B99-4843-B210-A2DDA27E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D1C1-A6C9-473C-B497-9471DB9D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1460-ED4A-4AF1-BE07-DD5ABC12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7FC-31A2-4C1A-8574-61FAED7F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B262-EDB5-4D8A-9ED4-EE308780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0F4D-17FC-47A4-90E3-FC47CCF0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4D67-1865-43AF-B913-A64FEE14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1CF5-1352-4B67-BBE6-18814AF2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A695-ABE8-4E7F-990F-E38A576F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C1C-BBC3-4166-BAB5-11FB39EE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366-5824-4A59-9492-7DF943A5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969-6348-492E-A0A9-86154D3F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EBA-D709-4E13-808C-D44926C4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C59-E330-44CB-9AC0-B3857DAD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5AB-99F6-43F8-B963-07EFFD63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B7E-D0D4-4835-8EBD-F8DECC6B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804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7227-36EE-4D35-9226-831F1CD874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24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720" y="2322360"/>
                    <a:ext cx="2559600" cy="2740680"/>
                    <a:chOff x="5760720" y="2322360"/>
                    <a:chExt cx="2559600" cy="27406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240" y="3019680"/>
                      <a:ext cx="21268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60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840"/>
                    <a:ext cx="3039840" cy="2529000"/>
                    <a:chOff x="5787720" y="2148840"/>
                    <a:chExt cx="303984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13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4240"/>
                    <a:ext cx="3097800" cy="1992960"/>
                    <a:chOff x="5774760" y="2064240"/>
                    <a:chExt cx="3097800" cy="199296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4400"/>
                    <a:ext cx="2658600" cy="444960"/>
                    <a:chOff x="5851440" y="1814400"/>
                    <a:chExt cx="265860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48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3760" cy="785520"/>
                    <a:chOff x="5788440" y="1304640"/>
                    <a:chExt cx="236376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160"/>
                    <a:ext cx="3134160" cy="1608120"/>
                    <a:chOff x="2010960" y="218916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16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70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1600"/>
                    <a:ext cx="2169720" cy="1506600"/>
                    <a:chOff x="3161520" y="831600"/>
                    <a:chExt cx="2169720" cy="15066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2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244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320" y="387360"/>
                    <a:ext cx="1889280" cy="1794600"/>
                    <a:chOff x="5350320" y="387360"/>
                    <a:chExt cx="1889280" cy="17946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240" y="1386000"/>
                      <a:ext cx="142380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3560"/>
                      <a:ext cx="7657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960"/>
                    <a:ext cx="1482840" cy="2998800"/>
                    <a:chOff x="3791520" y="2649960"/>
                    <a:chExt cx="1482840" cy="29988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960" y="344016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5880"/>
                      <a:ext cx="188712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800"/>
                    <a:ext cx="1755360" cy="3030120"/>
                    <a:chOff x="5648400" y="2593800"/>
                    <a:chExt cx="1755360" cy="30301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720" y="3395880"/>
                      <a:ext cx="203364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120" y="4719600"/>
                      <a:ext cx="109008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1160"/>
                    <a:ext cx="1226880" cy="2985480"/>
                    <a:chOff x="5576040" y="2711160"/>
                    <a:chExt cx="1226880" cy="29854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76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520" y="488124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7520"/>
                    <a:ext cx="696240" cy="2780280"/>
                    <a:chOff x="5521320" y="2837520"/>
                    <a:chExt cx="69624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504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840"/>
                    <a:ext cx="665640" cy="2717640"/>
                    <a:chOff x="4961160" y="2886840"/>
                    <a:chExt cx="66564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840" y="366408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280" y="493092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7520"/>
                    <a:ext cx="3166560" cy="25243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1760"/>
                    <a:ext cx="17582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556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67A8-17F4-43E9-BFDC-6C6EA0C74E9A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« ЭТОТ ДЕНЬ ПОБЕДЫ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0786680" y="3571560"/>
            <a:ext cx="29700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оспитател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КДО БГО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ЕТСКИЙ САД №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БУРОВА И.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ГЕРАСИНА М.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4" descr="isCAKYH7XQ"/>
          <p:cNvPicPr/>
          <p:nvPr/>
        </p:nvPicPr>
        <p:blipFill>
          <a:blip r:embed="rId1"/>
          <a:stretch/>
        </p:blipFill>
        <p:spPr>
          <a:xfrm>
            <a:off x="5572080" y="3143160"/>
            <a:ext cx="32148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539640" y="78588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6.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рослушивание музыкальных произведений: «Священная война», «День      Победы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7.  Рассматривание иллюстраций в книгах о войн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8.  Чтение энциклопедии «Военная техника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9.  Рассматривание открыток «Наш город». Памятники и мемориалы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10. Работа с родителями. Оформление стенда «9 Мая»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11.  Консультация: «Воспитание патриотических чувств у ребенка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12.  Рекомендации. Прочитайте детям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Баруздин С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Шел по улице солдат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сеева В. Андрейка. (</a:t>
            </a:r>
            <a:r>
              <a:rPr b="0" i="1" lang="ru-RU" sz="2000" spc="-1" strike="noStrike">
                <a:solidFill>
                  <a:srgbClr val="ffcc00"/>
                </a:solidFill>
                <a:latin typeface="Arial Black"/>
              </a:rPr>
              <a:t>О семилетнем Андрейке, помогающем матери в тяжелые военные годы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аустовский К.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тальное колечко.(Сказка о девочке и волшебном колечке, которое подарил ей боец.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475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Результативный этап (срок реализации– 1 день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роведение конкурса чтецов и исполнителей  песен о Великой Отечественной войне « Этих дней не смолкнет слава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12" descr="1"/>
          <p:cNvPicPr/>
          <p:nvPr/>
        </p:nvPicPr>
        <p:blipFill>
          <a:blip r:embed="rId1"/>
          <a:stretch/>
        </p:blipFill>
        <p:spPr>
          <a:xfrm>
            <a:off x="5796000" y="2852640"/>
            <a:ext cx="2879640" cy="360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Информационные ресурс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етохина А.Я.  Нравственно-патриотическое воспитание детей дошкольного возрас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Журнал «Ребенок в детском саду» №2 2007г., №2 2008 г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С Днем Победы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пасибо за внимание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7" name="Picture 7" descr="is[6]"/>
          <p:cNvPicPr/>
          <p:nvPr/>
        </p:nvPicPr>
        <p:blipFill>
          <a:blip r:embed="rId1"/>
          <a:stretch/>
        </p:blipFill>
        <p:spPr>
          <a:xfrm>
            <a:off x="2556000" y="2924280"/>
            <a:ext cx="4032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9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раткосрочный проект группы «Семицветик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Авторы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оспитател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КДО БГО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ЕТСКИЙ САД №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БУРОВА И.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ГЕРАСИНА М.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Актуальность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ети, начиная с дошкольного возраста, страдают дефицитом знаний о родном крае, стране, особенностях русских традиций, мало знают о подвиге русского народа в борьбе с фашизмом в годы Великой Отечественной войн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авнодушное отношение к близким людям, товарищам, недостаток сочувствия и сострадания к  чужому горю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едостаточно сформирована система  работы с родителями по проблеме нравственного и героико-патриотического воспитания в семь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6127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Цель проект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00000" y="314136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формировать у детей чувства исторической сопричастности к своему роду, восстановление утраченных связей между поколениями, способствовать формированию убеждения о недопустимости повторения войн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6" descr="isCACKC0PE"/>
          <p:cNvPicPr/>
          <p:nvPr/>
        </p:nvPicPr>
        <p:blipFill>
          <a:blip r:embed="rId1"/>
          <a:stretch/>
        </p:blipFill>
        <p:spPr>
          <a:xfrm>
            <a:off x="900000" y="1125360"/>
            <a:ext cx="2000520" cy="1717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isCANEUK1X"/>
          <p:cNvPicPr/>
          <p:nvPr/>
        </p:nvPicPr>
        <p:blipFill>
          <a:blip r:embed="rId2"/>
          <a:stretch/>
        </p:blipFill>
        <p:spPr>
          <a:xfrm>
            <a:off x="3348000" y="1052640"/>
            <a:ext cx="201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Задачи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71760"/>
            <a:ext cx="7772400" cy="58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 Сообщить элементарные сведения о Великой Отечественной Войн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. Расширение знаний о защитниках отечества, о функциях арми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3. Воспитывать гордость и уважение к ветеранам ВО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4. Развивать речь детей, обогащать словарный запас через песни, стихотворения, монологи, диалоги о войн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5. Формировать чувство гордости за Родину, за наш народ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Предполагаемые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результаты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98984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Дети получат элементарные знания о Великой Отечественной войн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олучат  представления о военных профессиях, о родах войск армии РФ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Расширят  знания о российской армии - надежной защитнице нашей Родины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ознакомятся  с произведениями поэтов, писателей  на военную тематику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ополнят словарный  запас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Разработанные рекомендации для родителей (какие книги читать детям, какие экспозиции в музеях доступны пониманию дошкольников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8" descr="isCA1COQIA"/>
          <p:cNvPicPr/>
          <p:nvPr/>
        </p:nvPicPr>
        <p:blipFill>
          <a:blip r:embed="rId1"/>
          <a:stretch/>
        </p:blipFill>
        <p:spPr>
          <a:xfrm>
            <a:off x="6786720" y="5357880"/>
            <a:ext cx="23572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22762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Содержание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4360" y="428760"/>
            <a:ext cx="7772400" cy="56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накопительный этап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(срок реализации – 3 дня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пределение темы проекта.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Формулировка цели и разбивка на веер задач.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оставление плана основного этапа проект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Интервьюирование детей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Рассматривание иллюстраций о ВОВ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одборка художественной литературы – рассказов, стихов, пословиц и поговорок о войне, празднике 9 мая,  о мире. Оформление книжного уголк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4" descr="isCAUJWDPI"/>
          <p:cNvPicPr/>
          <p:nvPr/>
        </p:nvPicPr>
        <p:blipFill>
          <a:blip r:embed="rId1"/>
          <a:stretch/>
        </p:blipFill>
        <p:spPr>
          <a:xfrm>
            <a:off x="1187280" y="4724280"/>
            <a:ext cx="1440000" cy="1844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isCA304JDS"/>
          <p:cNvPicPr/>
          <p:nvPr/>
        </p:nvPicPr>
        <p:blipFill>
          <a:blip r:embed="rId2"/>
          <a:stretch/>
        </p:blipFill>
        <p:spPr>
          <a:xfrm>
            <a:off x="6877080" y="4653000"/>
            <a:ext cx="1655640" cy="1871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13840" y="260280"/>
            <a:ext cx="664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основной этап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(срок реализации – 6 дней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.  Проведение НОД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Беседа. «Наша армия родная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2.  Художественное творчество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Рисование «Шаги победной весны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Лепка «Цветы ветеранам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3.  Выставка художественной литературы о ВОВ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4. Знакомство с художественной литературой (Е. Благинина «Шинель»;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А. Митяев «Мешок овсянки»; «Почему армия родная?» Л. Кассиль из книги «Твои защитники»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5.  Беседа «Этих дней не смолкнет слава»; «Русские богатыри»; «Жить –        Родине служить».</a:t>
            </a: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Picture 17" descr="isCAD8JVTP"/>
          <p:cNvPicPr/>
          <p:nvPr/>
        </p:nvPicPr>
        <p:blipFill>
          <a:blip r:embed="rId1"/>
          <a:stretch/>
        </p:blipFill>
        <p:spPr>
          <a:xfrm>
            <a:off x="7000920" y="1857240"/>
            <a:ext cx="1942920" cy="1636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8" descr="isCAL82XDA"/>
          <p:cNvPicPr/>
          <p:nvPr/>
        </p:nvPicPr>
        <p:blipFill>
          <a:blip r:embed="rId2"/>
          <a:stretch/>
        </p:blipFill>
        <p:spPr>
          <a:xfrm>
            <a:off x="7286760" y="4429080"/>
            <a:ext cx="1857240" cy="1687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0:23:14Z</dcterms:created>
  <dc:creator>Ирина</dc:creator>
  <dc:description/>
  <dc:language>en-US</dc:language>
  <cp:lastModifiedBy>User</cp:lastModifiedBy>
  <dcterms:modified xsi:type="dcterms:W3CDTF">2013-05-12T13:23:47Z</dcterms:modified>
  <cp:revision>33</cp:revision>
  <dc:subject/>
  <dc:title>«Этих дней не смолкнет слава»</dc:title>
</cp:coreProperties>
</file>