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D3DA-4675-4F64-92B2-9FC037BBF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8360-9E55-40D1-B1CB-A3FD67F1D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2C37-C009-4E35-B795-D02F1F95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1694-94DA-4B83-B797-A6EFF9F4F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4201-7026-4EEF-A996-D6968CFD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B73C-6309-419F-B246-36A70A80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01A17-CA32-4CFD-8121-C0F6D92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C291-8F8C-4CAD-A6F7-BF8741E8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68F77-0B79-4436-9E6F-1F6DA45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8E7BB-D8DC-4E58-92BC-39FF3164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2F4AC-9B35-40B1-99E9-6BC4D84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4EE5-ACFD-4241-84FB-1F1232CD7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F0CB-6297-4528-9379-7DD952B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5AB24-08CF-4AA5-8253-C27AE23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7EB73-744F-4D9E-8604-42214664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0BC8-0FC4-4100-B0B5-3082E6E7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75C9-52E9-42B4-815B-58784815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B186-643F-49D4-8148-739DE5CA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D1D3-F124-428A-B015-47D849501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2F8F-B081-4250-8838-63E1E7263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8858-C515-4469-A71A-C3096626F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B591-C5B5-49AC-AE14-095A3E9D8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4D28-EC99-478D-A0EE-1BA2DCE72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510D-7339-4B36-8E55-B885BBBDC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77840" y="230040"/>
            <a:ext cx="199800" cy="6500880"/>
            <a:chOff x="177840" y="230040"/>
            <a:chExt cx="199800" cy="6500880"/>
          </a:xfrm>
        </p:grpSpPr>
        <p:sp>
          <p:nvSpPr>
            <p:cNvPr id="1" name="Rectangle 2"/>
            <p:cNvSpPr/>
            <p:nvPr/>
          </p:nvSpPr>
          <p:spPr>
            <a:xfrm flipH="1">
              <a:off x="304200" y="257040"/>
              <a:ext cx="73080" cy="647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77840" y="230040"/>
              <a:ext cx="73080" cy="625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8793000" y="220680"/>
            <a:ext cx="194760" cy="6403680"/>
            <a:chOff x="8793000" y="220680"/>
            <a:chExt cx="194760" cy="6403680"/>
          </a:xfrm>
        </p:grpSpPr>
        <p:sp>
          <p:nvSpPr>
            <p:cNvPr id="4" name="Rectangle 5"/>
            <p:cNvSpPr/>
            <p:nvPr/>
          </p:nvSpPr>
          <p:spPr>
            <a:xfrm flipH="1" flipV="1" rot="10800000">
              <a:off x="8922240" y="220680"/>
              <a:ext cx="65160" cy="63309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flipV="1" rot="10800000">
              <a:off x="8793000" y="377640"/>
              <a:ext cx="74880" cy="62467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Group 7"/>
          <p:cNvGrpSpPr/>
          <p:nvPr/>
        </p:nvGrpSpPr>
        <p:grpSpPr>
          <a:xfrm>
            <a:off x="412920" y="6477120"/>
            <a:ext cx="8683560" cy="222480"/>
            <a:chOff x="412920" y="6477120"/>
            <a:chExt cx="8683560" cy="222480"/>
          </a:xfrm>
        </p:grpSpPr>
        <p:sp>
          <p:nvSpPr>
            <p:cNvPr id="7" name="Rectangle 8"/>
            <p:cNvSpPr/>
            <p:nvPr/>
          </p:nvSpPr>
          <p:spPr>
            <a:xfrm flipV="1" rot="5400000">
              <a:off x="4717800" y="2171880"/>
              <a:ext cx="73440" cy="868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flipV="1" rot="5400000">
              <a:off x="4626000" y="2414520"/>
              <a:ext cx="71640" cy="8497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Group 10"/>
          <p:cNvGrpSpPr/>
          <p:nvPr/>
        </p:nvGrpSpPr>
        <p:grpSpPr>
          <a:xfrm>
            <a:off x="76320" y="176040"/>
            <a:ext cx="8742240" cy="157680"/>
            <a:chOff x="76320" y="176040"/>
            <a:chExt cx="8742240" cy="157680"/>
          </a:xfrm>
        </p:grpSpPr>
        <p:sp>
          <p:nvSpPr>
            <p:cNvPr id="10" name="Rectangle 11"/>
            <p:cNvSpPr/>
            <p:nvPr/>
          </p:nvSpPr>
          <p:spPr>
            <a:xfrm flipV="1" rot="5400000">
              <a:off x="4528440" y="-3956400"/>
              <a:ext cx="56520" cy="8523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 flipV="1" rot="5400000">
              <a:off x="4418280" y="-4165920"/>
              <a:ext cx="58320" cy="87422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69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" name="Text Box 15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sldNum" idx="1"/>
          </p:nvPr>
        </p:nvSpPr>
        <p:spPr>
          <a:xfrm>
            <a:off x="6800400" y="597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B9939B-0CEF-47FF-A119-1C357441467C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44DF91-50BE-4B80-A78F-6EE73340DF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600" y="52560"/>
            <a:ext cx="80773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371600"/>
            <a:ext cx="4681440" cy="4952880"/>
          </a:xfrm>
          <a:prstGeom prst="rect">
            <a:avLst/>
          </a:prstGeom>
          <a:noFill/>
          <a:ln w="0">
            <a:noFill/>
          </a:ln>
        </p:spPr>
        <p:txBody>
          <a:bodyPr tIns="18000" anchor="t">
            <a:normAutofit/>
          </a:bodyPr>
          <a:p>
            <a:pPr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nl-BE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ормы П.А.Столып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81720" y="1260360"/>
            <a:ext cx="3159000" cy="4953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85800" y="4572000"/>
            <a:ext cx="78487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се усилия правительства, лишь чуть больше 10 % крестьянских хозяйств можно было назвать фермерскими: ориентированными на рынок, применявшими новейшую технику, удобрения, получавшими высокие урожа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095880" cy="3549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4152960"/>
            <a:ext cx="89154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важнейших направлений аграрных реформ была политик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ссового переселения крестьян за Ура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о хотело ослабить земельный голод во внутренних губерниях России, отправить миллионы безземельных, недовольных крестьян подальше от помещичьих имений — в Сибирь, где было много пустующей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4952880" cy="2895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4495680"/>
            <a:ext cx="73915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лись многочисленные льготы для желающих отправиться на новые места. Переселенцы на 5 лет освобождались от налогов, получали в собственность землю (15 га на главу семьи и 45 га на остальных членов семьи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4267080"/>
            <a:ext cx="73915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ссуду, которая с 1912 г. в некоторых отдаленных районах доходила до 400 р. на семью (из них 200 р. выдавались безвозмездно). Мужчин освобождали от воинской повинност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е годы реформы переселение развивалось быстрыми темп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819520" y="1066680"/>
            <a:ext cx="4952880" cy="3051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7" name="Text Box 5"/>
          <p:cNvSpPr/>
          <p:nvPr/>
        </p:nvSpPr>
        <p:spPr>
          <a:xfrm>
            <a:off x="457200" y="1676520"/>
            <a:ext cx="2133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риним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т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волостн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тарос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селенческая поли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286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этот процесс несколько замедлился. Всего с 1906 по 1914 г. в Сибирь переселились 3 млн 40 тыс. человек. Однако переселенческое ведомство плохо подготовилось к перевозке и устройству на новых местах огромной массы людей, и часть переселенцев возвратилась в места прежнего проживания (около 17 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6324480" cy="3124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838080"/>
            <a:ext cx="4191120" cy="321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« Столыпинские галстуки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 года по приговорам военно-полевых судов было казнено более 3,5 тыс. человек. Виселицы на которых казнили людей получили название («столыпинские галстуки»)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898880" y="914400"/>
            <a:ext cx="382752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538600" cy="4064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6" name="Rectangle 2"/>
          <p:cNvSpPr/>
          <p:nvPr/>
        </p:nvSpPr>
        <p:spPr>
          <a:xfrm>
            <a:off x="-753120" y="338040"/>
            <a:ext cx="109584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«Дайте мне двадцать лет покоя, и 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реформирую всю Россию!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11280" y="4140360"/>
            <a:ext cx="7848360" cy="247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1 сентября 1911 г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неожиданно была прервана опера Римского-Корсакова «Сказка о царе Салтане», выстрелом террориста-анархиста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митрия Багрова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был убит российский премьер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етр Аркадьевич Столып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092320" cy="216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1420920" y="2340000"/>
            <a:ext cx="2178000" cy="1604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3919680" y="1079640"/>
            <a:ext cx="4721040" cy="296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1"/>
          <p:cNvSpPr txBox="1"/>
          <p:nvPr/>
        </p:nvSpPr>
        <p:spPr>
          <a:xfrm>
            <a:off x="1676520" y="60948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м нужны велик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отрясения,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ам нужн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еликая Россия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2700360"/>
            <a:ext cx="2811240" cy="3933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основные реформы, которые были проведены правительством П.А.Столып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09480" y="914400"/>
            <a:ext cx="4343400" cy="558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в Виленскую гимназию, Петр Аркадьевич в 1881 г. поступил на физико-математический факультет Петербургского университета. В 1903 г. его назначили губернатором Саратов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й губер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06 г. становится премьер-министром . С именем П.А. Столыпина связывается разработка и проведение ряда преобразований, самой крупной из которых стала аграрная реф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тр Аркадьевич Столып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44840" cy="5410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ло организовано переселение крестьян в Сибирь и на Дальний Во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рестьян переселяли из центральных районов в Сибир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.А.Столыпин считал, что революционеры мешают проводить реформы в стра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447920" y="152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0" y="4518000"/>
            <a:ext cx="8839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4 августа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публикована правительственная программа. Она состояла из двух частей. В первой обосновывалась необходимость успокоения страны при помощи чрезвычайных мер и объявления в некоторых районах империи военного положения с введением там военно-полевых су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105160" cy="3400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2120" y="5486400"/>
            <a:ext cx="7848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части предлагалось немедленно, не дожидаясь созы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мы, начать аграрную рефор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447920" y="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772400" cy="4469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523880" y="228600"/>
            <a:ext cx="586764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блемы российской дерев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80880" y="914400"/>
            <a:ext cx="853452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Крестьянская общ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1981080"/>
            <a:ext cx="845820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тсутствие многочисленного класса собственников в дерев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57200" y="4343400"/>
            <a:ext cx="8305920" cy="21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енаселение центральных районов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07880" y="1800360"/>
            <a:ext cx="859176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было объявлено о подготовке законопроектов, которые должны были серьезнейшим образом изменить страну: о свободе вероисповедания, о гражданском равноправии, об улучшении быта рабочих, о реформе местного самоуправления, о реформе высшей и средней школы, о введении всеобщего начального обучения и улучшении материального обеспечения народных учителей, о подоходном налоге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619280" y="26028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рограмма рефор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4" name="Text Box 2"/>
          <p:cNvSpPr/>
          <p:nvPr/>
        </p:nvSpPr>
        <p:spPr>
          <a:xfrm>
            <a:off x="609480" y="4572000"/>
            <a:ext cx="784872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ноября 1906 г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издан указ, разрешивший свободный выход крестьян из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ходя из общины, крестьянин получал в частную собственность все закрепленные за ним наделы и мог требовать, чтобы они был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ы в один учас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62120" y="5257800"/>
            <a:ext cx="7848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оощрял образова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ичье землевладение оставалось неприкосновен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6172200" cy="3894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533520" y="205740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.Столы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знакоми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 хуторски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хозяй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19320" y="990720"/>
            <a:ext cx="6781680" cy="2043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уб </a:t>
            </a:r>
            <a:r>
              <a:rPr b="1" i="1" lang="ru-RU" sz="3200" spc="-1" strike="noStrike" u="sng">
                <a:solidFill>
                  <a:srgbClr val="6da4cd"/>
                </a:solidFill>
                <a:uFillTx/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земли, 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е 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сохранение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двора в дерев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143000" y="3124080"/>
            <a:ext cx="6781680" cy="253116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у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участок земл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крестьянин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выходе ег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ины 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селением из деревни на свой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31640" y="974880"/>
            <a:ext cx="78487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я указ о разрушении общины, Столыпин имел в виду сразу нескольк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й.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371600" y="304920"/>
            <a:ext cx="586728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Разрушение общ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2209680"/>
            <a:ext cx="85345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редоточенных по хутор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естья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нятых своими хозяйствами, поднять на бунт будет очень трудн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0880" y="358128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ать широкий слой мелких собственников и тем самым обеспечить стабильность в обществ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60360" y="4933800"/>
            <a:ext cx="830592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лечь внимание крестьян от идеи захватить и разделить помещичьи земл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10:16:57Z</dcterms:created>
  <dc:creator>***</dc:creator>
  <dc:description/>
  <dc:language>en-US</dc:language>
  <cp:lastModifiedBy>packardbell</cp:lastModifiedBy>
  <dcterms:modified xsi:type="dcterms:W3CDTF">2020-04-12T16:16:51Z</dcterms:modified>
  <cp:revision>18</cp:revision>
  <dc:subject/>
  <dc:title>Презентация PowerPoint</dc:title>
</cp:coreProperties>
</file>