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198-ACDB-4A19-9564-53106EFD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E41-B6F6-441D-800C-DCBB91F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09A-A3F6-4E93-8F28-F79BB22E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19F-75AC-42D4-A73F-90CA4BAA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C0E-6C0A-4629-B403-E116E338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9E06-A35A-4EDE-8972-C5A7895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3FE-5C7F-4B78-B268-4F4E5B3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4F01-3C9B-4376-AECD-E8265CC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0C2F-BA60-4EEE-8D02-5872E59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0B0E-A6C8-427A-B6E8-4CBF2D6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95DF-9151-4210-ABDD-F7413C3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A59-B79D-4DB1-8DE3-120F0273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B74-1BA8-4899-A577-11F07D8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817-4D3A-4700-AB59-D3F5294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A092-A88B-43BD-9BBA-99CB155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2ED-D6C7-48D5-8060-417C6777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9144-D536-42DF-B2A1-D03ECF9F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4850-A20D-41C3-BA0D-B614516D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481B-C31C-4B0B-8C59-7B09B3DB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3C85-A197-4AAE-A504-063F9E77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77C6-884E-4099-8627-38329969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DFAB-9D14-4200-82A4-5BC5E41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CD4-2BA8-4698-8520-A5C701D4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2F78-80E9-47EA-8C9C-EA5205B7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CFA7-B420-4F04-A07A-39C7F65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BF9B-E407-4306-8B35-38AAC6A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3F7C-DCB1-4103-AB70-F76BC35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3E0A-98A3-40F1-8EBD-A57DA98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1820-1F37-4BB4-9FBF-ACDD0EC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835E-43C5-4F7A-84FC-4BFF856E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086E-613B-433F-A4C8-238CF434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289-8C38-4C7C-AA68-CD05410C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B931-DB94-412D-A596-F35EEF11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F1D-A073-4BA2-9C74-EF148C8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E968-E555-4127-9A43-263B4E3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5AE6-1149-4BB5-BB0B-15A70040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8525-DD02-4FE1-8CED-D59B1798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3550-8F1E-489A-9C84-3865A20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49A9-BACB-4CF4-9011-27E9A2C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0FB8-FE94-4C4B-B473-F51CEF8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B632-311B-463F-857A-679D59E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D2D7-3F2D-4E4B-9416-0DC641E0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62C3-CBE2-4C23-9D0B-20BF042C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53C8-4FFF-4A31-8D91-7C9A97D9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B90-E847-4D94-A91D-247A752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0898-8893-4003-9B69-91B6397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ED0B3-95BB-4E56-BE83-33362496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F32A-EA85-4011-9DF9-63A080C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6497-3B6B-4B62-9C88-F8CC6AB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E15F-7EFA-40A3-9400-52EC5418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56FAB-9DFB-4084-A5F0-E28EFF3D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58FD-B578-4061-82CF-379FDBFA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A1045-6844-4110-98E6-AEAFD7FC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86C6-11B0-48CF-AF03-0960317C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E7EE-D5C6-4F19-ACA8-443203A2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AC4-1248-4F2B-813A-0910BA7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B1FD-51E5-4BEE-98DC-21F09D95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6F2D-1DB7-43A8-A148-55DC5A7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D85EE-388D-4609-9424-C5861796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9437-E72B-4C01-B484-363FD9E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EFB8-2E3E-485E-81E0-CAC793A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D8B1-340B-4E31-82C0-75072CD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DA65-72CC-4143-BEE4-15952CDF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FEF0B-5618-4F0F-B8D1-9514918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60AF-26A4-4CDC-80C2-288F787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54B4-888D-46A7-A43F-A500ED2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960-A5E3-4195-BE38-A69C861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8930-19BB-4530-B011-2B0F233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E167-8A5A-497A-BF69-2BD3569E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5A72-D563-43A5-861F-2A191EA5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F4398-3586-4076-8B98-0A868EDC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5E8A-A4C2-42D6-9915-2BBCB051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E37BA-6960-4AA3-AFDC-5D85C33B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6182-87D2-42A0-82F9-4F06C21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0F3B3-2464-4174-928A-34B8943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E417-C9A6-4B89-8A20-BA6D993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49EE-019C-446A-B220-E9B3B4A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4CE-797A-4713-8D6F-1A928C5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0A5E6-1760-493F-A04B-47F2892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B2D8-B9A4-4A63-B895-594747D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B4861-7FA6-4F56-8501-94E131DD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273A-D9A4-4E76-B124-F786A94A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6692-357D-4EFE-A0E3-50243F25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8909-143D-4657-8111-3748E05A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AB20F-64FC-4DFF-BF5E-CD6F9333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7D31A-8B92-4EA5-9B0D-DF3E4A1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F7FE-AE0D-4E50-A5E0-474BDEB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B153-623D-4583-8540-0F7D1525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0FD-2AF6-498A-B0C6-E7757CC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05CCE-5595-4004-943E-4D2257F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E6FFB-25E1-4F5C-81C2-78D9784B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E668-3183-4C40-A598-4DB7F83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D0ED-8533-4ADA-A0CD-312FD21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BB00-9CD3-4F03-BCEC-5D02DC20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43FE-B778-45F2-9781-AD88AD24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3F82-EB44-4949-B322-52FDA22B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2F7-D83C-468E-8B05-56D1808D45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D9A-C0B5-47D6-87A1-5DD98AB0795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227-C37A-41FC-A2B6-DE55B9B4878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2F4-960A-4C78-B0D7-D470338CC2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855-8056-4D9F-814B-98121B0C9F8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419-BB63-424C-8E22-4003B7E0E73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2AC-24B8-4F19-A561-1F3067BE745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67AA-46DE-4E4F-9A9D-7C0BF0C1619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171360" y="115920"/>
            <a:ext cx="9204480" cy="2352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76a55"/>
                </a:solidFill>
                <a:latin typeface="Lucida Sans Unicode"/>
              </a:rPr>
              <a:t>Правильное и уместное употребление числительных в косвенных падеж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lfaen"/>
              </a:rPr>
              <a:t>60</a:t>
            </a: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 представлен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lfaen"/>
              </a:rPr>
              <a:t>80</a:t>
            </a: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 симфон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lfaen"/>
              </a:rPr>
              <a:t>400 </a:t>
            </a: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танцо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lfaen"/>
              </a:rPr>
              <a:t>700</a:t>
            </a: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 учащихс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lfaen"/>
              </a:rPr>
              <a:t>900</a:t>
            </a:r>
            <a:r>
              <a:rPr b="1" lang="ru-RU" sz="2800" spc="-1" strike="noStrike">
                <a:solidFill>
                  <a:srgbClr val="0000ff"/>
                </a:solidFill>
                <a:latin typeface="Sylfaen"/>
              </a:rPr>
              <a:t> здан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19240" y="79200"/>
            <a:ext cx="872316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103320" y="1773360"/>
          <a:ext cx="8821440" cy="4889520"/>
        </p:xfrm>
        <a:graphic>
          <a:graphicData uri="http://schemas.openxmlformats.org/drawingml/2006/table">
            <a:tbl>
              <a:tblPr/>
              <a:tblGrid>
                <a:gridCol w="4468680"/>
                <a:gridCol w="435276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Т.п.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П.п.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я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представле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ше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представле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восьм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я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симфо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восьм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т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симфо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четыр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мя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танцо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четы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е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танцор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ем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учащ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м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сем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учащ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х</a:t>
                      </a: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onstantia"/>
                        </a:rPr>
                        <a:t>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вя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зда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дев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здани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я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4"/>
          <p:cNvSpPr/>
          <p:nvPr/>
        </p:nvSpPr>
        <p:spPr>
          <a:xfrm>
            <a:off x="428760" y="345960"/>
            <a:ext cx="8286480" cy="3567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Sylfaen"/>
              </a:rPr>
              <a:t>При склонении дробных числительных изменяются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Sylfaen"/>
              </a:rPr>
              <a:t>об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Sylfaen"/>
              </a:rPr>
              <a:t>1-ая часть склоняется как </a:t>
            </a:r>
            <a:r>
              <a:rPr b="1" lang="ru-RU" sz="3200" spc="-1" strike="noStrike">
                <a:solidFill>
                  <a:srgbClr val="ff0000"/>
                </a:solidFill>
                <a:latin typeface="Sylfaen"/>
              </a:rPr>
              <a:t>числительное, обозначающее целое число </a:t>
            </a:r>
            <a:r>
              <a:rPr b="1" lang="ru-RU" sz="3200" spc="-1" strike="noStrike">
                <a:solidFill>
                  <a:srgbClr val="0000ff"/>
                </a:solidFill>
                <a:latin typeface="Sylfaen"/>
              </a:rPr>
              <a:t>(§ 5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Sylfaen"/>
              </a:rPr>
              <a:t>2-ая – как </a:t>
            </a:r>
            <a:r>
              <a:rPr b="1" lang="ru-RU" sz="3200" spc="-1" strike="noStrike">
                <a:solidFill>
                  <a:srgbClr val="ff0000"/>
                </a:solidFill>
                <a:latin typeface="Sylfaen"/>
              </a:rPr>
              <a:t>прилагательное во мн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187280" y="3573360"/>
          <a:ext cx="6769440" cy="1646280"/>
        </p:xfrm>
        <a:graphic>
          <a:graphicData uri="http://schemas.openxmlformats.org/drawingml/2006/table">
            <a:tbl>
              <a:tblPr/>
              <a:tblGrid>
                <a:gridCol w="2376720"/>
                <a:gridCol w="4392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Д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к тр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ем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пят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ы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Т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 тр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емя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пят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ы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402" name="TextBox 3" descr=""/>
          <p:cNvPicPr/>
          <p:nvPr/>
        </p:nvPicPr>
        <p:blipFill>
          <a:blip r:embed="rId2"/>
          <a:stretch/>
        </p:blipFill>
        <p:spPr>
          <a:xfrm>
            <a:off x="426960" y="1981080"/>
            <a:ext cx="8363160" cy="3054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СТНО просклоняйте числительные вместе с существительным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27e56"/>
                </a:solidFill>
                <a:latin typeface="Lucida Sans Unicode"/>
              </a:rPr>
              <a:t>ОДНА РУЧ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27e56"/>
                </a:solidFill>
                <a:latin typeface="Lucida Sans Unicode"/>
              </a:rPr>
              <a:t>ЧЕТЫРЕ КОМНА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27e56"/>
                </a:solidFill>
                <a:latin typeface="Lucida Sans Unicode"/>
              </a:rPr>
              <a:t>ДВА УЧЕНИ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27e56"/>
                </a:solidFill>
                <a:latin typeface="Lucida Sans Unicode"/>
              </a:rPr>
              <a:t>ШЕСТЬ КИЛОГРАММ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а замени словам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Lucida Sans Unicode"/>
              </a:rPr>
              <a:t>К 11+ 8;  к 18+ 5; от 15 – 12; от 40 – 18;  к 80 + 40;              к 25+ 15; 125: 25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авь слова в форму нужного падежа, обозначь орфограмму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Lucida Sans Unicode"/>
              </a:rPr>
              <a:t>Около (деревня), у (поверхность),             в (очередь), о ( четырнадцать растений), при(помощь),                               к (тринадцать страниц), на (ладони), около (восемнадцать часов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08000" y="14810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авьте на месте пропуска одно из трёх подходящих по смыслу числительных (40,90, 100), поставив его в нужную форму. Определите падеж числительны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Lucida Sans Unicode"/>
              </a:rPr>
              <a:t>К ___годам, более ___километров, около ___ метров, заполнить ___ литрами воды, рассказывать о ___ своих ученика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95280" y="1268280"/>
          <a:ext cx="8435880" cy="4754520"/>
        </p:xfrm>
        <a:graphic>
          <a:graphicData uri="http://schemas.openxmlformats.org/drawingml/2006/table">
            <a:tbl>
              <a:tblPr/>
              <a:tblGrid>
                <a:gridCol w="749160"/>
                <a:gridCol w="2922840"/>
                <a:gridCol w="2654280"/>
                <a:gridCol w="2109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Мужской, 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Множ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ин           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ин       одно, од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, од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.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б) од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б)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д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б) од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365040" y="262080"/>
            <a:ext cx="8400960" cy="871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71640" y="3500280"/>
          <a:ext cx="7985160" cy="2943360"/>
        </p:xfrm>
        <a:graphic>
          <a:graphicData uri="http://schemas.openxmlformats.org/drawingml/2006/table">
            <a:tbl>
              <a:tblPr/>
              <a:tblGrid>
                <a:gridCol w="798516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Числительное ОДИН изменяется по родам и числам и согласуется с существительным во всех падежах, как прилагательно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т одушевлённости – неодушевлённости                 ( один дом, один учени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376" name="Объект 1"/>
          <p:cNvSpPr/>
          <p:nvPr/>
        </p:nvSpPr>
        <p:spPr>
          <a:xfrm>
            <a:off x="403200" y="1633680"/>
            <a:ext cx="87138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согласуется числительное ОДИН с существительным, например: один добрый человек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 чего зависит употребление формы ОДИН- ОДНОГО в Вин.п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57200" y="1481040"/>
          <a:ext cx="8229600" cy="4211640"/>
        </p:xfrm>
        <a:graphic>
          <a:graphicData uri="http://schemas.openxmlformats.org/drawingml/2006/table">
            <a:tbl>
              <a:tblPr/>
              <a:tblGrid>
                <a:gridCol w="946080"/>
                <a:gridCol w="2881440"/>
                <a:gridCol w="234468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(м, ср.р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в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(ж.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еты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в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рё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етырё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в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р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етыр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ак Им или Р.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ак Им или Р.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ак Им или Р.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ву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етырь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.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) дв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рё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о)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етырё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37960" y="36360"/>
            <a:ext cx="8467920" cy="1341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24000" y="2735280"/>
          <a:ext cx="8429400" cy="3301920"/>
        </p:xfrm>
        <a:graphic>
          <a:graphicData uri="http://schemas.openxmlformats.org/drawingml/2006/table">
            <a:tbl>
              <a:tblPr/>
              <a:tblGrid>
                <a:gridCol w="8429400"/>
              </a:tblGrid>
              <a:tr h="33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Числительное ДВА в И.п имеет две формы рода: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дв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(м и ср.р) и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две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ж.р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Два клёна. Два окна. Две берёз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У числительных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дин, два, три, четыр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В.п совпадает с И.п, если существительное неодушевлённое, и с Р.п, если существительное одушевлённое.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884520"/>
          </a:xfrm>
          <a:prstGeom prst="rect">
            <a:avLst/>
          </a:prstGeom>
          <a:ln w="0">
            <a:noFill/>
          </a:ln>
        </p:spPr>
      </p:pic>
      <p:sp>
        <p:nvSpPr>
          <p:cNvPr id="381" name="Объект 1"/>
          <p:cNvSpPr/>
          <p:nvPr/>
        </p:nvSpPr>
        <p:spPr>
          <a:xfrm>
            <a:off x="403200" y="1633680"/>
            <a:ext cx="87138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 чего зависит употребление форм Вин.п – два- двух, три – трёх, четыре - четырёх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57200" y="1459080"/>
          <a:ext cx="8435880" cy="2835000"/>
        </p:xfrm>
        <a:graphic>
          <a:graphicData uri="http://schemas.openxmlformats.org/drawingml/2006/table">
            <a:tbl>
              <a:tblPr/>
              <a:tblGrid>
                <a:gridCol w="2108160"/>
                <a:gridCol w="2109960"/>
                <a:gridCol w="2057400"/>
                <a:gridCol w="2160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м, Вин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осем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тридц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Р,Д,П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пя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вось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тридца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Тв.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пят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восьм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(восемью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527e56"/>
                          </a:solidFill>
                          <a:latin typeface="Lucida Sans Unicode"/>
                        </a:rPr>
                        <a:t>тридцат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43960" cy="1341360"/>
          </a:xfrm>
          <a:prstGeom prst="rect">
            <a:avLst/>
          </a:prstGeom>
          <a:ln w="0">
            <a:noFill/>
          </a:ln>
        </p:spPr>
      </p:pic>
      <p:sp>
        <p:nvSpPr>
          <p:cNvPr id="384" name="Объект 1"/>
          <p:cNvSpPr/>
          <p:nvPr/>
        </p:nvSpPr>
        <p:spPr>
          <a:xfrm>
            <a:off x="179280" y="4437000"/>
            <a:ext cx="8937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стно просклоняй существительное СТЕПЬ, сравни падежные окончания существительного и числительных данной группы. Сделай выво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468360" y="1341360"/>
          <a:ext cx="8429400" cy="3301920"/>
        </p:xfrm>
        <a:graphic>
          <a:graphicData uri="http://schemas.openxmlformats.org/drawingml/2006/table">
            <a:tbl>
              <a:tblPr/>
              <a:tblGrid>
                <a:gridCol w="8429400"/>
              </a:tblGrid>
              <a:tr h="33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остые количественные числительные от 5 до 20 и 30 склоняются, как существительные 3-го склон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 Род, Дат и Пр. падежах  в окончании пишется буква 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 пятнадцат</a:t>
                      </a:r>
                      <a:r>
                        <a:rPr b="1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Lucida Sans Unicode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(Д.п) час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07092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{6449B24B-1089-4F9E-9925-C66F83B5B15E}"/>
          <p:cNvPicPr/>
          <p:nvPr/>
        </p:nvPicPr>
        <p:blipFill>
          <a:blip r:embed="rId2"/>
          <a:stretch/>
        </p:blipFill>
        <p:spPr>
          <a:xfrm>
            <a:off x="336600" y="112536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391" name="Объект 1"/>
          <p:cNvSpPr/>
          <p:nvPr/>
        </p:nvSpPr>
        <p:spPr>
          <a:xfrm>
            <a:off x="1790640" y="6616800"/>
            <a:ext cx="73533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Объект 1"/>
          <p:cNvSpPr/>
          <p:nvPr/>
        </p:nvSpPr>
        <p:spPr>
          <a:xfrm>
            <a:off x="3708360" y="6165720"/>
            <a:ext cx="5192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Имеют две падежные форм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231840" y="109440"/>
            <a:ext cx="8461440" cy="185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125280" y="3141720"/>
          <a:ext cx="8821800" cy="3505320"/>
        </p:xfrm>
        <a:graphic>
          <a:graphicData uri="http://schemas.openxmlformats.org/drawingml/2006/table">
            <a:tbl>
              <a:tblPr/>
              <a:tblGrid>
                <a:gridCol w="2867040"/>
                <a:gridCol w="2940120"/>
                <a:gridCol w="30146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От 50 до 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От 500 до 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200, 300, 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И.п.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пять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Р.п.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п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Д.п.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п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ес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В.п.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пятьдес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Т.п.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ylfaen"/>
                        </a:rPr>
                        <a:t>пя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Sylfaen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ylfaen"/>
                        </a:rPr>
                        <a:t>деся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Sylfae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П.п.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ylfaen"/>
                        </a:rPr>
                        <a:t>о п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Sylfae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ylfaen"/>
                        </a:rPr>
                        <a:t>деся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Sylfae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ь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ь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шесть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ше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у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ум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умя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о дв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ух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ст</a:t>
                      </a: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1:00:09Z</dcterms:created>
  <dc:creator>Администратор</dc:creator>
  <dc:description/>
  <dc:language>en-US</dc:language>
  <cp:lastModifiedBy>admin</cp:lastModifiedBy>
  <dcterms:modified xsi:type="dcterms:W3CDTF">2020-04-11T20:57:41Z</dcterms:modified>
  <cp:revision>17</cp:revision>
  <dc:subject/>
  <dc:title>Склонение числительных</dc:title>
</cp:coreProperties>
</file>