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029C-004E-442C-A1C1-9465EFEDF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80B-4244-405E-9B6A-71D36E07ECD7}" type="slidenum">
              <a:rPr b="0" lang="ru-RU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46E-BFF0-44A2-A907-56AAA6B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B12-B184-4E57-9A9C-C8DE71C1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B46-C363-4A92-87D2-C0DBCA62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2F2-A1EF-4F70-8D47-ADA48084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962C-D694-49A5-9B05-F68B8AFC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2D39-B33A-4EFC-A1F9-BB6C5C7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C7B2-67AF-4107-A2EC-9422B4DB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B8B3-3114-430E-BC31-7F745294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BF1-9FA2-4309-B535-7CC20D4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061-BC1E-4AE6-8047-D72E59B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67C-E89E-4693-9C8C-8C0CAFC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813-E785-4562-A3A0-0971611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34DB-D8DD-4905-B0F3-EBC55DC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B143-BBC6-492C-8F57-B09BE82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B918-E13D-4A08-8A4A-974C451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1487-F0C8-4CF6-851C-F76772D1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65D-7A4F-4646-9FC3-A012D386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C5D3-3269-4B7D-88E0-E4F0D16C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036E3-75C3-4466-A680-7364D6E4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1D549-2F4F-48C7-BF31-AF08EF5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E6294-295A-4728-9F48-63225953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B7AA6-8C33-438C-B0EC-71E4DCB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71F-185C-47A5-AF19-485B932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D67D0-C8EC-4622-B846-5D8690EA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9DDA2-9EB9-48EB-B790-416C985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65FC-A424-4218-8AE1-6BB0137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924A3-9E29-4446-8ABD-A9232AC9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92AE7-1B70-449E-A61E-E804885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EEFE-91C6-4F62-B3C5-D837AEC6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D2A1B-771C-402D-8189-81AD0B60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49A-D5F3-4E6C-A25A-2140F56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497-5B7A-4A7D-A2B2-A98EE220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576-2884-4A53-B4ED-885BFB7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5AC-60E3-4A70-82E6-93E833C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4C7-0E1B-4DD2-B9C2-322E46C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5E3-DFDB-4618-9F9A-163C5C5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9170-760D-4A09-8EA6-982E1E6F8A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8B41-C41E-48E2-8928-6424C9C449CB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77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86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87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8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9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6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7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8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9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1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2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8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8D5-4C27-4491-914F-8E07BEA3477A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dt" idx="9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5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4240" y="2714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УРОК РУССКОГО ЯЗЫКА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в 4 классе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Проверим домашнее 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rcRect l="0" t="47902" r="0" b="14889"/>
          <a:stretch/>
        </p:blipFill>
        <p:spPr>
          <a:xfrm>
            <a:off x="1135080" y="2133720"/>
            <a:ext cx="6873840" cy="3598920"/>
          </a:xfrm>
          <a:prstGeom prst="rect">
            <a:avLst/>
          </a:prstGeom>
          <a:ln w="0">
            <a:noFill/>
          </a:ln>
        </p:spPr>
      </p:pic>
      <p:sp>
        <p:nvSpPr>
          <p:cNvPr id="306" name="Блок-схема: процесс 4"/>
          <p:cNvSpPr/>
          <p:nvPr/>
        </p:nvSpPr>
        <p:spPr>
          <a:xfrm>
            <a:off x="1403280" y="3789360"/>
            <a:ext cx="360360" cy="19432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3535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55640" y="1844640"/>
            <a:ext cx="7772400" cy="1728720"/>
          </a:xfrm>
          <a:prstGeom prst="rect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8f8f8"/>
                </a:solidFill>
                <a:latin typeface="Times New Roman"/>
              </a:rPr>
              <a:t>Словосочетание – 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это два  слова, соединенных между собой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грамматически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 или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по смыслу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1476360" y="4365720"/>
            <a:ext cx="6048360" cy="734040"/>
          </a:xfrm>
          <a:prstGeom prst="rect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Словосочетанием не является 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Грамматическая основа предложени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1071720" y="285768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лова в словосочетании связан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ОДЧИНИТЕЛЬНОЙ связью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611280" y="2276640"/>
            <a:ext cx="782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ежду однородными членами предложения связь СОЧИНИТЕЛЬ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696960" y="4724280"/>
            <a:ext cx="782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ожем ли мы однородные члены предложения называть словосочетаниями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1071720" y="2857680"/>
            <a:ext cx="70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Что лишнее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1. грибы и ягод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2. красные ягод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3. корзинка для гриб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Типы связи слов в словосочетании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193760" y="2430360"/>
            <a:ext cx="23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2987640" y="4005360"/>
            <a:ext cx="29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5292720" y="284652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Стрелка вниз 1"/>
          <p:cNvSpPr/>
          <p:nvPr/>
        </p:nvSpPr>
        <p:spPr>
          <a:xfrm rot="999000">
            <a:off x="2368440" y="1282680"/>
            <a:ext cx="484200" cy="136836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1" name="Стрелка вниз 9"/>
          <p:cNvSpPr/>
          <p:nvPr/>
        </p:nvSpPr>
        <p:spPr>
          <a:xfrm>
            <a:off x="4070520" y="1241280"/>
            <a:ext cx="483840" cy="30513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2" name="Стрелка вниз 10"/>
          <p:cNvSpPr/>
          <p:nvPr/>
        </p:nvSpPr>
        <p:spPr>
          <a:xfrm rot="20739000">
            <a:off x="5751000" y="1146240"/>
            <a:ext cx="486000" cy="2036520"/>
          </a:xfrm>
          <a:prstGeom prst="downArrow">
            <a:avLst>
              <a:gd name="adj1" fmla="val 50000"/>
              <a:gd name="adj2" fmla="val 49858"/>
            </a:avLst>
          </a:prstGeom>
          <a:solidFill>
            <a:srgbClr val="29ff29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2414520" y="907920"/>
            <a:ext cx="4272120" cy="92736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3" descr=""/>
          <p:cNvPicPr/>
          <p:nvPr/>
        </p:nvPicPr>
        <p:blipFill>
          <a:blip r:embed="rId3"/>
          <a:stretch/>
        </p:blipFill>
        <p:spPr>
          <a:xfrm>
            <a:off x="2170080" y="4870440"/>
            <a:ext cx="4754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2" descr=""/>
          <p:cNvPicPr/>
          <p:nvPr/>
        </p:nvPicPr>
        <p:blipFill>
          <a:blip r:embed="rId1"/>
          <a:stretch/>
        </p:blipFill>
        <p:spPr>
          <a:xfrm>
            <a:off x="971640" y="179388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1" descr=""/>
          <p:cNvPicPr/>
          <p:nvPr/>
        </p:nvPicPr>
        <p:blipFill>
          <a:blip r:embed="rId2"/>
          <a:stretch/>
        </p:blipFill>
        <p:spPr>
          <a:xfrm>
            <a:off x="2414520" y="907920"/>
            <a:ext cx="4272120" cy="92736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3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3475080" cy="157320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" descr=""/>
          <p:cNvPicPr/>
          <p:nvPr/>
        </p:nvPicPr>
        <p:blipFill>
          <a:blip r:embed="rId4"/>
          <a:stretch/>
        </p:blipFill>
        <p:spPr>
          <a:xfrm>
            <a:off x="2266920" y="4151160"/>
            <a:ext cx="35845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907920"/>
            <a:ext cx="5040360" cy="9273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3" descr=""/>
          <p:cNvPicPr/>
          <p:nvPr/>
        </p:nvPicPr>
        <p:blipFill>
          <a:blip r:embed="rId2"/>
          <a:stretch/>
        </p:blipFill>
        <p:spPr>
          <a:xfrm>
            <a:off x="1523880" y="4870440"/>
            <a:ext cx="6053400" cy="585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3"/>
          <a:stretch/>
        </p:blipFill>
        <p:spPr>
          <a:xfrm>
            <a:off x="3276720" y="2060640"/>
            <a:ext cx="26701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imes New Roman"/>
              </a:rPr>
              <a:t>Словосочетание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907920"/>
            <a:ext cx="5040360" cy="92736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3" descr=""/>
          <p:cNvPicPr/>
          <p:nvPr/>
        </p:nvPicPr>
        <p:blipFill>
          <a:blip r:embed="rId2"/>
          <a:stretch/>
        </p:blipFill>
        <p:spPr>
          <a:xfrm>
            <a:off x="4164120" y="2346480"/>
            <a:ext cx="2882880" cy="15732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" descr=""/>
          <p:cNvPicPr/>
          <p:nvPr/>
        </p:nvPicPr>
        <p:blipFill>
          <a:blip r:embed="rId3"/>
          <a:stretch/>
        </p:blipFill>
        <p:spPr>
          <a:xfrm>
            <a:off x="1042920" y="1817640"/>
            <a:ext cx="1656000" cy="154008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4" descr=""/>
          <p:cNvPicPr/>
          <p:nvPr/>
        </p:nvPicPr>
        <p:blipFill>
          <a:blip r:embed="rId4"/>
          <a:stretch/>
        </p:blipFill>
        <p:spPr>
          <a:xfrm>
            <a:off x="1762200" y="4406760"/>
            <a:ext cx="504036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Прямоугольник 1" descr=""/>
          <p:cNvPicPr/>
          <p:nvPr/>
        </p:nvPicPr>
        <p:blipFill>
          <a:blip r:embed="rId1"/>
          <a:stretch/>
        </p:blipFill>
        <p:spPr>
          <a:xfrm>
            <a:off x="2249640" y="907920"/>
            <a:ext cx="4601880" cy="927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4" descr=""/>
          <p:cNvPicPr/>
          <p:nvPr/>
        </p:nvPicPr>
        <p:blipFill>
          <a:blip r:embed="rId2"/>
          <a:stretch/>
        </p:blipFill>
        <p:spPr>
          <a:xfrm>
            <a:off x="1542960" y="4578480"/>
            <a:ext cx="6199200" cy="10792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31258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2249640" y="907920"/>
            <a:ext cx="4601880" cy="92736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1914480"/>
            <a:ext cx="3333960" cy="15717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2" descr=""/>
          <p:cNvPicPr/>
          <p:nvPr/>
        </p:nvPicPr>
        <p:blipFill>
          <a:blip r:embed="rId3"/>
          <a:stretch/>
        </p:blipFill>
        <p:spPr>
          <a:xfrm>
            <a:off x="1116000" y="1832040"/>
            <a:ext cx="1922400" cy="14396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6" descr=""/>
          <p:cNvPicPr/>
          <p:nvPr/>
        </p:nvPicPr>
        <p:blipFill>
          <a:blip r:embed="rId4"/>
          <a:stretch/>
        </p:blipFill>
        <p:spPr>
          <a:xfrm>
            <a:off x="1762200" y="3932280"/>
            <a:ext cx="29257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127160"/>
            <a:ext cx="6534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1847880"/>
            <a:ext cx="6248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4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64F073-EB2B-4D2C-9E0C-60B8EC15864F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49" name="Organization Chart 17"/>
          <p:cNvGrpSpPr/>
          <p:nvPr/>
        </p:nvGrpSpPr>
        <p:grpSpPr>
          <a:xfrm>
            <a:off x="284040" y="142920"/>
            <a:ext cx="8645760" cy="6503040"/>
            <a:chOff x="284040" y="142920"/>
            <a:chExt cx="8645760" cy="6503040"/>
          </a:xfrm>
        </p:grpSpPr>
        <p:cxnSp>
          <p:nvCxnSpPr>
            <p:cNvPr id="350" name="_s1028"/>
            <p:cNvCxnSpPr/>
            <p:nvPr/>
          </p:nvCxnSpPr>
          <p:spPr>
            <a:xfrm rot="10800000">
              <a:off x="642240" y="640800"/>
              <a:ext cx="877320" cy="460008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351" name="_s1029"/>
            <p:cNvCxnSpPr/>
            <p:nvPr/>
          </p:nvCxnSpPr>
          <p:spPr>
            <a:xfrm rot="10800000">
              <a:off x="429480" y="640800"/>
              <a:ext cx="877320" cy="287532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352" name="_s1030"/>
            <p:cNvCxnSpPr/>
            <p:nvPr/>
          </p:nvCxnSpPr>
          <p:spPr>
            <a:xfrm rot="10800000">
              <a:off x="783000" y="640800"/>
              <a:ext cx="877320" cy="11505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353" name="_s1031"/>
            <p:cNvSpPr/>
            <p:nvPr/>
          </p:nvSpPr>
          <p:spPr>
            <a:xfrm>
              <a:off x="284040" y="142920"/>
              <a:ext cx="8572680" cy="498600"/>
            </a:xfrm>
            <a:prstGeom prst="roundRect">
              <a:avLst>
                <a:gd name="adj" fmla="val 16667"/>
              </a:avLst>
            </a:prstGeom>
            <a:solidFill>
              <a:srgbClr val="98ba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f0000"/>
                  </a:solidFill>
                  <a:latin typeface="Calibri"/>
                </a:rPr>
                <a:t>Типы связей слов в словосочетании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4" name="_s1032"/>
            <p:cNvSpPr/>
            <p:nvPr/>
          </p:nvSpPr>
          <p:spPr>
            <a:xfrm>
              <a:off x="856800" y="713880"/>
              <a:ext cx="7999920" cy="1784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ff"/>
                  </a:solidFill>
                  <a:latin typeface="Calibri"/>
                </a:rPr>
                <a:t>Согласование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лавное слово и зависимое стоят в одинаковых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грамматических формах ( род, число, падеж)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Это словосочетание типа </a:t>
              </a: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«деревянный дом»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Calibri"/>
                </a:rPr>
                <a:t>Предмет + его признак</a:t>
              </a:r>
              <a:endParaRPr b="0" lang="en-US" sz="22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5" name="_s1033"/>
            <p:cNvSpPr/>
            <p:nvPr/>
          </p:nvSpPr>
          <p:spPr>
            <a:xfrm>
              <a:off x="856800" y="2570040"/>
              <a:ext cx="8073000" cy="164484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f8f8f8"/>
                  </a:solidFill>
                  <a:latin typeface="Calibri"/>
                </a:rPr>
                <a:t>Управление</a:t>
              </a:r>
              <a:endParaRPr b="0" lang="en-US" sz="35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От главного слова к зависимому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задается вопрос косвенного падежа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Дом из дерева,  дорога к дому</a:t>
              </a: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783720" y="4359240"/>
              <a:ext cx="8073000" cy="228672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Примыкание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Главное слово и зависимое связаны ТОЛЬКО по смыслу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В роли зависимого слова чаще всего употребляются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неизменяемые части речи или формы слов: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8f8f8"/>
                  </a:solidFill>
                  <a:latin typeface="Calibri"/>
                </a:rPr>
                <a:t>наречие, начальная форма глагола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Быстро бежать,      очень красивый.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ЛГОРИТ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429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Обозначить «Х» (главное слово), задать вопрос к зависимому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Определить часть речи зависимого сло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зменяется ли зависимое слово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нет – примыка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да – изменить главное слов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зменяется зависимое слово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да – согласова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сли нет – управле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3633840" y="1743120"/>
            <a:ext cx="1266840" cy="927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2200320"/>
            <a:ext cx="573120" cy="9270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4" descr=""/>
          <p:cNvPicPr/>
          <p:nvPr/>
        </p:nvPicPr>
        <p:blipFill>
          <a:blip r:embed="rId3"/>
          <a:stretch/>
        </p:blipFill>
        <p:spPr>
          <a:xfrm>
            <a:off x="4267080" y="3359160"/>
            <a:ext cx="3524400" cy="92088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5" descr=""/>
          <p:cNvPicPr/>
          <p:nvPr/>
        </p:nvPicPr>
        <p:blipFill>
          <a:blip r:embed="rId4"/>
          <a:stretch/>
        </p:blipFill>
        <p:spPr>
          <a:xfrm>
            <a:off x="901800" y="4511520"/>
            <a:ext cx="3060720" cy="91944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6" descr=""/>
          <p:cNvPicPr/>
          <p:nvPr/>
        </p:nvPicPr>
        <p:blipFill>
          <a:blip r:embed="rId5"/>
          <a:stretch/>
        </p:blipFill>
        <p:spPr>
          <a:xfrm>
            <a:off x="4784760" y="5084640"/>
            <a:ext cx="28782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Прямоугольник 1" descr=""/>
          <p:cNvPicPr/>
          <p:nvPr/>
        </p:nvPicPr>
        <p:blipFill>
          <a:blip r:embed="rId1"/>
          <a:stretch/>
        </p:blipFill>
        <p:spPr>
          <a:xfrm>
            <a:off x="1450800" y="1554120"/>
            <a:ext cx="5059440" cy="92700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1328760" y="2779560"/>
            <a:ext cx="6913440" cy="92736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оугольник 3" descr=""/>
          <p:cNvPicPr/>
          <p:nvPr/>
        </p:nvPicPr>
        <p:blipFill>
          <a:blip r:embed="rId3"/>
          <a:stretch/>
        </p:blipFill>
        <p:spPr>
          <a:xfrm>
            <a:off x="1450800" y="3932280"/>
            <a:ext cx="54309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4240" y="157176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8f8f8"/>
                </a:solidFill>
                <a:latin typeface="Times New Roman"/>
              </a:rPr>
              <a:t>Словосочетание – 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это два  слова, соединенных между собой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грамматически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 или </a:t>
            </a:r>
            <a:r>
              <a:rPr b="1" lang="ru-RU" sz="3000" spc="-1" strike="noStrike">
                <a:solidFill>
                  <a:srgbClr val="f8f8f8"/>
                </a:solidFill>
                <a:latin typeface="Times New Roman"/>
              </a:rPr>
              <a:t>по смыслу</a:t>
            </a:r>
            <a:r>
              <a:rPr b="0" lang="ru-RU" sz="3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85880" y="3714480"/>
            <a:ext cx="75722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В словосочетании одно слово является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главным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, другое – </a:t>
            </a:r>
            <a:r>
              <a:rPr b="1" lang="ru-RU" sz="2700" spc="-1" strike="noStrike">
                <a:solidFill>
                  <a:srgbClr val="f8f8f8"/>
                </a:solidFill>
                <a:latin typeface="Times New Roman"/>
              </a:rPr>
              <a:t>зависимым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От главного слова к зависимому задается вопрос.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8f8f8"/>
                </a:solidFill>
                <a:latin typeface="Times New Roman"/>
              </a:rPr>
              <a:t>                 </a:t>
            </a:r>
            <a:r>
              <a:rPr b="1" i="1" lang="ru-RU" sz="2700" spc="-1" strike="noStrike">
                <a:solidFill>
                  <a:srgbClr val="f8f8f8"/>
                </a:solidFill>
                <a:latin typeface="Times New Roman"/>
              </a:rPr>
              <a:t>главное слово     зависимое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EA53E1-F492-4D8C-8CF6-44D1B732B95E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35772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 flipH="1">
            <a:off x="3357360" y="5572080"/>
            <a:ext cx="182520" cy="12240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 flipH="1" rot="5400000">
            <a:off x="4371120" y="4487040"/>
            <a:ext cx="122400" cy="2006640"/>
          </a:xfrm>
          <a:custGeom>
            <a:avLst/>
            <a:gdLst>
              <a:gd name="textAreaLeft" fmla="*/ 360 w 122400"/>
              <a:gd name="textAreaRight" fmla="*/ 86400 w 12240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929040" y="5143680"/>
            <a:ext cx="91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520" bIns="385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8f8f8"/>
                </a:solidFill>
                <a:latin typeface="Calibri"/>
              </a:rPr>
              <a:t>вопрос</a:t>
            </a:r>
            <a:endParaRPr b="0" lang="en-US" sz="1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5429160" y="5500800"/>
            <a:ext cx="0" cy="1825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Прямоугольник 1" descr=""/>
          <p:cNvPicPr/>
          <p:nvPr/>
        </p:nvPicPr>
        <p:blipFill>
          <a:blip r:embed="rId1"/>
          <a:stretch/>
        </p:blipFill>
        <p:spPr>
          <a:xfrm>
            <a:off x="1189080" y="177336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2" descr=""/>
          <p:cNvPicPr/>
          <p:nvPr/>
        </p:nvPicPr>
        <p:blipFill>
          <a:blip r:embed="rId2"/>
          <a:stretch/>
        </p:blipFill>
        <p:spPr>
          <a:xfrm>
            <a:off x="1865160" y="1773360"/>
            <a:ext cx="3024360" cy="9205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3" descr=""/>
          <p:cNvPicPr/>
          <p:nvPr/>
        </p:nvPicPr>
        <p:blipFill>
          <a:blip r:embed="rId3"/>
          <a:stretch/>
        </p:blipFill>
        <p:spPr>
          <a:xfrm>
            <a:off x="4992840" y="1749600"/>
            <a:ext cx="2912760" cy="92052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4" descr=""/>
          <p:cNvPicPr/>
          <p:nvPr/>
        </p:nvPicPr>
        <p:blipFill>
          <a:blip r:embed="rId4"/>
          <a:stretch/>
        </p:blipFill>
        <p:spPr>
          <a:xfrm>
            <a:off x="2925720" y="3151080"/>
            <a:ext cx="2189160" cy="920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6" descr=""/>
          <p:cNvPicPr/>
          <p:nvPr/>
        </p:nvPicPr>
        <p:blipFill>
          <a:blip r:embed="rId5"/>
          <a:stretch/>
        </p:blipFill>
        <p:spPr>
          <a:xfrm>
            <a:off x="5114880" y="1773360"/>
            <a:ext cx="3048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7 0.00972 L -0.33888 0.00972 E">
                                      <p:cBhvr>
                                        <p:cTn id="12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04514 L 0.11997 0.04514 C 0.17605 0.04514 0.24497 -0.02384 0.24497 -0.07986 L 0.24497 -0.20486 E">
                                      <p:cBhvr>
                                        <p:cTn id="2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3498840"/>
            <a:ext cx="6486480" cy="927000"/>
          </a:xfrm>
          <a:prstGeom prst="rect">
            <a:avLst/>
          </a:prstGeom>
          <a:ln w="0">
            <a:noFill/>
          </a:ln>
        </p:spPr>
      </p:pic>
      <p:sp>
        <p:nvSpPr>
          <p:cNvPr id="296" name="Крест 2"/>
          <p:cNvSpPr/>
          <p:nvPr/>
        </p:nvSpPr>
        <p:spPr>
          <a:xfrm rot="2715600">
            <a:off x="6359040" y="3517920"/>
            <a:ext cx="289080" cy="289080"/>
          </a:xfrm>
          <a:prstGeom prst="plus">
            <a:avLst>
              <a:gd name="adj" fmla="val 43139"/>
            </a:avLst>
          </a:prstGeom>
          <a:solidFill>
            <a:srgbClr val="98ba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Выгнутая вверх стрелка 3"/>
          <p:cNvSpPr/>
          <p:nvPr/>
        </p:nvSpPr>
        <p:spPr>
          <a:xfrm flipH="1">
            <a:off x="3708360" y="2930400"/>
            <a:ext cx="2448000" cy="731880"/>
          </a:xfrm>
          <a:custGeom>
            <a:avLst/>
            <a:gdLst>
              <a:gd name="textAreaLeft" fmla="*/ 543240 w 2448000"/>
              <a:gd name="textAreaRight" fmla="*/ 1813320 w 244800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90" hR="21600" stAng="10800000" swAng="5400000"/>
                <a:lnTo>
                  <a:pt x="11203" y="0"/>
                </a:lnTo>
                <a:arcTo wR="9590" hR="21600" stAng="-5400000" swAng="3589183"/>
                <a:lnTo>
                  <a:pt x="21295" y="16200"/>
                </a:lnTo>
                <a:lnTo>
                  <a:pt x="19987" y="21600"/>
                </a:lnTo>
                <a:lnTo>
                  <a:pt x="18068" y="16200"/>
                </a:lnTo>
                <a:lnTo>
                  <a:pt x="18875" y="16200"/>
                </a:lnTo>
                <a:arcTo wR="9590" hR="21600" stAng="-1810817" swAng="-3460428"/>
                <a:lnTo>
                  <a:pt x="10397" y="77"/>
                </a:lnTo>
                <a:arcTo wR="9590" hR="21600" stAng="-5528755" swAng="-5271245"/>
                <a:close/>
              </a:path>
              <a:path fill="darkenLess" w="21600" h="21600">
                <a:moveTo>
                  <a:pt x="0" y="21600"/>
                </a:moveTo>
                <a:arcTo wR="9590" hR="21600" stAng="10800000" swAng="5400000"/>
                <a:lnTo>
                  <a:pt x="9590" y="0"/>
                </a:lnTo>
                <a:arcTo wR="9590" hR="21600" stAng="-5400000" swAng="128755"/>
                <a:lnTo>
                  <a:pt x="10397" y="77"/>
                </a:lnTo>
                <a:arcTo wR="9590" hR="21600" stAng="-5528755" swAng="-5271245"/>
                <a:close/>
              </a:path>
            </a:pathLst>
          </a:custGeom>
          <a:solidFill>
            <a:srgbClr val="98ba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98" name="Прямоугольник 4" descr=""/>
          <p:cNvPicPr/>
          <p:nvPr/>
        </p:nvPicPr>
        <p:blipFill>
          <a:blip r:embed="rId2"/>
          <a:stretch/>
        </p:blipFill>
        <p:spPr>
          <a:xfrm>
            <a:off x="3060720" y="2200320"/>
            <a:ext cx="39258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D738BF-4A9D-4413-AF50-14D4A9D0577A}" type="slidenum">
              <a:rPr b="0" lang="ru-RU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857160" y="1571760"/>
            <a:ext cx="7531200" cy="34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520" bIns="3852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</a:rPr>
              <a:t>Словосочетаниями не являются :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Грамматическая основа предложения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днородные члены предложе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buClr>
                <a:srgbClr val="f8f8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Фразеологический оборот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1" descr=""/>
          <p:cNvPicPr/>
          <p:nvPr/>
        </p:nvPicPr>
        <p:blipFill>
          <a:blip r:embed="rId1"/>
          <a:stretch/>
        </p:blipFill>
        <p:spPr>
          <a:xfrm>
            <a:off x="1657440" y="4578480"/>
            <a:ext cx="5865840" cy="927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" descr=""/>
          <p:cNvPicPr/>
          <p:nvPr/>
        </p:nvPicPr>
        <p:blipFill>
          <a:blip r:embed="rId2"/>
          <a:stretch/>
        </p:blipFill>
        <p:spPr>
          <a:xfrm>
            <a:off x="1620720" y="1987560"/>
            <a:ext cx="5329440" cy="9270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3" descr=""/>
          <p:cNvPicPr/>
          <p:nvPr/>
        </p:nvPicPr>
        <p:blipFill>
          <a:blip r:embed="rId3"/>
          <a:stretch/>
        </p:blipFill>
        <p:spPr>
          <a:xfrm>
            <a:off x="1652760" y="3249720"/>
            <a:ext cx="5686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0:26:34Z</dcterms:created>
  <dc:creator>Admin</dc:creator>
  <dc:description/>
  <dc:language>en-US</dc:language>
  <cp:lastModifiedBy>Лиза1</cp:lastModifiedBy>
  <dcterms:modified xsi:type="dcterms:W3CDTF">2020-04-12T08:14:55Z</dcterms:modified>
  <cp:revision>49</cp:revision>
  <dc:subject/>
  <dc:title>Слайд 1</dc:title>
</cp:coreProperties>
</file>