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5.wmf" ContentType="image/x-wmf"/>
  <Override PartName="/ppt/media/image4.gif" ContentType="image/gif"/>
  <Override PartName="/ppt/media/image2.wmf" ContentType="image/x-wmf"/>
  <Override PartName="/ppt/media/image25.gif" ContentType="image/gif"/>
  <Override PartName="/ppt/media/image22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23.gif" ContentType="image/gif"/>
  <Override PartName="/ppt/media/image21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1.gif" ContentType="image/gif"/>
  <Override PartName="/ppt/media/image2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89F-2C38-4CBB-8D80-B23D6AD0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C8A-D802-4FE4-A98D-A721163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E4F-48E3-4718-90AB-F4C2D6FF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6C3-8396-463A-8E8F-1700BAB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9D3-B282-4DB0-87E5-9EF65AC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8C1-CFCB-40E0-AB36-75040C44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8E1-3C36-4BED-801F-9E1B691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DE7-30B2-4E5A-879F-5D78244A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A0A-1340-4BD8-AF87-E2DF106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ECB-5885-41CA-B0A7-50E5458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A3E-8052-4D93-AC99-5E46885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142-8F52-4A7F-8E03-CA67079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6510-BD01-48BD-9460-9A1ED5B41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1.gif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4491000"/>
            <a:ext cx="78483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новости"/>
          <p:cNvPicPr/>
          <p:nvPr/>
        </p:nvPicPr>
        <p:blipFill>
          <a:blip r:embed="rId1"/>
          <a:stretch/>
        </p:blipFill>
        <p:spPr>
          <a:xfrm>
            <a:off x="374760" y="2655720"/>
            <a:ext cx="1452600" cy="1906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979640" y="2349360"/>
            <a:ext cx="640080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99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здание школьной газеты </a:t>
            </a:r>
            <a:endParaRPr b="0" lang="en-US" sz="2000" spc="1" strike="noStrike">
              <a:ln w="9360">
                <a:solidFill>
                  <a:srgbClr val="cc3300"/>
                </a:solidFill>
                <a:miter/>
              </a:ln>
              <a:solidFill>
                <a:srgbClr val="99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136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ила сдачи ста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7128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Нормы сдачи статей в редакц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должна быть сдана в печатном ви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лательно на электронном носителе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т возможности напечатать работу, то нужно аккуратно переписать её на  лист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данной работе обязательно должно быть указано название статьи, заметки, фамилия и имя автор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ностью)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. При отсутствии этих сведений работа засчитана не бу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татье используется иллюстративный материал, он также должен быть подписан или передан в редакцию на электронном носит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_icon_music2"/>
          <p:cNvPicPr/>
          <p:nvPr/>
        </p:nvPicPr>
        <p:blipFill>
          <a:blip r:embed="rId2"/>
          <a:stretch/>
        </p:blipFill>
        <p:spPr>
          <a:xfrm>
            <a:off x="101520" y="274680"/>
            <a:ext cx="1157400" cy="1047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41"/>
          <p:cNvPicPr/>
          <p:nvPr/>
        </p:nvPicPr>
        <p:blipFill>
          <a:blip r:embed="rId3"/>
          <a:stretch/>
        </p:blipFill>
        <p:spPr>
          <a:xfrm>
            <a:off x="272880" y="4375080"/>
            <a:ext cx="1947960" cy="2173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_icon_music1"/>
          <p:cNvPicPr/>
          <p:nvPr/>
        </p:nvPicPr>
        <p:blipFill>
          <a:blip r:embed="rId4"/>
          <a:stretch/>
        </p:blipFill>
        <p:spPr>
          <a:xfrm>
            <a:off x="576360" y="954000"/>
            <a:ext cx="82692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_icon_music2"/>
          <p:cNvPicPr/>
          <p:nvPr/>
        </p:nvPicPr>
        <p:blipFill>
          <a:blip r:embed="rId5"/>
          <a:stretch/>
        </p:blipFill>
        <p:spPr>
          <a:xfrm>
            <a:off x="6948360" y="4853160"/>
            <a:ext cx="1660680" cy="1503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Машка"/>
          <p:cNvPicPr/>
          <p:nvPr/>
        </p:nvPicPr>
        <p:blipFill>
          <a:blip r:embed="rId1"/>
          <a:stretch/>
        </p:blipFill>
        <p:spPr>
          <a:xfrm>
            <a:off x="7318440" y="4941720"/>
            <a:ext cx="1542960" cy="165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В школу"/>
          <p:cNvPicPr/>
          <p:nvPr/>
        </p:nvPicPr>
        <p:blipFill>
          <a:blip r:embed="rId2"/>
          <a:stretch/>
        </p:blipFill>
        <p:spPr>
          <a:xfrm flipH="1">
            <a:off x="7667640" y="2708280"/>
            <a:ext cx="936720" cy="1641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Никит ИН"/>
          <p:cNvPicPr/>
          <p:nvPr/>
        </p:nvPicPr>
        <p:blipFill>
          <a:blip r:embed="rId3"/>
          <a:stretch/>
        </p:blipFill>
        <p:spPr>
          <a:xfrm>
            <a:off x="468360" y="549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новости"/>
          <p:cNvPicPr/>
          <p:nvPr/>
        </p:nvPicPr>
        <p:blipFill>
          <a:blip r:embed="rId4"/>
          <a:stretch/>
        </p:blipFill>
        <p:spPr>
          <a:xfrm>
            <a:off x="3419640" y="2565360"/>
            <a:ext cx="175572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Учитель"/>
          <p:cNvPicPr/>
          <p:nvPr/>
        </p:nvPicPr>
        <p:blipFill>
          <a:blip r:embed="rId5"/>
          <a:stretch/>
        </p:blipFill>
        <p:spPr>
          <a:xfrm>
            <a:off x="3492360" y="476280"/>
            <a:ext cx="1773360" cy="134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учитель3"/>
          <p:cNvPicPr/>
          <p:nvPr/>
        </p:nvPicPr>
        <p:blipFill>
          <a:blip r:embed="rId6"/>
          <a:stretch/>
        </p:blipFill>
        <p:spPr>
          <a:xfrm>
            <a:off x="395280" y="2708280"/>
            <a:ext cx="1873080" cy="124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3"/>
          <p:cNvPicPr/>
          <p:nvPr/>
        </p:nvPicPr>
        <p:blipFill>
          <a:blip r:embed="rId7"/>
          <a:stretch/>
        </p:blipFill>
        <p:spPr>
          <a:xfrm>
            <a:off x="2771640" y="4941720"/>
            <a:ext cx="2735280" cy="161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bird40"/>
          <p:cNvPicPr/>
          <p:nvPr/>
        </p:nvPicPr>
        <p:blipFill>
          <a:blip r:embed="rId8"/>
          <a:stretch/>
        </p:blipFill>
        <p:spPr>
          <a:xfrm>
            <a:off x="6300720" y="5157720"/>
            <a:ext cx="1152720" cy="843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dog34"/>
          <p:cNvPicPr/>
          <p:nvPr/>
        </p:nvPicPr>
        <p:blipFill>
          <a:blip r:embed="rId9"/>
          <a:stretch/>
        </p:blipFill>
        <p:spPr>
          <a:xfrm>
            <a:off x="539640" y="5229360"/>
            <a:ext cx="1295640" cy="1171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7"/>
          <p:cNvSpPr/>
          <p:nvPr/>
        </p:nvSpPr>
        <p:spPr>
          <a:xfrm>
            <a:off x="5003640" y="1341360"/>
            <a:ext cx="3745080" cy="1224000"/>
          </a:xfrm>
          <a:prstGeom prst="cloudCallout">
            <a:avLst>
              <a:gd name="adj1" fmla="val -44828"/>
              <a:gd name="adj2" fmla="val 10745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Быть или не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школьной газ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2195640" y="1125360"/>
            <a:ext cx="3024000" cy="1224000"/>
          </a:xfrm>
          <a:prstGeom prst="wedgeEllipseCallout">
            <a:avLst>
              <a:gd name="adj1" fmla="val -57347"/>
              <a:gd name="adj2" fmla="val -4766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Школьной газете бы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5940360" y="189000"/>
            <a:ext cx="2879640" cy="1152360"/>
          </a:xfrm>
          <a:prstGeom prst="wedgeEllipseCallout">
            <a:avLst>
              <a:gd name="adj1" fmla="val -73486"/>
              <a:gd name="adj2" fmla="val 3539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кольной газете бы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стит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2050920" y="1844640"/>
            <a:ext cx="3600720" cy="1008000"/>
          </a:xfrm>
          <a:prstGeom prst="wedgeEllipseCallout">
            <a:avLst>
              <a:gd name="adj1" fmla="val -60671"/>
              <a:gd name="adj2" fmla="val 744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Школьной газете бы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5292720" y="2924280"/>
            <a:ext cx="2521080" cy="1009440"/>
          </a:xfrm>
          <a:prstGeom prst="wedgeEllipseCallout">
            <a:avLst>
              <a:gd name="adj1" fmla="val 62467"/>
              <a:gd name="adj2" fmla="val -3443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Школьной газете быть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1835280" y="4005360"/>
            <a:ext cx="1657080" cy="718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Ха-х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4932360" y="3500280"/>
            <a:ext cx="2808360" cy="1079640"/>
          </a:xfrm>
          <a:prstGeom prst="wedgeEllipseCallout">
            <a:avLst>
              <a:gd name="adj1" fmla="val 43046"/>
              <a:gd name="adj2" fmla="val 995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кольной газете бы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250920" y="2276640"/>
            <a:ext cx="3168720" cy="1512720"/>
          </a:xfrm>
          <a:prstGeom prst="wedgeEllipseCallout">
            <a:avLst>
              <a:gd name="adj1" fmla="val 40078"/>
              <a:gd name="adj2" fmla="val 143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кольной газете бы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5435640" y="2997360"/>
            <a:ext cx="3527280" cy="1008000"/>
          </a:xfrm>
          <a:prstGeom prst="wedgeEllipseCallout">
            <a:avLst>
              <a:gd name="adj1" fmla="val -14175"/>
              <a:gd name="adj2" fmla="val 14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Конечно, конечно быт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ff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 за 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627280" y="2908440"/>
            <a:ext cx="4392720" cy="3616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Газет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это история мира за сутки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история мира, в котором мы живем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события, которые интересуют нас больш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м относящиеся к прошлому, существующему лишь в памя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А. Шопенгауэ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ff"/>
            </a:gs>
            <a:gs pos="100000">
              <a:srgbClr val="ff66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Рисунок61"/>
          <p:cNvPicPr/>
          <p:nvPr/>
        </p:nvPicPr>
        <p:blipFill>
          <a:blip r:embed="rId1"/>
          <a:stretch/>
        </p:blipFill>
        <p:spPr>
          <a:xfrm>
            <a:off x="409680" y="260280"/>
            <a:ext cx="8123040" cy="621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76360" y="1196640"/>
            <a:ext cx="71992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траничка ред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портивные 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Летопись школы </a:t>
            </a:r>
            <a:r>
              <a:rPr b="1" i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(из истории шко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Калейдоскоп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Праздничная поч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Читайка. </a:t>
            </a:r>
            <a:r>
              <a:rPr b="1" i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(библиотечная странич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Интересные ф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Большая перемена </a:t>
            </a:r>
            <a:r>
              <a:rPr b="1" i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(Конкурсы «Узнай учителя», «Игроте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Хохота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1e2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оветы доктора Пилюлькин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пишу"/>
          <p:cNvPicPr/>
          <p:nvPr/>
        </p:nvPicPr>
        <p:blipFill>
          <a:blip r:embed="rId2"/>
          <a:stretch/>
        </p:blipFill>
        <p:spPr>
          <a:xfrm flipH="1">
            <a:off x="402840" y="4478400"/>
            <a:ext cx="1413000" cy="1801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409680" y="307800"/>
            <a:ext cx="8410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римерные  рубрики школьной газ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ff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566064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роанализировав результаты анкетирования, мы пришли к выводу, что большая часть опрошенных признаёт дальнейшую необходимость издания школьной газ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ишу"/>
          <p:cNvPicPr/>
          <p:nvPr/>
        </p:nvPicPr>
        <p:blipFill>
          <a:blip r:embed="rId1"/>
          <a:stretch/>
        </p:blipFill>
        <p:spPr>
          <a:xfrm flipH="1">
            <a:off x="539640" y="3213000"/>
            <a:ext cx="1130400" cy="1441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2050920" y="1413000"/>
            <a:ext cx="5616720" cy="1224000"/>
          </a:xfrm>
          <a:prstGeom prst="wedgeRoundRectCallout">
            <a:avLst>
              <a:gd name="adj1" fmla="val -58421"/>
              <a:gd name="adj2" fmla="val 137287"/>
              <a:gd name="adj3" fmla="val 16667"/>
            </a:avLst>
          </a:prstGeom>
          <a:solidFill>
            <a:srgbClr val="d1d1f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Есть ли необходимость издания школьной печатной газеты в нашей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979640" y="2852640"/>
            <a:ext cx="4824360" cy="2664000"/>
          </a:xfrm>
          <a:prstGeom prst="wedgeRoundRectCallout">
            <a:avLst>
              <a:gd name="adj1" fmla="val 59902"/>
              <a:gd name="adj2" fmla="val -2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2268360" y="2781360"/>
          <a:ext cx="4104000" cy="28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781360"/>
                    <a:ext cx="410400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6" descr="Никитин"/>
          <p:cNvPicPr/>
          <p:nvPr/>
        </p:nvPicPr>
        <p:blipFill>
          <a:blip r:embed="rId4"/>
          <a:stretch/>
        </p:blipFill>
        <p:spPr>
          <a:xfrm>
            <a:off x="6804000" y="3929040"/>
            <a:ext cx="2266920" cy="188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ffffff"/>
            </a:gs>
            <a:gs pos="100000">
              <a:srgbClr val="cc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С помощью анкетирования мы выявили наиболее популярные рубр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6000" y="1197000"/>
            <a:ext cx="7210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достижений в учё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шко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ная страни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истическая страни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4"/>
          <p:cNvPicPr/>
          <p:nvPr/>
        </p:nvPicPr>
        <p:blipFill>
          <a:blip r:embed="rId1"/>
          <a:stretch/>
        </p:blipFill>
        <p:spPr>
          <a:xfrm>
            <a:off x="365040" y="564372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итают"/>
          <p:cNvPicPr/>
          <p:nvPr/>
        </p:nvPicPr>
        <p:blipFill>
          <a:blip r:embed="rId2"/>
          <a:stretch/>
        </p:blipFill>
        <p:spPr>
          <a:xfrm>
            <a:off x="266760" y="4581360"/>
            <a:ext cx="1038240" cy="7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Спорт"/>
          <p:cNvPicPr/>
          <p:nvPr/>
        </p:nvPicPr>
        <p:blipFill>
          <a:blip r:embed="rId3"/>
          <a:stretch/>
        </p:blipFill>
        <p:spPr>
          <a:xfrm>
            <a:off x="334800" y="2217600"/>
            <a:ext cx="905040" cy="133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никиток"/>
          <p:cNvPicPr/>
          <p:nvPr/>
        </p:nvPicPr>
        <p:blipFill>
          <a:blip r:embed="rId4"/>
          <a:stretch/>
        </p:blipFill>
        <p:spPr>
          <a:xfrm>
            <a:off x="206280" y="1036800"/>
            <a:ext cx="1150920" cy="89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Нахал"/>
          <p:cNvPicPr/>
          <p:nvPr/>
        </p:nvPicPr>
        <p:blipFill>
          <a:blip r:embed="rId5"/>
          <a:stretch/>
        </p:blipFill>
        <p:spPr>
          <a:xfrm>
            <a:off x="434880" y="3635280"/>
            <a:ext cx="1198800" cy="92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f4fd"/>
            </a:gs>
            <a:gs pos="50000">
              <a:srgbClr val="ffffff"/>
            </a:gs>
            <a:gs pos="100000">
              <a:srgbClr val="9bf4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Материально-техническая баз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643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16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ерсональный компью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16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Ноутб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16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М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16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Ксеро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16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Цифровой фотоаппар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616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Брошюратор </a:t>
            </a:r>
            <a:r>
              <a:rPr b="0" i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(для подши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комп"/>
          <p:cNvPicPr/>
          <p:nvPr/>
        </p:nvPicPr>
        <p:blipFill>
          <a:blip r:embed="rId2"/>
          <a:stretch/>
        </p:blipFill>
        <p:spPr>
          <a:xfrm>
            <a:off x="6400800" y="14176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360" y="19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Обязанности главного редак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чебного года предлагает темы для творческого конкурса корреспонд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ется сбором и подбором сданного материала, как текстового,  так и иллюстратив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проводит литературную обработку текста, исправляет грамматические, орфографические и прочие ошиб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наборе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участие в разработке оригинал – мак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атривает и проверяет оригинал – макет издания перед печа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Директор"/>
          <p:cNvPicPr/>
          <p:nvPr/>
        </p:nvPicPr>
        <p:blipFill>
          <a:blip r:embed="rId2"/>
          <a:stretch/>
        </p:blipFill>
        <p:spPr>
          <a:xfrm>
            <a:off x="7161120" y="4721400"/>
            <a:ext cx="1511280" cy="149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Рисунок61"/>
          <p:cNvPicPr/>
          <p:nvPr/>
        </p:nvPicPr>
        <p:blipFill>
          <a:blip r:embed="rId1"/>
          <a:stretch/>
        </p:blipFill>
        <p:spPr>
          <a:xfrm>
            <a:off x="755640" y="6192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Обязанности технического редак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 практическую работу по созданию макета газеты согласно теме выпу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подготовленные корреспондентами материа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 подбор иллюстраций (фото, рисунки, графики, схем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 тиражирование газеты на бумажных и электронных носителя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 очередные номера газет на официальном сайте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ирает текст из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Никитин"/>
          <p:cNvPicPr/>
          <p:nvPr/>
        </p:nvPicPr>
        <p:blipFill>
          <a:blip r:embed="rId2"/>
          <a:stretch/>
        </p:blipFill>
        <p:spPr>
          <a:xfrm>
            <a:off x="6012000" y="4869000"/>
            <a:ext cx="2016000" cy="1679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язанности корреспондентов газе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549000"/>
            <a:ext cx="7488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Обязанности корреспондентов газ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спондент обязан в сроки, заявленные главным редактором газеты, сдать от имени своего класса конкурсную статью на заданную тему. Корреспондент должен в меру своих творческих способностей помогать изданию школьной газеты,  принося в редакцию заметки, напрямую не относящиеся к заявленной конкурсной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33"/>
          <p:cNvPicPr/>
          <p:nvPr/>
        </p:nvPicPr>
        <p:blipFill>
          <a:blip r:embed="rId2"/>
          <a:stretch/>
        </p:blipFill>
        <p:spPr>
          <a:xfrm>
            <a:off x="3059280" y="5008680"/>
            <a:ext cx="2952720" cy="14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9:46:30Z</dcterms:created>
  <dc:creator>Мария</dc:creator>
  <dc:description/>
  <dc:language>en-US</dc:language>
  <cp:lastModifiedBy>admin</cp:lastModifiedBy>
  <dcterms:modified xsi:type="dcterms:W3CDTF">2020-04-12T13:48:43Z</dcterms:modified>
  <cp:revision>165</cp:revision>
  <dc:subject/>
  <dc:title>Проект школьная газета</dc:title>
</cp:coreProperties>
</file>