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82A6-7D7A-449F-B34E-C75691E79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8450-D5A1-4A8F-87E9-38A00118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6F5C-179E-4EAF-8403-E49ADCBF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1FF3-AE2B-4018-8696-49536B023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70D5-1B87-4980-BDCF-66EC8EA8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3B2C-4DF3-4EAA-B60B-809AFEBF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D30D-FC9F-4DED-921F-3E8B8CE1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B712-A12E-48C4-BC19-5C6C2BF9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69EF-2C45-4598-8310-7ED15994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DA68-D84B-4860-85F2-A4CD9716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27E7-5A8A-49C8-8ACD-EBF72792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C5AB-5572-4407-B3CC-D490EA0F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0FCA-9AEB-4662-A06B-BBB3FAD578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БИРАЕМ ТРУДНЫЕ ЗАДАНИЯ ИЗ ЯНДЕКС.УЧЕБ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1763640" y="549360"/>
            <a:ext cx="5184720" cy="36306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1476360" y="4797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  <a:ea typeface="Arial"/>
              </a:rPr>
              <a:t>ПР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ОТОВИЛА-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  <a:ea typeface="Arial"/>
              </a:rPr>
              <a:t>                      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  <a:ea typeface="Arial"/>
              </a:rPr>
              <a:t>ПР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ОТОВ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  <a:ea typeface="Arial"/>
              </a:rPr>
              <a:t>ПР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ОТОВИШЬ 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Прямая со стрелкой 6"/>
          <p:cNvCxnSpPr/>
          <p:nvPr/>
        </p:nvCxnSpPr>
        <p:spPr>
          <a:xfrm>
            <a:off x="4716360" y="1413000"/>
            <a:ext cx="720000" cy="194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10"/>
          <p:cNvCxnSpPr/>
          <p:nvPr/>
        </p:nvCxnSpPr>
        <p:spPr>
          <a:xfrm flipV="1">
            <a:off x="3762360" y="3357000"/>
            <a:ext cx="1674000" cy="50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1908000" y="4941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ОТОВИТ-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ОТОВ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ОТОВИМ 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95280" y="404640"/>
            <a:ext cx="5184720" cy="3632400"/>
          </a:xfrm>
          <a:prstGeom prst="rect">
            <a:avLst/>
          </a:prstGeom>
          <a:ln w="0">
            <a:noFill/>
          </a:ln>
        </p:spPr>
      </p:pic>
      <p:cxnSp>
        <p:nvCxnSpPr>
          <p:cNvPr id="67" name="Прямая со стрелкой 4"/>
          <p:cNvCxnSpPr/>
          <p:nvPr/>
        </p:nvCxnSpPr>
        <p:spPr>
          <a:xfrm flipV="1">
            <a:off x="2700000" y="1843920"/>
            <a:ext cx="14364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Прямая со стрелкой 8"/>
          <p:cNvCxnSpPr/>
          <p:nvPr/>
        </p:nvCxnSpPr>
        <p:spPr>
          <a:xfrm flipH="1" flipV="1">
            <a:off x="2842920" y="1843920"/>
            <a:ext cx="223416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662120" y="1557360"/>
            <a:ext cx="58197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2"/>
          <p:cNvSpPr/>
          <p:nvPr/>
        </p:nvSpPr>
        <p:spPr>
          <a:xfrm>
            <a:off x="1943280" y="692280"/>
            <a:ext cx="51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Calibri"/>
                <a:ea typeface="Arial"/>
              </a:rPr>
              <a:t>А ТЕПЕРЬ САМИ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s://www.passionforum.ru/upload/559/u55903/45/72/125760e0ce48b64.jpg"/>
          <p:cNvPicPr/>
          <p:nvPr/>
        </p:nvPicPr>
        <p:blipFill>
          <a:blip r:embed="rId1"/>
          <a:stretch/>
        </p:blipFill>
        <p:spPr>
          <a:xfrm>
            <a:off x="2556000" y="2133720"/>
            <a:ext cx="413676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900igr.net/up/datas/176832/031.jpg"/>
          <p:cNvPicPr/>
          <p:nvPr/>
        </p:nvPicPr>
        <p:blipFill>
          <a:blip r:embed="rId1"/>
          <a:srcRect l="4114" t="9974" r="4575" b="8940"/>
          <a:stretch/>
        </p:blipFill>
        <p:spPr>
          <a:xfrm>
            <a:off x="1557360" y="1052640"/>
            <a:ext cx="6054840" cy="4032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1"/>
          <p:cNvSpPr/>
          <p:nvPr/>
        </p:nvSpPr>
        <p:spPr>
          <a:xfrm>
            <a:off x="1556640" y="5683320"/>
            <a:ext cx="58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ТЬ    ТИ    ЧЬ   -  это НЕ ОКОНЧАНИЯ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3415680" y="351000"/>
            <a:ext cx="217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Calibri"/>
                <a:ea typeface="Arial"/>
              </a:rPr>
              <a:t>Помним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900igr.net/up/datas/118564/006.jpg"/>
          <p:cNvPicPr/>
          <p:nvPr/>
        </p:nvPicPr>
        <p:blipFill>
          <a:blip r:embed="rId1"/>
          <a:srcRect l="0" t="0" r="0" b="31785"/>
          <a:stretch/>
        </p:blipFill>
        <p:spPr>
          <a:xfrm>
            <a:off x="1116000" y="1677960"/>
            <a:ext cx="7008840" cy="35845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3359520" y="515880"/>
            <a:ext cx="217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Calibri"/>
                <a:ea typeface="Arial"/>
              </a:rPr>
              <a:t>Помним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"/>
          <p:cNvSpPr/>
          <p:nvPr/>
        </p:nvSpPr>
        <p:spPr>
          <a:xfrm>
            <a:off x="1201320" y="42840"/>
            <a:ext cx="656496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Calibri"/>
                <a:ea typeface="Arial"/>
              </a:rPr>
              <a:t>Помним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Когда меняем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Arial"/>
              </a:rPr>
              <a:t>форму слова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меняется только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Arial"/>
              </a:rPr>
              <a:t>оконча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бег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Arial"/>
              </a:rPr>
              <a:t>ут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, бег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Arial"/>
              </a:rPr>
              <a:t>ите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, беж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Arial"/>
              </a:rPr>
              <a:t>и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563400" y="4076640"/>
            <a:ext cx="813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  <a:ea typeface="Arial"/>
              </a:rPr>
              <a:t>Вид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 не меня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  <a:ea typeface="Arial"/>
              </a:rPr>
              <a:t>Приставки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 не меня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  <a:ea typeface="Arial"/>
              </a:rPr>
              <a:t>Глагольные суффиксы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не меняем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1810800" y="1628640"/>
            <a:ext cx="572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Внимательно рассмотр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решение  зада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из яндекс.учебн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04840" y="115920"/>
            <a:ext cx="8726400" cy="18907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226080" y="2050920"/>
            <a:ext cx="884232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ЛЕТИТ –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ЧТО </a:t>
            </a:r>
            <a:r>
              <a:rPr b="1" i="1" lang="ru-RU" sz="2400" spc="-1" strike="noStrike">
                <a:solidFill>
                  <a:srgbClr val="1f497d"/>
                </a:solidFill>
                <a:latin typeface="Calibri"/>
                <a:ea typeface="Arial"/>
              </a:rPr>
              <a:t>Д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ЕЛАЕТ? –ЧТО </a:t>
            </a:r>
            <a:r>
              <a:rPr b="1" i="1" lang="ru-RU" sz="2400" spc="-1" strike="noStrike">
                <a:solidFill>
                  <a:srgbClr val="1f497d"/>
                </a:solidFill>
                <a:latin typeface="Calibri"/>
                <a:ea typeface="Arial"/>
              </a:rPr>
              <a:t>Д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ЕЛАТЬ?-  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  <a:ea typeface="Arial"/>
              </a:rPr>
              <a:t>ЛЕТЕТЬ (ЛЕТЕТЬ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)  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ЛЕТАЕТ –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ЧТО </a:t>
            </a:r>
            <a:r>
              <a:rPr b="1" i="1" lang="ru-RU" sz="2400" spc="-1" strike="noStrike">
                <a:solidFill>
                  <a:srgbClr val="1f497d"/>
                </a:solidFill>
                <a:latin typeface="Calibri"/>
                <a:ea typeface="Arial"/>
              </a:rPr>
              <a:t>Д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ЕЛАЕТ? – ЧТО </a:t>
            </a:r>
            <a:r>
              <a:rPr b="1" i="1" lang="ru-RU" sz="2400" spc="-1" strike="noStrike">
                <a:solidFill>
                  <a:srgbClr val="1f497d"/>
                </a:solidFill>
                <a:latin typeface="Calibri"/>
                <a:ea typeface="Arial"/>
              </a:rPr>
              <a:t>Д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ЕЛАТЬ?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– ЛЕТ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ТЬ (ЛЕТ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ТЬ) 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ЛЕТЕЛ-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ЧТО </a:t>
            </a:r>
            <a:r>
              <a:rPr b="1" i="1" lang="ru-RU" sz="2400" spc="-1" strike="noStrike">
                <a:solidFill>
                  <a:srgbClr val="1f497d"/>
                </a:solidFill>
                <a:latin typeface="Calibri"/>
                <a:ea typeface="Arial"/>
              </a:rPr>
              <a:t>Д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ЕЛАЛ? – ЧТО </a:t>
            </a:r>
            <a:r>
              <a:rPr b="1" i="1" lang="ru-RU" sz="2400" spc="-1" strike="noStrike">
                <a:solidFill>
                  <a:srgbClr val="1f497d"/>
                </a:solidFill>
                <a:latin typeface="Calibri"/>
                <a:ea typeface="Arial"/>
              </a:rPr>
              <a:t>Д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ЕЛАТЬ?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  <a:ea typeface="Arial"/>
              </a:rPr>
              <a:t>ЛЕТЕТЬ(ЛЕТЕТЬ)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ЛЕТЕЛ –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ЧТО </a:t>
            </a:r>
            <a:r>
              <a:rPr b="1" i="1" lang="ru-RU" sz="2400" spc="-1" strike="noStrike">
                <a:solidFill>
                  <a:srgbClr val="1f497d"/>
                </a:solidFill>
                <a:latin typeface="Calibri"/>
                <a:ea typeface="Arial"/>
              </a:rPr>
              <a:t>С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ДЕЛАЛ?-ЧТО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С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ДЕЛАТЬ?-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ЛЕТЕТЬ (ЛЕТЕТЬ) 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УЛЕТЕЛ-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ЛЕТЕТЬ (ЛЕТЕТЬ) 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ЛЕТИМ – ЛЕТЕТЬ (ЛЕТЕТЬ)  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ЛЕТЕЛИ – ЛЕТЕТЬ(ЛЕТЕТЬ)  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ЛЕТАЛИ –  ЛЕТ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ТЬ (ЛЕТ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ТЬ) 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218160" y="2276640"/>
            <a:ext cx="884232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ЛЕТИТ –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ЧТО </a:t>
            </a:r>
            <a:r>
              <a:rPr b="1" i="1" lang="ru-RU" sz="2400" spc="-1" strike="noStrike">
                <a:solidFill>
                  <a:srgbClr val="1f497d"/>
                </a:solidFill>
                <a:latin typeface="Calibri"/>
                <a:ea typeface="Arial"/>
              </a:rPr>
              <a:t>Д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ЕЛАЕТ? –ЧТО </a:t>
            </a:r>
            <a:r>
              <a:rPr b="1" i="1" lang="ru-RU" sz="2400" spc="-1" strike="noStrike">
                <a:solidFill>
                  <a:srgbClr val="1f497d"/>
                </a:solidFill>
                <a:latin typeface="Calibri"/>
                <a:ea typeface="Arial"/>
              </a:rPr>
              <a:t>Д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ЕЛАТЬ?-  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  <a:ea typeface="Arial"/>
              </a:rPr>
              <a:t>ЛЕТЕТЬ (ЛЕТЕТЬ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)  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ЛЕТАЕТ –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ЧТО </a:t>
            </a:r>
            <a:r>
              <a:rPr b="1" i="1" lang="ru-RU" sz="2400" spc="-1" strike="noStrike">
                <a:solidFill>
                  <a:srgbClr val="1f497d"/>
                </a:solidFill>
                <a:latin typeface="Calibri"/>
                <a:ea typeface="Arial"/>
              </a:rPr>
              <a:t>Д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ЕЛАЕТ? – ЧТО </a:t>
            </a:r>
            <a:r>
              <a:rPr b="1" i="1" lang="ru-RU" sz="2400" spc="-1" strike="noStrike">
                <a:solidFill>
                  <a:srgbClr val="1f497d"/>
                </a:solidFill>
                <a:latin typeface="Calibri"/>
                <a:ea typeface="Arial"/>
              </a:rPr>
              <a:t>Д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ЕЛАТЬ?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– ЛЕТ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ТЬ (ЛЕТ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ТЬ) 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ЛЕТЕЛ-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ЧТО </a:t>
            </a:r>
            <a:r>
              <a:rPr b="1" i="1" lang="ru-RU" sz="2400" spc="-1" strike="noStrike">
                <a:solidFill>
                  <a:srgbClr val="1f497d"/>
                </a:solidFill>
                <a:latin typeface="Calibri"/>
                <a:ea typeface="Arial"/>
              </a:rPr>
              <a:t>Д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ЕЛАЛ? – ЧТО </a:t>
            </a:r>
            <a:r>
              <a:rPr b="1" i="1" lang="ru-RU" sz="2400" spc="-1" strike="noStrike">
                <a:solidFill>
                  <a:srgbClr val="1f497d"/>
                </a:solidFill>
                <a:latin typeface="Calibri"/>
                <a:ea typeface="Arial"/>
              </a:rPr>
              <a:t>Д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ЕЛАТЬ?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  <a:ea typeface="Arial"/>
              </a:rPr>
              <a:t>ЛЕТЕТЬ(ЛЕТЕТЬ)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ЛЕТЕЛ –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ЧТО </a:t>
            </a:r>
            <a:r>
              <a:rPr b="1" i="1" lang="ru-RU" sz="2400" spc="-1" strike="noStrike">
                <a:solidFill>
                  <a:srgbClr val="1f497d"/>
                </a:solidFill>
                <a:latin typeface="Calibri"/>
                <a:ea typeface="Arial"/>
              </a:rPr>
              <a:t>С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ДЕЛАЛ?-ЧТО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С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ДЕЛАТЬ?-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ЛЕТЕТЬ (ЛЕТЕТЬ) 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УЛЕТЕЛ-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ЛЕТЕТЬ (ЛЕТЕТЬ) 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ЛЕТИМ – ЛЕТЕТЬ (ЛЕТЕТЬ)  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ЛЕТЕЛИ – ЛЕТЕТЬ(ЛЕТЕТЬ)  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ЛЕТАЛИ –  ЛЕТ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ТЬ (ЛЕТ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ТЬ) 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68280" y="189000"/>
            <a:ext cx="832788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042920" y="115920"/>
            <a:ext cx="5184720" cy="36320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696600" y="4437000"/>
            <a:ext cx="45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  <a:ea typeface="Arial"/>
              </a:rPr>
              <a:t>ПОД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ОТОВЛЮ-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  <a:ea typeface="Arial"/>
              </a:rPr>
              <a:t>ПОД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ОТОВИТЬ       СОВ.ВИ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Прямая со стрелкой 5"/>
          <p:cNvCxnSpPr/>
          <p:nvPr/>
        </p:nvCxnSpPr>
        <p:spPr>
          <a:xfrm flipH="1">
            <a:off x="2770920" y="1052280"/>
            <a:ext cx="361080" cy="18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619280" y="392040"/>
            <a:ext cx="5184720" cy="36324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741600" y="4437000"/>
            <a:ext cx="566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  <a:ea typeface="Arial"/>
              </a:rPr>
              <a:t>ПОД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ОТАВЛИВАЕТ-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  <a:ea typeface="Arial"/>
              </a:rPr>
              <a:t>ПОД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ОТАВЛИВАТЬ        НЕСОВ.ВИ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Прямая со стрелкой 4"/>
          <p:cNvCxnSpPr/>
          <p:nvPr/>
        </p:nvCxnSpPr>
        <p:spPr>
          <a:xfrm flipV="1">
            <a:off x="4571640" y="1843920"/>
            <a:ext cx="648360" cy="18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2T18:33:47Z</dcterms:created>
  <dc:creator>Ksu</dc:creator>
  <dc:description/>
  <dc:language>en-US</dc:language>
  <cp:lastModifiedBy>Ксения</cp:lastModifiedBy>
  <dcterms:modified xsi:type="dcterms:W3CDTF">2020-04-12T19:58:59Z</dcterms:modified>
  <cp:revision>9</cp:revision>
  <dc:subject/>
  <dc:title>Презентация PowerPoint</dc:title>
</cp:coreProperties>
</file>