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721A-4A93-4ABC-B954-18567AC7D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3A14-89DE-45D7-9C76-224B4E714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74D3-B4F6-4783-891B-E7726FB50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51BB-2E84-4BFF-912F-7A25C81E0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9B9E5-49B0-4185-9373-62AC8E393C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D7E0-03AE-40DB-8D9A-F0DEF48B15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9112-2D5F-4AF7-9AA4-5EA9559AFF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F1DE-7B12-472C-B493-014C526F4D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22B8-9D83-4D92-9457-CCF0376016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81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64750-14D9-43C0-B4E6-6D8EFC967F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E5AB-DDAC-40D7-B9F0-ADFA1244BD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DBBB-9084-4106-84E2-20578EA2D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61F05-C269-4A4D-83DE-A646A8C18A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E6E1-8EF4-405F-AB5D-08B1890213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D57E8-8D24-4CAB-9103-717E41258C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2A49-F825-4453-A2AB-12D09FB60F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748B-57D5-457E-90CB-9C1804E829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545A-0AF9-4F99-9200-709F646B4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4099-9379-4188-A5F4-9AB0CC943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AA06-29F7-4CA9-8E69-EAA29D299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81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264D-1404-463D-8068-AC24C860B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6B82-FD18-4E0C-8A5B-A5340E09D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64FB-A083-4A6C-BC5B-E4DA08273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C92A-DC1C-47E8-8A81-F1E5C7C7E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"/>
          <p:cNvSpPr/>
          <p:nvPr/>
        </p:nvSpPr>
        <p:spPr>
          <a:xfrm>
            <a:off x="636264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43520" y="6356160"/>
            <a:ext cx="560520" cy="3632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BAC3A7-AECC-49B6-BF8F-052E08A46AA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"/>
          <p:cNvSpPr/>
          <p:nvPr/>
        </p:nvSpPr>
        <p:spPr>
          <a:xfrm>
            <a:off x="636264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8543520" y="6356160"/>
            <a:ext cx="560520" cy="3632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483FE5-4453-4A69-B2C7-AD5FEFE40902}" type="slidenum">
              <a:rPr b="0" lang="ru-RU" sz="1200" spc="-1" strike="noStrike">
                <a:solidFill>
                  <a:srgbClr val="595959"/>
                </a:solidFill>
                <a:latin typeface="Century Gothic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38520" y="0"/>
            <a:ext cx="4402080" cy="573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40440" y="1962000"/>
            <a:ext cx="3432240" cy="3043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-115920" y="3402000"/>
            <a:ext cx="3071880" cy="3041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-115920" y="-96840"/>
            <a:ext cx="3760920" cy="2876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278320" y="4406760"/>
            <a:ext cx="4164120" cy="301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657520" y="3548160"/>
            <a:ext cx="292572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О</a:t>
            </a:r>
            <a:r>
              <a:rPr b="1" lang="ru-RU" sz="5400" spc="-1" strike="noStrike">
                <a:solidFill>
                  <a:srgbClr val="2f5897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мороже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5000"/>
            <a:ext cx="914400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тморожение – это поражение тканей тела человека, возникающее в результате воздействия низкой температу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Times New Roman"/>
              </a:rPr>
              <a:t>Признаки отмор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щущения холода и покалывание в области подвергшейся отморожени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ожа краснеет, затем резко бледнеет и теряет чувствительнос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77336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Times New Roman"/>
              </a:rPr>
              <a:t>Первая помощь при отморожениях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76280"/>
            <a:ext cx="9144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греть отмороженную часть тела, растирая её мягкой шерстяной тканью или ладонями до покраснения кожи, обретения ею чувствитель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оить пострадавшего горячим чаем, укутать теплой одеждо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отморожении пальцев рук или ног следует проложить между ними марлю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править пострадавшего в лечебное учреждение, укутать его в тёплые вещи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549360"/>
            <a:ext cx="77724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При отморожении запрещается: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2205000"/>
            <a:ext cx="8893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льзя при растирании пользоваться снегом, так как микроскопические льдинки снега могут поранить кожу;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нельзя вскрывать образовавшиеся волдыр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836640"/>
            <a:ext cx="82296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Профилактика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060640"/>
            <a:ext cx="91440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нельзя длительное время пребывать на холод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одеваться по сезону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нельзя при сильном морозе двигаться с большой скорость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2f5897"/>
                </a:solidFill>
                <a:latin typeface="Times New Roman"/>
              </a:rPr>
              <a:t>Ожог (термический ожо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жог (термический  ожог) – это травма, которая возникает в результате воздействия на человека открытого огня (пламя), теплового излучения, соприкосновения тела с раскалёнными предметами, жидкостями (кипятком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9079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Признаки ожогов (термических ожогов)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краснение кож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тё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о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206064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Первая помощь при ожогах (термический ожогах)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60280"/>
            <a:ext cx="9144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брать с поверхности тела горячий 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резать ножницами одеж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поврежденную поверхность тела на 10 минут наложить холод (грелка со льдом, холодной водо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обожженную поверхность наложить стерильную повяз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обширных ожогах срочно направить пострадавшего в лечебное учреж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7650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Palatino Linotype"/>
              </a:rPr>
              <a:t>При термических ожогах запрещается:</a:t>
            </a:r>
            <a:r>
              <a:rPr b="0" i="1" lang="ru-RU" sz="4000" spc="-1" strike="noStrike">
                <a:solidFill>
                  <a:srgbClr val="ff0000"/>
                </a:solidFill>
                <a:latin typeface="Palatino Linotype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00200"/>
            <a:ext cx="9144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влять пострадавшего в зоне действия поражающего фактор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рывать прилипшие к ране одежду, посторонние предм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крывать ожоговые волдыр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ывать обгоревшие ткани; наносить на пораженный участок мазь, крем, жи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влять на длительное время (более 1 ч) открытым пораженный учас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офилак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49360"/>
            <a:ext cx="91440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льзя брать раскаленные предметы голыми рукам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ускать контакта рук или ног с горячей жидкостью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f5897"/>
                </a:solidFill>
                <a:latin typeface="Palatino Linotype"/>
              </a:rPr>
              <a:t>Первая помощь при тепловом и солнечн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557360"/>
            <a:ext cx="8101080" cy="1224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нести пострадавшего в прохладное место, в тень, уложить на спину, приподнять голову и повернуть её наб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852640"/>
            <a:ext cx="8172360" cy="863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у пострадавшего открылась рвота, ему необходимо повернуть голову на бок, чтобы рвотные массы не попали в дыхательные пу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789360"/>
            <a:ext cx="8172360" cy="576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тегнуть одежду или снять её, ослабить поя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08640"/>
            <a:ext cx="8172360" cy="457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ло обтереть полотенцем, смоченным холодной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157720"/>
            <a:ext cx="8172360" cy="649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человек в сознании, ему надо давать обильное питьё ( чай или слегка подсоленную во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950080"/>
            <a:ext cx="8172360" cy="64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пострадавший потерял сознание, ему надо осторожно дать понюхать нашатырный спи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44000" y="1700280"/>
            <a:ext cx="647640" cy="64908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44000" y="2924280"/>
            <a:ext cx="647640" cy="64908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44000" y="3789360"/>
            <a:ext cx="647640" cy="64944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44000" y="4437000"/>
            <a:ext cx="647640" cy="64944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44000" y="5157720"/>
            <a:ext cx="647640" cy="64944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44000" y="5950080"/>
            <a:ext cx="647640" cy="64908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f5897"/>
                </a:solidFill>
                <a:latin typeface="Times New Roman"/>
              </a:rPr>
              <a:t>Первая помощь при отморож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469880"/>
            <a:ext cx="7993080" cy="11671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реть отмороженную часть тела, растирая её мягкой шерстяной тканью или ладонями до покраснения кожи, обретения ею чув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2781360"/>
            <a:ext cx="7850160" cy="934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оить пострадавшего горячим чаем, укутать теплой одеж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4005360"/>
            <a:ext cx="7848360" cy="865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отморожении пальцев рук или ног следует проложить между ними мар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5373720"/>
            <a:ext cx="7777080" cy="934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править пострадавшего в лечебное учреждение, укутать его, а теплые ве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424720" y="1700280"/>
            <a:ext cx="719280" cy="57636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2997360"/>
            <a:ext cx="719280" cy="57600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72360" y="4076640"/>
            <a:ext cx="719280" cy="57636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5516640"/>
            <a:ext cx="719280" cy="57636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f5897"/>
                </a:solidFill>
                <a:latin typeface="Palatino Linotype"/>
              </a:rPr>
              <a:t>Первая помощь при термических ожог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700280"/>
            <a:ext cx="6553080" cy="504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рать с поверхности тела горячий предм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28000" y="3429000"/>
            <a:ext cx="647640" cy="72072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2637000"/>
            <a:ext cx="5543280" cy="431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зать ножницами одеж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357720"/>
            <a:ext cx="7488000" cy="1008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ложить холод (грелка со льдом, холодной водой) на поврежденную поверхность тела на 10 мину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4437000"/>
            <a:ext cx="7561080" cy="936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ложить сухую стерильную повязку на обожженный участок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5516640"/>
            <a:ext cx="7705800" cy="1008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обширных ожогах пострадавшего необходимо срочно доставить в лечебное учре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28000" y="4508640"/>
            <a:ext cx="720720" cy="57600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172360" y="5805360"/>
            <a:ext cx="685800" cy="49212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6000" y="1700280"/>
            <a:ext cx="685800" cy="49212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2565360"/>
            <a:ext cx="647640" cy="50328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0"/>
          <a:ext cx="9145080" cy="6859080"/>
        </p:xfrm>
        <a:graphic>
          <a:graphicData uri="http://schemas.openxmlformats.org/drawingml/2006/table">
            <a:tbl>
              <a:tblPr/>
              <a:tblGrid>
                <a:gridCol w="539640"/>
                <a:gridCol w="1511280"/>
                <a:gridCol w="7094160"/>
              </a:tblGrid>
              <a:tr h="844560"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енное состояние или трав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ервой помощи пострадавше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1000">
                <a:tc>
                  <a:txBody>
                    <a:bodyPr lIns="90000" rIns="90000" tIns="568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вой и солнечный уда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ести пострадавшего в прохладное место, в тень, уложить на спину, приподнять голову и повернуть её набо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у пострадавшего открылась рвота, ему необходимо повернуть голову на бок, чтобы рвотные массы не попали в дыхательные пу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егнуть одежду или снять её, ослабить пояс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о обтереть полотенцем, смоченным холодной водо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человек в сознании, ему надо давать обильное питьё (чай или слегка подсоленную воду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пострадавший потерял сознание, ему надо осторожно дать понюхать нашатырный спир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оро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реть отмороженную часть тела, растирая её мягкой шерстяной тканью или ладонями до покраснения кожи, обретения ею чувстви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ить пострадавшего горячим чаем, укутать теплой одеждо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тморожении пальцев рук или ног следует проложить между ними марлю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ить пострадавшего в лечебное учреждение, укутать его в тёплые вещ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920"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ог (термический ожо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рать с поверхности тела горячий предме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зать ножницами одежд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жить холод (грелка со льдом, холодной водой) на поврежденную поверхность тела на 10 минут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жить стерильную повязку на обожженную поверхность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пострадавшего в медицинское учреждение при обширных ожог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0"/>
          <a:ext cx="9110160" cy="6859080"/>
        </p:xfrm>
        <a:graphic>
          <a:graphicData uri="http://schemas.openxmlformats.org/drawingml/2006/table">
            <a:tbl>
              <a:tblPr/>
              <a:tblGrid>
                <a:gridCol w="755640"/>
                <a:gridCol w="1813320"/>
                <a:gridCol w="6541200"/>
              </a:tblGrid>
              <a:tr h="121140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енное состояние или трав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вой и солнечный уда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раснение 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головные б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шн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окру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мнение в глаз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вот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л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худшение слух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08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ор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щущения холода и покалывание в области, подвергшейся отморожению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жа краснеет, затем резко бледнеет и теряет чувстви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ог (термический ожо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раснение кож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ё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145080" cy="6859080"/>
        </p:xfrm>
        <a:graphic>
          <a:graphicData uri="http://schemas.openxmlformats.org/drawingml/2006/table">
            <a:tbl>
              <a:tblPr/>
              <a:tblGrid>
                <a:gridCol w="819000"/>
                <a:gridCol w="1881720"/>
                <a:gridCol w="6444360"/>
              </a:tblGrid>
              <a:tr h="110952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енное состояние или трав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52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вой и солнечный уда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lvl="1" marL="4572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вершать в жаркое время дня длительных переход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ать на солнц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88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ор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ьзя при растирании пользоваться снегом, так как микроскопические льдинки снега могут поранить кож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ьзя вскрывать образовавшиеся волдыр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3160"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ог (термический ожо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влять пострадавшего в зоне действия поражающего фактора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ывать прилипшие к ране одежду, посторонние предмет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вать ожоговые волдыр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ывать обгоревшие ткани; наносить на пораженный участок мазь, крем, жир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влять на длительное время (более 1 ч) открытым пораженный участок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60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Palatino Linotype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годня я узнал (а)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выполнял (а)  зада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могу оказать первую помощь  при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могу объяснить, как оказать первую помощь при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четко различаю признаки при 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знаю, что нельзя делать при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r>
              <a:rPr b="1" lang="ru-RU" sz="5400" spc="-1" strike="noStrike">
                <a:solidFill>
                  <a:srgbClr val="2f5897"/>
                </a:solidFill>
                <a:latin typeface="Times New Roman"/>
              </a:rPr>
              <a:t> «Оказание первой помощи при тепловом и солнечном ударе, отморожении и ожоге</a:t>
            </a:r>
            <a:r>
              <a:rPr b="1" lang="en-US" sz="5400" spc="-1" strike="noStrike">
                <a:solidFill>
                  <a:srgbClr val="2f5897"/>
                </a:solidFill>
                <a:latin typeface="Times New Roman"/>
              </a:rPr>
              <a:t> (</a:t>
            </a:r>
            <a:r>
              <a:rPr b="1" lang="ru-RU" sz="5400" spc="-1" strike="noStrike">
                <a:solidFill>
                  <a:srgbClr val="2f5897"/>
                </a:solidFill>
                <a:latin typeface="Times New Roman"/>
              </a:rPr>
              <a:t>термическом ожоге)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00000" y="476280"/>
            <a:ext cx="7777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2f5897"/>
                </a:solidFill>
                <a:latin typeface="Times New Roman"/>
              </a:rPr>
              <a:t>Тепловой</a:t>
            </a: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5400" spc="-1" strike="noStrike">
                <a:solidFill>
                  <a:srgbClr val="2f5897"/>
                </a:solidFill>
                <a:latin typeface="Arial"/>
              </a:rPr>
              <a:t>и с</a:t>
            </a: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олнечный уд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92280"/>
            <a:ext cx="91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пловой уда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болезненное состояние, вызванное перегревом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лнечный уда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состояние, возникающее из-за сильного перегрева головы прямыми солнечными луч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Palatino Linotype"/>
              </a:rPr>
              <a:t>Признаки теплового </a:t>
            </a:r>
            <a:r>
              <a:rPr b="1" lang="ru-RU" sz="4400" spc="-1" strike="noStrike">
                <a:solidFill>
                  <a:srgbClr val="2f5897"/>
                </a:solidFill>
                <a:latin typeface="Arial"/>
              </a:rPr>
              <a:t>и </a:t>
            </a:r>
            <a:r>
              <a:rPr b="1" lang="ru-RU" sz="4400" spc="-1" strike="noStrike">
                <a:solidFill>
                  <a:srgbClr val="2f5897"/>
                </a:solidFill>
                <a:latin typeface="Palatino Linotype"/>
              </a:rPr>
              <a:t>солнечного удар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33720"/>
            <a:ext cx="8893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раснение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льные головные 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шн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ловокру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темнение в глаз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я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худшение слух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916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ервая помощь при тепловом и солнечном уда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нести пострадавшего в прохладное место, в тень, уложить на спину, приподнять голову и повернуть её на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у пострадавшего открылась рвота, ему необходимо повернуть голову на бок, чтобы рвотные массы не попали в дыхательные пу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тегнуть одежду или снять её, ослабить поя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ло обтереть полотенцем, смоченным холодной вод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человек в сознании, ему надо давать обильное питьё (чай или слегка подсоленную вод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пострадавший потерял сознание, ему надо осторожно дать понюхать нашатырный спи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62864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При тепловом и солнечном ударе запрещаетс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37000"/>
            <a:ext cx="914400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е совершать в жаркое время дня длительных переходов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е спать на солн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ts val="5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Профилакти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92280"/>
            <a:ext cx="914400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шения головного убор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ливать голову прохладной вод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5:48:59Z</dcterms:created>
  <dc:creator>Loner-XP</dc:creator>
  <dc:description/>
  <dc:language>en-US</dc:language>
  <cp:lastModifiedBy>User</cp:lastModifiedBy>
  <dcterms:modified xsi:type="dcterms:W3CDTF">2014-04-01T18:37:00Z</dcterms:modified>
  <cp:revision>25</cp:revision>
  <dc:subject/>
  <dc:title>Проверка домашнего задания</dc:title>
</cp:coreProperties>
</file>