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FA45-F8AB-43D1-B8FE-E697AEFA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74FD-040F-4B96-97DF-014AE57C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C761-4870-4081-9087-06CBA538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2E19-8907-42B9-AA7A-AAAEE849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D3AF-A30C-4298-8106-BFDB9B52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F03F-A452-4BC7-BADE-D83CC195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3E47-B75A-4865-832B-C33C0AE6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6E1E-8D34-403E-B73C-3AA6E073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4456-F714-4D96-B80D-2F61C379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820E-83DD-4563-8979-BB4F50F0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F5BA-0639-4C32-BB51-2A89E37E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5A7C-8DF2-43BE-B90E-07A7D30B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FFF9-9F1B-4D55-9244-9B633278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2CDB-6B3D-487D-B04F-67ABC842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796F-38A0-4B7C-B741-B2001BD9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9303-678F-4E26-A951-0B20699B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1CCE-9206-4BE8-8F7F-DA221C3D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1028F-FD8B-4A44-89AF-2CA76B7A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AB9A8-F52F-4808-886A-8E96B577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11310-5CD0-4031-8234-02ACACEF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F0DF7-FC9E-4094-B59F-7AD59622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F0F8F-D9E5-45C7-89E9-D383773C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BE6B-B79C-48F1-AEB7-38532AC6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76C92-EF3E-4768-B005-E356FF27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67EF9-9D00-4B80-B2E7-C3DB971F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8570C-9368-49E0-BA4A-1041A75D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40D76-BF26-4478-9A4C-4AE36D29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5B8F4-9708-4BEB-B9B8-38A6593B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84870-77B1-4B32-962F-5EF148B4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B3A9C-A7F8-4215-9DAF-8912C2BC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FA9F2-644D-478E-A608-E756D167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7DD16-FF38-4F46-AF34-A9D22D16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C8BBB-AFCB-4114-92D4-F5D55293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370F-F4E2-4B7C-921F-AF9B7B67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699CE-D443-43C1-AF5B-B8ECDD84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88368-FDB4-4124-86E0-B27A836F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54F82-DDCB-4DEA-8383-D4CD33B7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8E4D8-EB89-47B3-8120-E94B20B7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20C29-5628-434A-9D8F-A35B5606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2963F-49A6-449C-AD23-2A2CBBBC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923E1-00D7-45A8-80CA-EA9FB803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417C8-1107-49BD-AF83-06932C84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E6092-0F2C-4563-A39C-5E5CA7C6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F1D-B388-4B23-B9F5-118A5983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32F-07BA-4728-B00B-3E3C06AC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9878-1096-4C6D-A8D2-257F11CB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E68A-0894-45E5-9BFC-8B96A183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F3D2-3B75-40B2-A472-65C0F0E8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C52B-3E01-41E6-8ED1-F3D83725F6E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CC8E-AD88-421C-BD09-9DAF565D08A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10AE-3569-4766-BA28-9615090CDF8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97F0-5FD1-423A-81ED-1D8BA19C195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sch273.edusite.ru/images/62286315.png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1255680" y="4164120"/>
            <a:ext cx="8723520" cy="1139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Картинка 5 из 2684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06560" y="0"/>
            <a:ext cx="6337440" cy="44863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684360" y="5877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әлиуллина Фәрдия Рафис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МББУ “Күңгәр урта гомуми белем мәктәбе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"/>
          <p:cNvSpPr/>
          <p:nvPr/>
        </p:nvSpPr>
        <p:spPr>
          <a:xfrm rot="21312600">
            <a:off x="5097600" y="2171160"/>
            <a:ext cx="944640" cy="58068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600" spc="-1" strike="noStrike">
                <a:solidFill>
                  <a:srgbClr val="ffff00"/>
                </a:solidFill>
                <a:latin typeface="Constantia"/>
              </a:rPr>
              <a:t>мәктә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1" descr=""/>
          <p:cNvPicPr/>
          <p:nvPr/>
        </p:nvPicPr>
        <p:blipFill>
          <a:blip r:embed="rId1"/>
          <a:stretch/>
        </p:blipFill>
        <p:spPr>
          <a:xfrm>
            <a:off x="85680" y="268200"/>
            <a:ext cx="86076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TextBox 2"/>
          <p:cNvGrpSpPr/>
          <p:nvPr/>
        </p:nvGrpSpPr>
        <p:grpSpPr>
          <a:xfrm>
            <a:off x="5956200" y="49320"/>
            <a:ext cx="1187640" cy="3730680"/>
            <a:chOff x="5956200" y="49320"/>
            <a:chExt cx="1187640" cy="3730680"/>
          </a:xfrm>
        </p:grpSpPr>
        <p:pic>
          <p:nvPicPr>
            <p:cNvPr id="201" name="TextBox 2" descr=""/>
            <p:cNvPicPr/>
            <p:nvPr/>
          </p:nvPicPr>
          <p:blipFill>
            <a:blip r:embed="rId1"/>
            <a:stretch/>
          </p:blipFill>
          <p:spPr>
            <a:xfrm>
              <a:off x="5956200" y="49320"/>
              <a:ext cx="1187640" cy="37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227640" y="189000"/>
              <a:ext cx="64296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е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TextBox 3"/>
          <p:cNvGrpSpPr/>
          <p:nvPr/>
        </p:nvGrpSpPr>
        <p:grpSpPr>
          <a:xfrm>
            <a:off x="7143840" y="2925720"/>
            <a:ext cx="1244520" cy="3730680"/>
            <a:chOff x="7143840" y="2925720"/>
            <a:chExt cx="1244520" cy="3730680"/>
          </a:xfrm>
        </p:grpSpPr>
        <p:pic>
          <p:nvPicPr>
            <p:cNvPr id="204" name="TextBox 3" descr=""/>
            <p:cNvPicPr/>
            <p:nvPr/>
          </p:nvPicPr>
          <p:blipFill>
            <a:blip r:embed="rId2"/>
            <a:stretch/>
          </p:blipFill>
          <p:spPr>
            <a:xfrm>
              <a:off x="7143840" y="2925720"/>
              <a:ext cx="1244520" cy="37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7451640" y="3068640"/>
              <a:ext cx="64296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утыр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" name="Picture 10" descr="http://fs.nashaucheba.ru/tw_files2/urls_3/1362/d-1361059/1361059_html_m61ae52bb.jpg"/>
          <p:cNvPicPr/>
          <p:nvPr/>
        </p:nvPicPr>
        <p:blipFill>
          <a:blip r:embed="rId3"/>
          <a:stretch/>
        </p:blipFill>
        <p:spPr>
          <a:xfrm>
            <a:off x="0" y="0"/>
            <a:ext cx="453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463680" y="-6480"/>
            <a:ext cx="8315280" cy="307836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7" descr="cdolls118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3"/>
          <p:cNvSpPr/>
          <p:nvPr/>
        </p:nvSpPr>
        <p:spPr>
          <a:xfrm>
            <a:off x="2000160" y="357120"/>
            <a:ext cx="564372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герменче апрел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Ә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Әминә, Әсма, Әнәс мәктәпкә барал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450720" y="706320"/>
            <a:ext cx="83217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2" descr="http://tatarschool.ru/mmedia/tt4/public/dm/85.png"/>
          <p:cNvPicPr/>
          <p:nvPr/>
        </p:nvPicPr>
        <p:blipFill>
          <a:blip r:embed="rId1"/>
          <a:stretch/>
        </p:blipFill>
        <p:spPr>
          <a:xfrm>
            <a:off x="47520" y="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1143000" y="129528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7200" spc="-1" strike="noStrike">
                <a:solidFill>
                  <a:srgbClr val="000000"/>
                </a:solidFill>
                <a:latin typeface="Tahoma"/>
              </a:rPr>
              <a:t>Кеше кешегә - дус, иптәш һәм туган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"/>
          <p:cNvSpPr/>
          <p:nvPr/>
        </p:nvSpPr>
        <p:spPr>
          <a:xfrm>
            <a:off x="1295280" y="2438280"/>
            <a:ext cx="2514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3429000" y="3581280"/>
            <a:ext cx="2971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3429000" y="3733920"/>
            <a:ext cx="2971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3348000" y="4581360"/>
            <a:ext cx="2514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3348000" y="4724280"/>
            <a:ext cx="2514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1143000" y="3581280"/>
            <a:ext cx="16765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1143000" y="3733920"/>
            <a:ext cx="16765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8T11:41:07Z</dcterms:created>
  <dc:creator>Учитель</dc:creator>
  <dc:description/>
  <dc:language>en-US</dc:language>
  <cp:lastModifiedBy>D</cp:lastModifiedBy>
  <dcterms:modified xsi:type="dcterms:W3CDTF">2020-04-12T10:58:34Z</dcterms:modified>
  <cp:revision>32</cp:revision>
  <dc:subject/>
  <dc:title>җыйнак җөмләләр</dc:title>
</cp:coreProperties>
</file>