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A5B-5683-40ED-956E-73D18318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8E0-371F-40EF-85AB-B2621742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96B-2574-4837-8CFB-80EAB57C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5E4-2180-45B2-A531-AFBFED9C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3E3-E156-4FEA-8442-2D2EB49C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427-54AC-4919-B92A-DF31A60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199-C9CA-4A6F-BAF1-3EB7E1BB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5FB-9577-451B-AAA4-42097104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A7B-8331-436A-8248-54C36E0F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9E1-7D71-4283-B8BE-00129F22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1FA-26E3-44BD-B1D7-72042153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A4C-7E53-475B-9541-59D357D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09B5-D5BB-47ED-9412-3FDCC0B32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abulaGospelsFolio14vPentecost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womanfamily.ru/prazdnik_i_prazdnovanie_pashi_vse_samoe_interesnoe_o_svetlom_pravoslavnom_prazdnike_pasha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zazell.com/wp-content/uploads/2011/05/troica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ravmir.ru/wp-content/uploads/2011/06/June-13_Tolmachi-1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ravmir.ru/wp-content/uploads/2011/06/June-13_Tolmachi-1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avito.ru/items/moskva_mebel_i_interer_raspisnoe_derevyannoe_pashalnoe_yajtso_65222430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google.ru/imgres?q=&#1057;&#1090;&#1072;&#1088;&#1080;&#1085;&#1085;&#1099;&#1077;+&#1087;&#1086;&#1076;&#1077;&#1083;&#1082;&#1080;+&#1080;&#1079;+&#1076;&#1077;&#1088;&#1077;&#1074;&#1072;&amp;start=184&amp;hl=ru&amp;newwindow=1&amp;sa=X&amp;rlz=1T4ADFA_ruRU472RU473&amp;biw=1024&amp;bih=540&amp;tbm=isch&amp;prmd=imvns&amp;tbnid=KFbOM36vS8jSAM:&amp;imgrefurl=http://prodam.slando.chel.ru/chelyabinsk/prodam-starinnyy-maket-korablya-ruchnoy-raboty_P_59955927.html&amp;docid=4YbarXkfImNhVM&amp;imgurl=http://4.static.slando.com/photos/live/27/prodam-starinnyy-maket-korablya-ruchnoy-raboty_59955927_2_F.jpg&amp;w=400&amp;h=379&amp;ei=TcRlT4GdG6KJ4gSR5JWbCg&amp;zoom=1&amp;iact=rc&amp;dur=500&amp;sig=100041110567866984507&amp;page=15&amp;tbnh=156&amp;tbnw=165&amp;ndsp=13&amp;ved=1t:429,r:6,s:184&amp;tx=103&amp;ty=66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google.ru/imgres?q=&#1057;&#1090;&#1072;&#1088;&#1080;&#1085;&#1085;&#1099;&#1077;+&#1087;&#1086;&#1076;&#1077;&#1083;&#1082;&#1080;+&#1080;&#1079;+&#1076;&#1077;&#1088;&#1077;&#1074;&#1072;&amp;start=144&amp;hl=ru&amp;newwindow=1&amp;sa=X&amp;rlz=1T4ADFA_ruRU472RU473&amp;biw=1024&amp;bih=540&amp;tbm=isch&amp;prmd=imvns&amp;tbnid=3dNaASUzmiA5wM:&amp;imgrefurl=http://sdelaj.com/made_of_wood/sawing/page/9/&amp;docid=i32itl8WUIknVM&amp;imgurl=http://sdelaj.com/uploads/posts/2010-12/www.sdelaj.com_69_shelf_15.jpg&amp;w=336&amp;h=360&amp;ei=TcRlT4GdG6KJ4gSR5JWbCg&amp;zoom=1&amp;iact=rc&amp;dur=62&amp;sig=100041110567866984507&amp;page=12&amp;tbnh=166&amp;tbnw=155&amp;ndsp=13&amp;ved=1t:429,r:2,s:144&amp;tx=92&amp;ty=77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www.google.ru/imgres?q=&#1057;&#1090;&#1072;&#1088;&#1080;&#1085;&#1085;&#1099;&#1077;+&#1087;&#1086;&#1076;&#1077;&#1083;&#1082;&#1080;+&#1080;&#1079;+&#1076;&#1077;&#1088;&#1077;&#1074;&#1072;&amp;start=91&amp;hl=ru&amp;newwindow=1&amp;sa=X&amp;rlz=1T4ADFA_ruRU472RU473&amp;biw=1024&amp;bih=540&amp;tbm=isch&amp;prmd=imvns&amp;tbnid=pOvlISZbEI12HM:&amp;imgrefurl=http://sdelaj.com/made_of_wood/page/22/&amp;docid=oCxRkbA_4GWg5M&amp;imgurl=http://sdelaj.com/uploads/posts/2010-08/www.sdelaj.com_15shkatulka_m.jpg&amp;w=838&amp;h=900&amp;ei=TcRlT4GdG6KJ4gSR5JWbCg&amp;zoom=1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www.google.ru/imgres?q=&#1057;&#1090;&#1072;&#1088;&#1080;&#1085;&#1085;&#1099;&#1077;+&#1087;&#1086;&#1076;&#1077;&#1083;&#1082;&#1080;+&#1080;&#1079;+&#1076;&#1077;&#1088;&#1077;&#1074;&#1072;&amp;start=91&amp;hl=ru&amp;newwindow=1&amp;sa=X&amp;rlz=1T4ADFA_ruRU472RU473&amp;biw=1024&amp;bih=540&amp;tbm=isch&amp;prmd=imvns&amp;tbnid=oIYckh8r3lB8bM:&amp;imgrefurl=http://lastwarez.ru/grafika/oboi/5229-podelki-iz-dereva.html&amp;docid=WE10dqXdjZgFfM&amp;imgurl=http://www.lastwarez.ru/uploads/posts/2009-02/thumbs/1235326724_1233057468_pic01018.jpg&amp;w=450&amp;h=446&amp;ei=TcRlT4GdG6KJ4gSR5JWbCg&amp;zoom=1" TargetMode="External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616360" cy="4226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476360" y="4784760"/>
            <a:ext cx="6840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м утром, когда природа молода и свежа, отмечается светлый, счастливый праздник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ОИ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ньше на Руси празднование Троицы в народе называ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лёными Свят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елёной неделей, цветочной Пасхой. Поч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1258920" y="558972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Картинка к странице"/>
          <p:cNvPicPr/>
          <p:nvPr/>
        </p:nvPicPr>
        <p:blipFill>
          <a:blip r:embed="rId1"/>
          <a:stretch/>
        </p:blipFill>
        <p:spPr>
          <a:xfrm>
            <a:off x="2124000" y="476280"/>
            <a:ext cx="5616720" cy="4421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1619280" y="530064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к солнечных лучей льётся в июне на землю, наполняет живительной силой растения. Из них плели девушки венки, подобные радужному солнечному к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6804000" cy="5089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788000" y="765000"/>
            <a:ext cx="456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че Божья Великая Троиц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дом посетила с ут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х, сегодня по миру, как звоня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ливчаты колоко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859280" y="2565360"/>
            <a:ext cx="456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ливается праздник божествен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х Святой побеждает неверие,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х, сегодня величием торжествен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ршается в храмах мол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019280" y="4869000"/>
            <a:ext cx="184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мара Сальн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-Великой-Пасхой-всех333333-Праздничный-звон-колоколов(muzofon.com).mp3" descr=""/>
          <p:cNvPicPr/>
          <p:nvPr/>
        </p:nvPicPr>
        <p:blipFill>
          <a:blip r:embed="rId2"/>
          <a:stretch/>
        </p:blipFill>
        <p:spPr>
          <a:xfrm>
            <a:off x="370836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46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1" descr="220px-RabulaGospelsFolio14vPenteco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981000"/>
            <a:ext cx="3529080" cy="4753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5"/>
          <p:cNvSpPr/>
          <p:nvPr/>
        </p:nvSpPr>
        <p:spPr>
          <a:xfrm>
            <a:off x="4572000" y="907920"/>
            <a:ext cx="39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авославный праздн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вятой Троицы входит в 12 самых главных христианских празд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6"/>
          <p:cNvSpPr/>
          <p:nvPr/>
        </p:nvSpPr>
        <p:spPr>
          <a:xfrm>
            <a:off x="4716360" y="2997360"/>
            <a:ext cx="41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здник Святой Тро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ч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50-тый день после Пасхи, поэтому другое ее название – Пятидесятн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roica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45040" cy="5832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572000" y="260280"/>
            <a:ext cx="4572000" cy="64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иконе изображены три ангела. Они спустились на землю и беседуют между собой, как помочь Руси преодолеть размеры и беды. Они беседуют за столом, где на белой, как слоновья кость, столешнице стоит одна – единственная чаша. В Древней Руси чаша – частица означала будущую жизнь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Испить чашу – говорили в старину и говорят сегодня. И в старину, и сегодня это понимается так : «Пройти тяжелые испытания»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а раннего лета светится в красках « Троицы». Васильки, незабудки – это синий план среднего ангела. Серебристой зеленью светится рожь – это одежда левого анг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ылья ангелов  соприкасаются друг с другом, сходятся как заря  ранним летом -  вечерняя с утренн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June-13_Tolmachi-16-580x3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8137440" cy="4753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971640" y="551664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здник Троицы отмечается в храмах божьих, церкв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 храм украшается березовыми веточками, цветами. Перед иконой «Троица» зажигают св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June-13_Tolmachi-13-580x3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7920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ig-picture" descr="Сувенир-посуда из Дерева расписная"/>
          <p:cNvPicPr/>
          <p:nvPr/>
        </p:nvPicPr>
        <p:blipFill>
          <a:blip r:embed="rId1"/>
          <a:stretch/>
        </p:blipFill>
        <p:spPr>
          <a:xfrm>
            <a:off x="611280" y="1268280"/>
            <a:ext cx="2562120" cy="208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Расписное деревянное пасхальное яйцо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0000" y="1341360"/>
            <a:ext cx="183672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Nd9GcTdDMYlwGdyiNXR6HXIZPzzfvYjUgKtJb2EyBhVxZjtgd0tcuUAzvgpnY6wD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052640"/>
            <a:ext cx="2376720" cy="224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ANd9GcTm63tHQpcB2z0RlWLDMkWYIta5OnPo-LlAG5HtruISHiRZFAUk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71640" y="3716280"/>
            <a:ext cx="208440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rg_hi" descr="ANd9GcQoigBU6cZUhDrX3qhK72Uno0w17prnV5kVwKIY_5kZ9W30pAQiA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00720" y="3429000"/>
            <a:ext cx="2067120" cy="2219400"/>
          </a:xfrm>
          <a:prstGeom prst="rect">
            <a:avLst/>
          </a:prstGeom>
          <a:ln w="0">
            <a:noFill/>
          </a:ln>
        </p:spPr>
      </p:pic>
      <p:pic>
        <p:nvPicPr>
          <p:cNvPr id="61" name="rg_hi" descr="ANd9GcTlyEeTqVDSdR71qeLldnFvgYq8n-2-jPXHqSn7zExPjo_sWEkK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08360" y="429264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1763640" y="476280"/>
            <a:ext cx="324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268360" y="26028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елки из дер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0_50f11_a57da74c_L"/>
          <p:cNvPicPr/>
          <p:nvPr/>
        </p:nvPicPr>
        <p:blipFill>
          <a:blip r:embed="rId1"/>
          <a:stretch/>
        </p:blipFill>
        <p:spPr>
          <a:xfrm>
            <a:off x="684360" y="692280"/>
            <a:ext cx="3708360" cy="5329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716360" y="1268280"/>
            <a:ext cx="410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ёзка, берёзка, завивайся, кудря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тебе девушки приш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тебе красные приш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лентами алыми, с пирогами горячи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еснями взрослыми, с плясками весё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и, берёзонька, наши подар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 нар песня Берёзка, завивайся.mp3" descr=""/>
          <p:cNvPicPr/>
          <p:nvPr/>
        </p:nvPicPr>
        <p:blipFill>
          <a:blip r:embed="rId2"/>
          <a:stretch/>
        </p:blipFill>
        <p:spPr>
          <a:xfrm>
            <a:off x="4788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945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ANd9GcTGGP3oioXBqG2L3S5Ip7ucUAfaUPng8d268PHkjUnlyEzSnqXRQw"/>
          <p:cNvPicPr/>
          <p:nvPr/>
        </p:nvPicPr>
        <p:blipFill>
          <a:blip r:embed="rId1"/>
          <a:stretch/>
        </p:blipFill>
        <p:spPr>
          <a:xfrm>
            <a:off x="468360" y="1125360"/>
            <a:ext cx="4824360" cy="3562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472000" y="126828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шёл колос на ни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белую пше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дится на л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жь с овсом, со дикуш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пшенице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258920" y="5084640"/>
            <a:ext cx="70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ладимирской губернии Троицу заканчивали игрой «Колосо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0:05:53Z</dcterms:created>
  <dc:creator>Марья Сергеевна</dc:creator>
  <dc:description/>
  <dc:language>en-US</dc:language>
  <cp:lastModifiedBy>user</cp:lastModifiedBy>
  <dcterms:modified xsi:type="dcterms:W3CDTF">2019-09-10T04:11:43Z</dcterms:modified>
  <cp:revision>18</cp:revision>
  <dc:subject/>
  <dc:title>Слайд 1</dc:title>
</cp:coreProperties>
</file>